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2A789-809C-434F-B2EE-A874F2EF51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C893B-F0E2-46E3-9786-B58BE837E1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76641-590D-41CE-A76C-41BBBCB291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45244-30A1-483F-A191-5ECEA6639A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6B349-02E4-4FB2-ADEC-CDD49B3ED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D238C-110D-4B61-BA68-780591E7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80BBE-1DD5-472E-A8B6-92CFC21D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32EE0-43F3-43FD-B1DC-F2E73D88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7DE7C2-4FEB-4AC5-BD7E-A1586E9E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2BABE-8050-4033-B244-35CDB962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92CF8-D19A-405D-ADE7-71DED0FC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8FF40-31D1-4142-9F32-C054B48AC9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E5FA0-BD13-4783-AC99-316E5EA1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8A844-EB96-467B-B095-DC90ACD8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02E44-CE1A-4FEA-8711-831B4155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487AB-456C-40C0-9095-F2AD90F75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BACF58-213C-4883-A540-9BFE643CA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410476-47C2-4041-97A2-25B2CE155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58C251-096D-4445-943A-0790582B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58BEB5-860E-473B-B3D7-17A6905B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B7C8DD-9C7D-4EC2-8B71-45A1223A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BBD56A-C209-416B-A60F-076FCD88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3AB1F-4149-455B-9618-5FFCC4FADA7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F00018-D586-4F87-A2FD-E656F1AC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B873BA-E110-4048-B08A-70DC6A3B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147845-B0B6-4C6A-BE20-33532D34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844969-D572-44DE-930E-E4318EDE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229FE1-2379-4225-AA60-F83E4BB3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FB1477-5DA9-4AF6-8957-2C7BA6AAF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5AED80-159D-474B-B4D2-F67D62A23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8D428-79BB-4DF0-8BE4-0130721321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FC1B9-C27B-457A-80D0-402EDADD08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9AFDB-99C1-4D56-9F26-E1FC9C3458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C724A-451C-42CD-B310-6E7759367C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5347A-843D-41AE-A3D8-FC95E1E762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88E55-6A51-4AFA-BBF6-1AEC61817D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39640" y="1709280"/>
            <a:ext cx="72723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29200" y="6237360"/>
            <a:ext cx="57636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9A67-E47B-4029-A33C-9169DCF99A18}" type="slidenum">
              <a:rPr b="1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3A2F-90EA-45FE-9C3B-1053F4605C5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C572-9B5D-4A60-A540-F65E5220D45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шение задач с помощью уравнений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Задача 1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тояние между городами скорый поезд, идущий со скоростью  90 км/ч, проходит на 1,5 ч быстрее товарного, который идет со скоростью 60 км/ч. Каково расстояние между городами? Составить уравн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ча 2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нику и мастеру дано задание изготовить одинаковое количество деталей. Мастер, изготовляя 18 деталей в час, затратил на выполнение задания на 3 ч меньше, чем ученик, который изготавливал лишь 12 деталей в час. Сколько деталей было заказано? Составить уравн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ча 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наменатель дроби на 2 больше числителя. Если числитель увеличить на 15, а знаменатель – на 3, то получится число       .   Найдите дробь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9"/>
              <p:cNvSpPr txBox="1"/>
              <p:nvPr/>
            </p:nvSpPr>
            <p:spPr>
              <a:xfrm>
                <a:off x="6603840" y="2630520"/>
                <a:ext cx="127080" cy="1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Rectangle 5"/>
          <p:cNvSpPr/>
          <p:nvPr/>
        </p:nvSpPr>
        <p:spPr>
          <a:xfrm>
            <a:off x="1080" y="-10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66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4"/>
              <p:cNvSpPr txBox="1"/>
              <p:nvPr/>
            </p:nvSpPr>
            <p:spPr>
              <a:xfrm>
                <a:off x="4067280" y="2421000"/>
                <a:ext cx="2696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Rectangle 6"/>
          <p:cNvSpPr/>
          <p:nvPr/>
        </p:nvSpPr>
        <p:spPr>
          <a:xfrm>
            <a:off x="720" y="6948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66666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Задача 4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втобус-экспресс отправился от вокзала в аэропорт, находящийся на расстоянии 60км от вокзала. Пассажир, опоздавший на 5 минут на автобус, решил добраться до аэропорта на такси. Скорость такси на 10км/ч больше скорости автобуса. С какой скоростью ехал автобус, если он приехал в аэропорт одновременно с такс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Задача 5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вывоза песка из карьера в автопарке было заказано несколько одинаковых грузовых автомобилей. Руководство автопарка решило, что на каждую машину можно погрузить на одну тонну груза больше, чем рассчитывали, и поэтому прислало на 4 машины меньше. В итоге все 80 тонн песка были вывезены. Сколько машин было заказано в автопарк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33"/>
                </a:solidFill>
                <a:latin typeface="Garamond"/>
              </a:rPr>
              <a:t>Самостоятельная работа</a:t>
            </a:r>
            <a:br>
              <a:rPr sz="4400"/>
            </a:b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50920" y="1125360"/>
            <a:ext cx="43322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к решил прочитать книгу, содержащую 480 страниц, за несколько дней. Но каждый день он читал на 20 страниц больше, чем предполагал, и поэтому прочитал книгу на 4 дня раньше. За сколько дней была прочитана книг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788000" y="1125360"/>
            <a:ext cx="4356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лоход прошёл 18 км по озеру и 40 км по течению реки за 2 ч. Найдите скорость теплохода при движении по озеру, если скорость течения реки равна 3 км/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18:30:46Z</dcterms:created>
  <dc:creator>MAG</dc:creator>
  <dc:description/>
  <dc:language>en-US</dc:language>
  <cp:lastModifiedBy>Татьянка</cp:lastModifiedBy>
  <dcterms:modified xsi:type="dcterms:W3CDTF">2012-12-08T16:05:57Z</dcterms:modified>
  <cp:revision>27</cp:revision>
  <dc:subject/>
  <dc:title>Генри Форд «О подготовке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3771049</vt:lpwstr>
  </property>
</Properties>
</file>