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wmf" ContentType="image/x-wmf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DA0-E76D-432C-863D-DFF1887A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361-6E5D-4BAE-A176-DAFFE5A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902-D557-4298-B02E-5052BD59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0B9-FB29-4FDC-B10C-93324F9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218-E0F3-477D-BB93-000E8FA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95D-41F3-4C0A-A89E-5DCF1528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C5B-52D5-45CB-A8F7-EC29DD7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A05-72F5-42F9-9B04-1314106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A98-B27F-4700-BF46-C784649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5E7-0A88-49D2-A78E-54073B2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224-C619-4DA7-BBF8-D6CC0C7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6CA-2C2D-499A-BB5C-38E7C27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8BB-57CF-48B8-B33B-B9FDAFE7C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957240" y="328680"/>
            <a:ext cx="7369200" cy="3176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:\Users\Оксана\Desktop\x_d432f081.jpg"/>
          <p:cNvPicPr/>
          <p:nvPr/>
        </p:nvPicPr>
        <p:blipFill>
          <a:blip r:embed="rId2"/>
          <a:stretch/>
        </p:blipFill>
        <p:spPr>
          <a:xfrm>
            <a:off x="2556000" y="2852640"/>
            <a:ext cx="32781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632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 возрасте 6-7 лет суточная                  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норма сна составляет 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11 часов, в 8-10 лет – 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10 ча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Полноценный сон является одним из важнейших условий высокой умственной работоспособности. 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Правильная организация умственного труда (очередность и время приготовления домашних заданий, физкультурные паузы, правильная посадка и освещение и др. предупреждает возникновение переутомления и его отрицатель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666"/>
          <p:cNvPicPr/>
          <p:nvPr/>
        </p:nvPicPr>
        <p:blipFill>
          <a:blip r:embed="rId1"/>
          <a:stretch/>
        </p:blipFill>
        <p:spPr>
          <a:xfrm>
            <a:off x="324000" y="1413000"/>
            <a:ext cx="3706560" cy="46814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46" name="WordArt 4"/>
          <p:cNvSpPr txBox="1"/>
          <p:nvPr/>
        </p:nvSpPr>
        <p:spPr>
          <a:xfrm>
            <a:off x="1187280" y="549360"/>
            <a:ext cx="3457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ядка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6" descr="D:\фотки\Выпуск 2009 - 2013\На уроке\Изображение 596.jpg"/>
          <p:cNvPicPr/>
          <p:nvPr/>
        </p:nvPicPr>
        <p:blipFill>
          <a:blip r:embed="rId2"/>
          <a:stretch/>
        </p:blipFill>
        <p:spPr>
          <a:xfrm>
            <a:off x="5651640" y="304920"/>
            <a:ext cx="3097080" cy="2322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48" name="Picture 7" descr="C:\Users\Оксана\Desktop\Рисунок1.jpg"/>
          <p:cNvPicPr/>
          <p:nvPr/>
        </p:nvPicPr>
        <p:blipFill>
          <a:blip r:embed="rId3"/>
          <a:stretch/>
        </p:blipFill>
        <p:spPr>
          <a:xfrm>
            <a:off x="5364000" y="4149720"/>
            <a:ext cx="3456000" cy="24462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49" name="Picture 8" descr="C:\Users\Оксана\Desktop\Рисунок2.jpg"/>
          <p:cNvPicPr/>
          <p:nvPr/>
        </p:nvPicPr>
        <p:blipFill>
          <a:blip r:embed="rId4"/>
          <a:stretch/>
        </p:blipFill>
        <p:spPr>
          <a:xfrm>
            <a:off x="4284720" y="2205000"/>
            <a:ext cx="3133800" cy="2349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ig35372"/>
          <p:cNvPicPr/>
          <p:nvPr/>
        </p:nvPicPr>
        <p:blipFill>
          <a:blip r:embed="rId1"/>
          <a:stretch/>
        </p:blipFill>
        <p:spPr>
          <a:xfrm>
            <a:off x="900000" y="476280"/>
            <a:ext cx="3571920" cy="4762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1" name="Picture 5" descr="Big35378"/>
          <p:cNvPicPr/>
          <p:nvPr/>
        </p:nvPicPr>
        <p:blipFill>
          <a:blip r:embed="rId2"/>
          <a:stretch/>
        </p:blipFill>
        <p:spPr>
          <a:xfrm>
            <a:off x="5796000" y="333360"/>
            <a:ext cx="2609640" cy="4762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5373360"/>
            <a:ext cx="7489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двигательной активности первоклассника составляет 40% от принятой нормы. Для компенсации потребности в движении ребенок должен ежедневно двигаться не мен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бязательно – прогулки на свежем воздух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:\фотки\Выпуск 2009 - 2013\Динамическая пауза\Изображение 618.jpg"/>
          <p:cNvPicPr/>
          <p:nvPr/>
        </p:nvPicPr>
        <p:blipFill>
          <a:blip r:embed="rId1"/>
          <a:stretch/>
        </p:blipFill>
        <p:spPr>
          <a:xfrm>
            <a:off x="4788000" y="1628640"/>
            <a:ext cx="4043160" cy="303228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55" name="Picture 6" descr="D:\фотки\Выпуск 2009 - 2013\Динамическая пауза\Изображение 607.jpg"/>
          <p:cNvPicPr/>
          <p:nvPr/>
        </p:nvPicPr>
        <p:blipFill>
          <a:blip r:embed="rId2"/>
          <a:stretch/>
        </p:blipFill>
        <p:spPr>
          <a:xfrm>
            <a:off x="755640" y="3141720"/>
            <a:ext cx="4403880" cy="3301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9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сли ваш ребенок двигательно малоактивен, не оставляйте это без внимания. Таким детям необходим ваш личный 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заботьтесь о том, чтобы в вашем доме был элементарный спортивный инвента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обруч"/>
          <p:cNvPicPr/>
          <p:nvPr/>
        </p:nvPicPr>
        <p:blipFill>
          <a:blip r:embed="rId1"/>
          <a:stretch/>
        </p:blipFill>
        <p:spPr>
          <a:xfrm>
            <a:off x="324000" y="501336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гантели"/>
          <p:cNvPicPr/>
          <p:nvPr/>
        </p:nvPicPr>
        <p:blipFill>
          <a:blip r:embed="rId2"/>
          <a:stretch/>
        </p:blipFill>
        <p:spPr>
          <a:xfrm>
            <a:off x="3419640" y="5157720"/>
            <a:ext cx="1650960" cy="132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мяч"/>
          <p:cNvPicPr/>
          <p:nvPr/>
        </p:nvPicPr>
        <p:blipFill>
          <a:blip r:embed="rId3"/>
          <a:stretch/>
        </p:blipFill>
        <p:spPr>
          <a:xfrm>
            <a:off x="6156360" y="4508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прыг"/>
          <p:cNvPicPr/>
          <p:nvPr/>
        </p:nvPicPr>
        <p:blipFill>
          <a:blip r:embed="rId4"/>
          <a:stretch/>
        </p:blipFill>
        <p:spPr>
          <a:xfrm>
            <a:off x="3635280" y="3716280"/>
            <a:ext cx="18543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 правильно проводить оздоровительные минутки при выполнении домашних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здоровительная минутка проводится через каждые 10-15 минут выполнения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продолжительность оздоровительной минутки не более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еред этим ребенок выполнял письменное задание. То необходимо сделать упражнения для рук: сжимание и разжимание пальцев, потряхивание кистя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длительного сидения ребенку необходимо делать потягивания, приседания, повороты туловища в раз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Будить ребенка в последний момент перед уходом в школу, объясняя это себе и другим большой любовью к н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Кормить ребенка перед школой и после сухой пищей, бутербродами, объясняя это себе и другим, что ребенку такая еда нравит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Требовать от ребенка только отличных и хороших результатов в школе, если он к ним не го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Сразу после школьных уроков выполнять домашнее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Лишать детей игр на свежем воздухе из-за плохих отмет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Заставлять ребенка спать днем после уроков и лишать его этого пра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Кричать на ребенка вообще и во время выполнения домашнего зад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Заставлять многократно переписывать в тетрадь из чернов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Не делать оздоровительных пауз во время выполнения домашних зад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Ждать папу и маму, чтобы начать выполнять домашнее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Сидеть за компьютером и телевизором более 40-45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Смотреть перед сном страшные фильмы и играть в шумные иг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Ругать ребенка перед сн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Не проявлять двигательной активности в свободное от уроков вре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Разговаривать с ребенком о его школьных проблемах зло и назидате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Не прощать ошибки и неудач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68360" y="404640"/>
            <a:ext cx="82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тельские "нельзя" при соблюдении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а дня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23:04Z</dcterms:created>
  <dc:creator>№1</dc:creator>
  <dc:description/>
  <dc:language>en-US</dc:language>
  <cp:lastModifiedBy>Оксана</cp:lastModifiedBy>
  <dcterms:modified xsi:type="dcterms:W3CDTF">2012-12-08T09:35:06Z</dcterms:modified>
  <cp:revision>10</cp:revision>
  <dc:subject/>
  <dc:title>Слайд 1</dc:title>
</cp:coreProperties>
</file>