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56627-F97C-4AD6-A628-A946A15B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58D15-CE20-4474-BC30-ACD7C089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E50C0-ACD4-4DDD-9258-DC4D5F74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B0FFC-0B73-4229-9BB8-BC8BEEC9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78B5-79A1-4942-AEBB-1DE7E531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3DE1-4C60-4340-9919-2160981E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28B5-C54C-4AA4-8A60-7CD95FF3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1645-1B09-4E79-9E4A-0B615B48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9000-CD98-407C-89B7-3CACE246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444E-8D12-467C-B5C1-52F28C15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552A-0EA9-4A4E-B3EF-F79896AA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0C18-B3DE-41CA-BF45-C7AF3DE0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F085-4C9E-4B0A-A517-11E5AEA4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B24C-4F89-4AD7-8C14-20F1AB0D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E5D3-103D-4291-8C54-26CCBDAD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9221-3B99-420F-A64B-F831538F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4692-C4F1-4A6A-81D0-1C020B24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23298-8CEE-45E6-8923-59774755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B4F6A-1900-4023-88ED-8AE78029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E9D64-8256-4A66-A103-D811748C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ACCCC-7453-4987-B8DD-1AF5CC71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66F65-541F-4481-AC8C-977619CD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28FE-2238-460D-837E-6856392A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67310-8F00-4054-9565-60222296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736B-CC61-40AB-8BE5-56E8AC3E1E60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33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78EE-7EA7-4E54-AF02-C02DE7D36AA9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ff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subscribe.ru/" TargetMode="External"/><Relationship Id="rId2" Type="http://schemas.openxmlformats.org/officeDocument/2006/relationships/hyperlink" Target="http://www.vashsad.ua/" TargetMode="External"/><Relationship Id="rId3" Type="http://schemas.openxmlformats.org/officeDocument/2006/relationships/hyperlink" Target="http://www.vashsad.ua/" TargetMode="External"/><Relationship Id="rId4" Type="http://schemas.openxmlformats.org/officeDocument/2006/relationships/hyperlink" Target="http://www.vashsad.ua/" TargetMode="External"/><Relationship Id="rId5" Type="http://schemas.openxmlformats.org/officeDocument/2006/relationships/hyperlink" Target="http://www.yxdaha.ru/" TargetMode="External"/><Relationship Id="rId6" Type="http://schemas.openxmlformats.org/officeDocument/2006/relationships/hyperlink" Target="http://cvetu.com.ua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Садовые цвет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ыполнил: ученик 4 «а» класса Ягин Антон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Руководитель: Осипкина Тамара Николаевн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55964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2136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62012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ХОД ЗА САДОВЫМИ ЦВЕТАМИ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лив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Полив цветов"/>
          <p:cNvPicPr/>
          <p:nvPr/>
        </p:nvPicPr>
        <p:blipFill>
          <a:blip r:embed="rId1"/>
          <a:stretch/>
        </p:blipFill>
        <p:spPr>
          <a:xfrm>
            <a:off x="468360" y="1916280"/>
            <a:ext cx="2857320" cy="1666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26920" y="3792960"/>
            <a:ext cx="831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здорового роста и развития необходим регулярны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ив цвет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Избыточный, а также недостаточный полив одинаково вредны  растени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крет правильного ухода за цветами заключается в том, чтобы предоставить им то количество воды, которое необходимо. При этом надо учиты­вать возраст растений. При длительном пересыхании почвы молодые корешки отмирают, от обезвоживания страдают  нижние побеги, листья и цветки. В случае излишнего полива цветов, капилляры почвы заполняются водой,  прекращается или затрудняется поступление воздуха к корням. Это приводит к закисанию почвы, что ведет к гниению корневой системы растения и, как следствие, к его гиб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дкормка растений удобрениям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бы растение хорошо росло, через 2—3 месяца после пересадки его начинают подкармливать, чаще в период с весны. Как правило, до подкормки растения поливают, затем дают слабый раствор удобрительной смеси: 1 —1,5 г полных минеральных удобрений на 1 л воды. В цветоводческих хозяйствах для подкормки часто используют различные местные органические удобрения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ПОЛКА РАСТЕНИЙ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 одному из основных видов ухода за садовыми цветами относится освобождение их от сорня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ИРОВАНИЕ РАСТЕН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акже необходимо придавать форму садовым цветущим растениям, особенно кустарник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лияние цветов на настроение челове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 когда-нибудь обращали внимание на то, как меняется ваше самочувствие и настроение в тот момент, когда вы ухаживаете за растениями или же просто любуетесь ими? А ученые, к примеру, уже давно выявили прямую взаимосвязь между   цветами и настроением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читается, что окраск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коративных растений оказывает непосредственное влияние на самочувствие людей. Так, розовые тона повышают эмоциональную активность и вызывают у человека добрые и нежные чувства, поэтому если кому-то недостает мягкости в характере, то стоит приобрести растение с розовыми цветками. Растения с цветками белого оттенка способствуют духовному развитию, а синие цветки развивают у людей творческие способности. А вот, например желтые цветки в определенной ситуации способны вызвать приступ ревности и ненависти. Поэтому если вы очень часто находитесь в очень раздраженном и агрессивном состоянии, то вам лучше избавиться от растений с желтыми цвет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НТЕРЕСНЫЕ ФАКТЫ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ло время, когда в Голландии никаких тюльпанов в помине не бы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ни были завезены туда из Турции в XVI ве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те времена тюльпаны стоили баснословных денег, они ценились выше чем многие металлы и драгоценные камни. Одна луковица тюльпана стоила более двух тысяч долларов!     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Тюльпан – один из самых быстрорастущих видов растений. За сутки он может подрасти в среднем на 2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50684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Гладиолу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Еще один цветок, известный нам с древности, гладиолу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звание ему дал римский писатель Плиний старший, живший в I веке нашей э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Его поразило сходство этого цветка с оружием римских гладиато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н назвал цветок гладиолусом от латинского Gladius, что означает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меч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44956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знать какие цветы являются украшением са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Гвозд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стория гвоздики имеет христианские кор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огласно древней легенде, впервые она проросла на Голгофе, в том месте, куда падали слезы Божией Матери, когда она смотрела на крестные страдания своего Сы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643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ОЗ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4608720" cy="388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4032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рейшая роза в мире растет в Герма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зовый куст цвет из года в год на протяжении вот уже 1000 лет у стен собора в Хильдесхайме и в высоту уже почти достиг крыши стро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71636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ходе проделанной работы был проведен опрос 11 человек по вопроса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 их представленных наименований цветов Вам нравят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 из представленных наименований цветов растут у Вас в сад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4360" y="1413000"/>
          <a:ext cx="820872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3000"/>
                    <a:ext cx="820872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зультаты данного опроса представлены следующей диаграммо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3008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 считаю, что по результатам проделанной работы мы достигли поставленной цели и установили, что все садовые цветы выполняют свою индивидуальную роль, а в совокупности представляют единую картину оформления сада и каждый цветок является его украш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писок используемой литературы и сайтов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ubscribe.r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vash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sad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.u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yxdaha.r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cvetu.com.u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Цветы белые и красные» Кремер Бру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Цветы желтые и синие» Кремер Бру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ш цветущий сад. Энциклопедия садовых деревьев, кустарников и цветов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. И. Быховец, С. Л. Быховец, В. М. Гончару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ё о цветах для вашего сада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. А. Сидоро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учить историю появления цветов са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знать  виды садовых цве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знать какой уход нужен за садовыми цве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учить влияние цветов на настроение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йти интересные факты о садовых цвет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ОДЕРЖ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тория появления садовых цве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ды садовых цве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ход за садовыми цве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лияние цветов на настроение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тересные факты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исок используемой литературы и сай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347640" y="549000"/>
            <a:ext cx="5545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громное количество наскальных изображений, найденных в Европе и Азии, Америке и Африке донесли до наших дней великолепие цветов. По словам известного советского академика В. Л. Комарова, цветочные культуры столь же древние, как и хозяйственно-ценные. Люди, как правило, обращали свое внимание на дикорастущие растения с большими и яркими цветками. Народы всех континентов с древнейших времен украшали цветами свои жилищ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История цветоводства"/>
          <p:cNvPicPr/>
          <p:nvPr/>
        </p:nvPicPr>
        <p:blipFill>
          <a:blip r:embed="rId1"/>
          <a:stretch/>
        </p:blipFill>
        <p:spPr>
          <a:xfrm>
            <a:off x="0" y="907920"/>
            <a:ext cx="327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 временем в результате тщательного отбора были получены культурные растения. Именно с этого момента начинается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стория цветоводств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Декоративные растения выращивали везде, но каждый народ имел свое, особо почитаемое растение. Так, у японцев — хризантема, китайцев— пион, римлян — нарцисс, греков и персов — гиацинт, арабов — жасмин, индейцев — агава или георг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ИДЫ САДОВЫХ ЦВЕТ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62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се виды цветов подразделяют на однолетние и многолет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 разнообразию требований к различным факторам окружающей среды цветочные растения условно разделяют по отношени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 свету — светолюбивые, теневыносливые и тенелюбив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 теплу — теплолюбивые и холодостойк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 воде — влаголюбивые и засухоустойчивы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45840" y="404640"/>
            <a:ext cx="84978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зависимости от способа декорирования сада виды садовых цветов подразделяют по высоте стеблей: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рдюрные высотой до 30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зкорослые от 30 см до 50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ные  от 50 см и выш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целом при совмещении данных видов цветов в саду получается законченная композиция.  Приведем несколько примеров декорирования участков са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61531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5:16:52Z</dcterms:created>
  <dc:creator>Admin</dc:creator>
  <dc:description/>
  <dc:language>en-US</dc:language>
  <cp:lastModifiedBy>Admin</cp:lastModifiedBy>
  <dcterms:modified xsi:type="dcterms:W3CDTF">2012-05-01T09:43:19Z</dcterms:modified>
  <cp:revision>3</cp:revision>
  <dc:subject/>
  <dc:title>Садовые цветы</dc:title>
</cp:coreProperties>
</file>