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63C6-2E02-4FFE-85A3-BE705408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2364-A0C8-4ECE-B63D-7355192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FF09-32F7-4FC9-9B1F-A293209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BFFF-FDB4-451A-ADCA-D8715007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EAA-1ADF-4021-B9FC-62053CFA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2D30-3089-4038-AAF6-A6ED84CF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E99C-9508-4591-B28A-60083B7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0379-AC74-46D5-900E-673FB08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FBA9-6D7C-4A77-BA42-7D8136D5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5626-5FD7-4AE0-9255-F84077E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453E-116E-4A36-B88A-1D2E36E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C5FC-AA96-4CF4-ABFE-60DE3936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DFB-BF4B-4B70-88F5-BB3490A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F1B6-38FF-46F5-A4E9-FB345F00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2AF-DCA6-4CD4-8D81-0B12BF4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6E34-4964-48B3-9A7A-C2F1D63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27C-C017-4763-A2A9-69576D48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B911-5507-40DA-8CBD-379F7312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D97A-BC59-4402-A4AD-98F253F5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0A45-EE29-445B-A7EC-E66CA5F8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95D-C319-438D-BD6F-16A18DE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9099-1657-4350-90BD-600A745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0695-22D2-44F4-A5F7-E061A8B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454F-94C5-43E0-800B-5C76353C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80AD-DB62-450F-BF3A-6B1E32A2C1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86D-7EC9-499A-8894-9AF5F02A97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e5ff"/>
                </a:solidFill>
                <a:latin typeface="Garamond"/>
              </a:rPr>
              <a:t>Собственност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Кто, согласно ГК РФ, может быть субъектом права собственности? ____________________________________________________________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 Пенсионерка Мария Васильевна очень расстроилась, когда узнала, что ее внук Володя ушел из государственного научного института и открыл свою фирму. Она считает, что закон защищает только государственные предприятия. Подчеркни во фрагменте Кодекса предложение, которое могло бы успокоить Марию Васильевн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Имущественные отнош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отношения между людьми, возникающие по поводу имущества, в основе которых право на собственн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G:\Презентации\Уроки общества. 8 класс\Новая папка\i (5).jpg"/>
          <p:cNvPicPr/>
          <p:nvPr/>
        </p:nvPicPr>
        <p:blipFill>
          <a:blip r:embed="rId1"/>
          <a:stretch/>
        </p:blipFill>
        <p:spPr>
          <a:xfrm>
            <a:off x="990720" y="2057400"/>
            <a:ext cx="7010280" cy="44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:\Презентации\Уроки общества. 8 класс\Новая папка\i (6).jpg"/>
          <p:cNvPicPr/>
          <p:nvPr/>
        </p:nvPicPr>
        <p:blipFill>
          <a:blip r:embed="rId2"/>
          <a:stretch/>
        </p:blipFill>
        <p:spPr>
          <a:xfrm>
            <a:off x="990720" y="2057400"/>
            <a:ext cx="701028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:\Презентации\Уроки общества. 8 класс\Новая папка\i.jpg"/>
          <p:cNvPicPr/>
          <p:nvPr/>
        </p:nvPicPr>
        <p:blipFill>
          <a:blip r:embed="rId3"/>
          <a:stretch/>
        </p:blipFill>
        <p:spPr>
          <a:xfrm>
            <a:off x="990720" y="205740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Собственность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– принадлежность материальных, духовных ценностей, денежных средств определённым лицам – собственникам; юридическое право на такую принадлежность, на владение, пользование и распоряжение объектом собственности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2" descr="G:\Презентации\Уроки общества. 8 класс\Новая папка\i (1).jpg"/>
          <p:cNvPicPr/>
          <p:nvPr/>
        </p:nvPicPr>
        <p:blipFill>
          <a:blip r:embed="rId1"/>
          <a:stretch/>
        </p:blipFill>
        <p:spPr>
          <a:xfrm>
            <a:off x="1066680" y="2362320"/>
            <a:ext cx="7086600" cy="419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G:\Презентации\Уроки общества. 8 класс\Новая папка\i (2).jpg"/>
          <p:cNvPicPr/>
          <p:nvPr/>
        </p:nvPicPr>
        <p:blipFill>
          <a:blip r:embed="rId2"/>
          <a:stretch/>
        </p:blipFill>
        <p:spPr>
          <a:xfrm>
            <a:off x="1066680" y="2362320"/>
            <a:ext cx="7086600" cy="419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G:\Презентации\Уроки общества. 8 класс\Новая папка\i (3).jpg"/>
          <p:cNvPicPr/>
          <p:nvPr/>
        </p:nvPicPr>
        <p:blipFill>
          <a:blip r:embed="rId3"/>
          <a:stretch/>
        </p:blipFill>
        <p:spPr>
          <a:xfrm>
            <a:off x="1066680" y="2362320"/>
            <a:ext cx="70866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G:\Презентации\Уроки общества. 8 класс\Новая папка\i (4).jpg"/>
          <p:cNvPicPr/>
          <p:nvPr/>
        </p:nvPicPr>
        <p:blipFill>
          <a:blip r:embed="rId4"/>
          <a:stretch/>
        </p:blipFill>
        <p:spPr>
          <a:xfrm>
            <a:off x="1066680" y="2362320"/>
            <a:ext cx="7086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об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28600" y="1066680"/>
            <a:ext cx="4191120" cy="56390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кономическ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атего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отношения меж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юдьми по пов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надлеж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аздел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дела объект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бств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724280" y="1143000"/>
            <a:ext cx="4267440" cy="5486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Юридическ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атего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закреплённое закон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аво субъект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бств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влад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уществ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2590920" y="38088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867280" y="457200"/>
            <a:ext cx="9907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аво собственност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совокупность правовых норм, закрепляющих, регулирующих и охраняющих принадлежность материальных благ конкретным люд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Влад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фактическое обладание вещью, создающее для обладателя возможность непосредственного воздействия на вещ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Использование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извлечение из имущества полезных свой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Распоряжение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возможность изменения его принадлежности, состояния, назнач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2. Прочитайте текст и выполните зад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Из Гражданского кодекса РФ (ГК РФ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татья 209. Содержание права собстве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Собственнику принадлежат права владения, пользования и распоряжения своим имуществ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Собственник вправе по своему усмотрению совершать в отношении принадлежащего ему имущества любые действия, не противоречащие закону и иным правовым актам и не нарушающие права и охраняемые законом интересы других лиц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татья 212. Субъекты права собств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 В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ссийской Федерации признаются частная, государственная, муниципальная и иные формы соб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  Имущество может находиться в собственности граждан и юридических лиц, а также Российской Федерации, субъектов Российской Федерации, муниципальных образов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 Особенности приобретения и прекращения права собственности на имущество, владения, пользования и распоряжения им в зависимости от того, находится имущество в собственности граж­данина или юридического лица, в собственности Российской Федерации, субъекта Российской Федерации или муниципального образования, могут устанавливаться лишь законом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 Права всех собственников защищаются равным образ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Какие три права, согласно ГК РФ, составляют содержание права собственности?______________________________________________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Заполни таблицу, используя содержание докумен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28600"/>
          <a:ext cx="8686800" cy="6524640"/>
        </p:xfrm>
        <a:graphic>
          <a:graphicData uri="http://schemas.openxmlformats.org/drawingml/2006/table">
            <a:tbl>
              <a:tblPr/>
              <a:tblGrid>
                <a:gridCol w="6705720"/>
                <a:gridCol w="1981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о собствен-н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 А., проживая за границей, имеет  в   собственности   квартиру   на родин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 В.  подарил принадлежащий ему автомобиль своему сыну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  С.   на  своем  автомобиле выполняет работу курье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 Т. имеет загородный дом, в котором не проживает постоянн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 К.  выписал своему сыну доверенность на управление автомобиле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5:12:22Z</dcterms:created>
  <dc:creator>ТАТЬЯНА</dc:creator>
  <dc:description/>
  <dc:language>en-US</dc:language>
  <cp:lastModifiedBy>Администратор</cp:lastModifiedBy>
  <dcterms:modified xsi:type="dcterms:W3CDTF">2012-12-09T01:00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