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DD67-14DC-443F-841B-8CFE565423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DFBE-7817-4B2F-8683-A0379CCEE3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41F7-769E-4F7B-9454-2712E0EE5A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8524-AC43-4E26-9793-205D0CB5C4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EBD5-5B21-4564-BEB2-52822605A9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CDDC-567C-4F79-90B7-9059B2A91B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62C7-7922-4875-A275-1DAA3306C4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51AD-7CC6-4E18-93FC-49546E7240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C3F1-359A-4438-8B83-98B066DB7D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7E5A-32A9-4666-8D28-DE816862A3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87B4-51C4-4A7B-9032-BFE0D49618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CF7A-C2D6-4F8F-AB1B-213BD8C00C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0A11-5AD6-43E9-B815-F356411934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13B5-7480-430C-AD87-E9F64359CC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4E1A-AC5B-4040-B262-2BB6F98B23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AE23-26EA-4116-9705-C0B214C531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8A2A-4631-4729-8C61-5431EB2703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69B-2765-417A-B9CF-565FAEE1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0AC-71D7-4C67-BA89-CA9A9333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559-EDCD-484A-BAC7-BC3D1A00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44E-0652-4144-A547-BFF2F36E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5460-F28B-4E18-A722-F0F24A76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14BC-E77D-4CA5-8A0B-982F1D8D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6FAB-A2AE-41A7-BD26-B99CE20E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8968-E4FD-4AB3-BE8B-CDACE2BB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0091-0D17-4355-B7DA-27313B14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C78A-BB63-4B7E-A1F1-6273BDCA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C1A4-D680-4F25-9BFD-99AC6BB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356-126A-4B4E-80A3-FC8E0F0E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8F33-3AF8-4AB5-9E10-2823B770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2E2B-D74D-41D3-87C5-B7E9586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C0D0-4E8B-4DF5-9C7E-214332C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CC35-601B-4404-B405-BBA5789B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E54A-B588-40EA-A630-44532C19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3D5-E969-4ABD-BA3F-91FF60D6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97F-73C1-4D74-BE4C-95EADEC8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F06-EF45-452A-99B9-B58E5E63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510-DD0C-48FD-9ADE-459F7B95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B9B-4EA5-4CE1-BE01-EF1D191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22A-E0DA-4DA4-A83F-6E279BC7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8BE-9879-4110-B26D-E8A8CE72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0F19-B85F-4E6F-AA9B-F15829EB1E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CA70-3E61-4C15-9144-03713C4B35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ема 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43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УЗЫКАЛЬНАЯ КУЛЬТУРА БАРОКК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Привалова Валентина Серг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истории школы 65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ворчество Бах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оганн Себастьян Бах   1685-1750 г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x_df852673"/>
          <p:cNvPicPr/>
          <p:nvPr/>
        </p:nvPicPr>
        <p:blipFill>
          <a:blip r:embed="rId1"/>
          <a:stretch/>
        </p:blipFill>
        <p:spPr>
          <a:xfrm>
            <a:off x="755640" y="2421000"/>
            <a:ext cx="3029040" cy="38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Bah2"/>
          <p:cNvPicPr/>
          <p:nvPr/>
        </p:nvPicPr>
        <p:blipFill>
          <a:blip r:embed="rId2"/>
          <a:stretch/>
        </p:blipFill>
        <p:spPr>
          <a:xfrm>
            <a:off x="5148360" y="2205000"/>
            <a:ext cx="2469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ворчество Бах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х – непревзойденный мастер органной музы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х создал прекрасные полифонические произведения – прелюдии и фу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га  - от»лат. –бе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Хорошо темперированный клавир» -это настольная книга для исполнителей, «музыкальная библ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сская музыка барокк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ая музыка барокко развивалась с середины 17 до середины 18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усской музыке – это многоголосное п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торы создавали композиции на 4, 8, 12 и даже 48 гол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сская музыка барокк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знанный мастер духовной хоровой музыки считается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митрий Степанович Бортнянс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сочинил 35 хоровых композиций для четырехголосного хора и 10 концертов для двух х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мпозитор Бортнянск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0027-019-Bortnjanskij-Dmitrij-Stepanovich-1751-1825"/>
          <p:cNvPicPr/>
          <p:nvPr/>
        </p:nvPicPr>
        <p:blipFill>
          <a:blip r:embed="rId1"/>
          <a:stretch/>
        </p:blipFill>
        <p:spPr>
          <a:xfrm>
            <a:off x="900000" y="2060640"/>
            <a:ext cx="3267360" cy="38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bortnianski_duze"/>
          <p:cNvPicPr/>
          <p:nvPr/>
        </p:nvPicPr>
        <p:blipFill>
          <a:blip r:embed="rId2"/>
          <a:stretch/>
        </p:blipFill>
        <p:spPr>
          <a:xfrm>
            <a:off x="5292720" y="2133720"/>
            <a:ext cx="2610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узыке барокко царит ощущение неизбежности перемен и дух новато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ременники критиковали композиторов барок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 барокко пережила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большим интересом ее слушают и сегод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узыкальная культура барокк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ла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арокко в итальянской опер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ворчество Бах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усская музыка барокк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тупле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 барокко отличается от музыки эпохи Возрож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мену плавной гармонии Возрождения пришли диссонирующие созвучия, всевозможные украшения-мелиз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являются технически трудные виртуозные пассажи в п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тупле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 барокко носит светский характер, но новый стиль проникает и в церковную музы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мессы  Иоганна Себастьяна Баха, оратории Генд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ко стиль барокко проявился в опе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арокко в итальянской опер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 – главное достижение музыкального искусства барок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 веке оперное искусство расцветает в Итал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удио Монтеверди – первый оперный композитор барок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развил драматическую сущность оперы. Соединил речитативы, декламацию и вок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арокко в итальянской опер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опера Монтеверди – «Эвриди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чшая опера Монтеверди- это «Орфе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637 году по инициативе Монтеверди в Венеции открыт первый оперный теа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нтеверд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Claudio_Monteverdi_4"/>
          <p:cNvPicPr/>
          <p:nvPr/>
        </p:nvPicPr>
        <p:blipFill>
          <a:blip r:embed="rId1"/>
          <a:stretch/>
        </p:blipFill>
        <p:spPr>
          <a:xfrm>
            <a:off x="5148360" y="1844640"/>
            <a:ext cx="3057480" cy="3857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img_item_405"/>
          <p:cNvPicPr/>
          <p:nvPr/>
        </p:nvPicPr>
        <p:blipFill>
          <a:blip r:embed="rId2"/>
          <a:stretch/>
        </p:blipFill>
        <p:spPr>
          <a:xfrm>
            <a:off x="971640" y="2276640"/>
            <a:ext cx="388764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нтонио Вивальд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выдающийся автор  концер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вальди –  это скрипач-виртуо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сочинил 465 концертов и 40 опер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1725 году Вивальди создал свое известное  произведение «Времена год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вальд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portrait_of_antonio"/>
          <p:cNvPicPr/>
          <p:nvPr/>
        </p:nvPicPr>
        <p:blipFill>
          <a:blip r:embed="rId1"/>
          <a:stretch/>
        </p:blipFill>
        <p:spPr>
          <a:xfrm>
            <a:off x="971640" y="1773360"/>
            <a:ext cx="3171600" cy="3857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23352bd979e8fe462673b166d3a1d8fb_full"/>
          <p:cNvPicPr/>
          <p:nvPr/>
        </p:nvPicPr>
        <p:blipFill>
          <a:blip r:embed="rId2"/>
          <a:stretch/>
        </p:blipFill>
        <p:spPr>
          <a:xfrm>
            <a:off x="4356000" y="1844640"/>
            <a:ext cx="4057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7:48:15Z</dcterms:created>
  <dc:creator>user</dc:creator>
  <dc:description/>
  <dc:language>en-US</dc:language>
  <cp:lastModifiedBy>ольга</cp:lastModifiedBy>
  <dcterms:modified xsi:type="dcterms:W3CDTF">2012-10-01T09:52:11Z</dcterms:modified>
  <cp:revision>5</cp:revision>
  <dc:subject/>
  <dc:title>Тема  5</dc:title>
</cp:coreProperties>
</file>