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56D-CF59-42B8-9EE6-B0873BC3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C5C-80D1-4BEB-9891-1A503193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8D9-90AF-4831-AAA5-70C8EEA9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249-290A-47A5-9566-F6DDFD52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11A0-0E4A-4A2F-97AA-7E3397C0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38C2-FFA8-44B6-A311-FB61C6FA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DEF3-20DA-4F51-8657-8009D7B3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00A5-FDC1-4C90-A6E9-6A5BC99C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0827-D2A2-4DB8-AFFA-1D5978EB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319E-0F91-432A-8D09-4514615D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731F-A022-46EB-8CB5-45EAB5D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48A-EA12-4013-A078-1C4B6A38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80D0-418F-4691-A668-886A813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46DA-6F34-4F1A-BCC8-B44024D0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56B6-16CF-44E4-A9AF-B600FF65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1E9C-F473-490B-BE39-BE480D8B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F654-BD4C-4AA7-B4A8-72CD423D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9E79-76C4-492D-9FD5-FDA31678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5F3A7-7F40-4610-8F2D-FBCB649D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3A29-C4F0-44C0-B7D6-AED56CDF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5D19-C9DC-4324-8116-EC9F5E75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D64B-50D1-4D21-98AB-072B05B8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39E-A12F-4154-9BC3-DA7D1123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DBEB-0665-4BBE-BDC7-00FBE362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8ED2-37D2-401D-953F-8D4A4E6E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ECA7-D139-47EF-BE74-9D5349BA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56FD0-50C1-4CF8-B16F-40A6360E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BAF8F-CAC2-4718-AAC2-BA5E3556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AAE1-DE5B-44DB-A09C-A5A2AB1C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1CFA-6147-41B5-84B4-8186C27D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0D6B-B7BD-46F9-991D-67B98750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E5083-3F83-48F2-A63C-B6B147A8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B257-8977-4105-A401-9F465CCF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203-FA3C-45F1-A309-AAABEB74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49BEE-7EEB-49F0-B6A5-EFD9E4D5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EBEE3-D317-45CE-9E0C-A10E9DBE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5E5EC-E9A3-4E16-A4E6-BF0C60D5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B9033-05B6-47FD-90F3-00AC9AD0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D6A6-6C5F-4E0B-B162-C6EBCDEA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3632E-2F0F-4390-80EE-CE7DE2D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5C21-7DD7-491C-98D0-7BB732A7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694E9-8296-411D-A1A0-F007FBF8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A35B9-D762-4140-8D44-53734BB0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73B-E445-4A17-87EB-9DA4F39B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4FD-F265-40B1-824F-CF916680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A59-59C9-4E41-9196-F2C301D2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370-F45D-48F6-B056-476ADEE8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A7E-0F4F-4EFA-B6E7-65D8C84D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185F-7837-4232-828B-AD1321018A1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2019-9B1F-4A5A-B598-DB5D9D2E5C0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CBAC-7FB3-494B-8F9D-16B2D5890DA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3530-7075-4C1B-9CF2-B98D8CA1A76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7"/>
          <p:cNvSpPr txBox="1"/>
          <p:nvPr/>
        </p:nvSpPr>
        <p:spPr>
          <a:xfrm>
            <a:off x="5364000" y="4365720"/>
            <a:ext cx="3230640" cy="158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5840">
                  <a:solidFill>
                    <a:srgbClr val="8a8e72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Автор:</a:t>
            </a:r>
            <a:endParaRPr b="0" lang="en-US" sz="2000" spc="1" strike="noStrike">
              <a:ln w="15840">
                <a:solidFill>
                  <a:srgbClr val="8a8e72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5840">
                  <a:solidFill>
                    <a:srgbClr val="8a8e72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Учитель математики МБОУ СОШ №16</a:t>
            </a:r>
            <a:endParaRPr b="0" lang="en-US" sz="2000" spc="1" strike="noStrike">
              <a:ln w="15840">
                <a:solidFill>
                  <a:srgbClr val="8a8e72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5840">
                  <a:solidFill>
                    <a:srgbClr val="8a8e72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000" spc="1" strike="noStrike">
                <a:ln w="15840">
                  <a:solidFill>
                    <a:srgbClr val="8a8e72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Григорьева Людмила Николаевна.</a:t>
            </a:r>
            <a:endParaRPr b="0" lang="en-US" sz="2000" spc="1" strike="noStrike">
              <a:ln w="15840">
                <a:solidFill>
                  <a:srgbClr val="8a8e72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196" name="WordArt 8"/>
          <p:cNvSpPr txBox="1"/>
          <p:nvPr/>
        </p:nvSpPr>
        <p:spPr>
          <a:xfrm>
            <a:off x="1692360" y="765000"/>
            <a:ext cx="554364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готовка к ЕГЭ по математи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шение заданий В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"/>
          <p:cNvSpPr/>
          <p:nvPr/>
        </p:nvSpPr>
        <p:spPr>
          <a:xfrm>
            <a:off x="714240" y="64296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rebuchet MS"/>
              </a:rPr>
              <a:t>Прототип задания B2 (№ 275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428760" y="128592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Екатеринбурге (Свердловске) за каждый месяц 1973 года. По горизонтали указываются месяцы, по вертикали - температура в градусах Цельсия. Определите по диаграмме наименьшую среднемесячную температуру в 1973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AutoShape 4"/>
          <p:cNvGrpSpPr/>
          <p:nvPr/>
        </p:nvGrpSpPr>
        <p:grpSpPr>
          <a:xfrm>
            <a:off x="2212920" y="4846680"/>
            <a:ext cx="6937560" cy="2030400"/>
            <a:chOff x="2212920" y="4846680"/>
            <a:chExt cx="6937560" cy="2030400"/>
          </a:xfrm>
        </p:grpSpPr>
        <p:pic>
          <p:nvPicPr>
            <p:cNvPr id="256" name="AutoShape 4" descr=""/>
            <p:cNvPicPr/>
            <p:nvPr/>
          </p:nvPicPr>
          <p:blipFill>
            <a:blip r:embed="rId1"/>
            <a:stretch/>
          </p:blipFill>
          <p:spPr>
            <a:xfrm>
              <a:off x="2212920" y="4846680"/>
              <a:ext cx="69375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559320" y="4971960"/>
              <a:ext cx="542736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Constantia"/>
                </a:rPr>
                <a:t>Ответ: -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2" descr="MA.E10.B2.152/innerimg0.png"/>
          <p:cNvPicPr/>
          <p:nvPr/>
        </p:nvPicPr>
        <p:blipFill>
          <a:blip r:embed="rId2"/>
          <a:stretch/>
        </p:blipFill>
        <p:spPr>
          <a:xfrm>
            <a:off x="3929040" y="1214280"/>
            <a:ext cx="4829040" cy="3357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f6fc6"/>
              </a:gs>
              <a:gs pos="100000">
                <a:srgbClr val="009d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8"/>
          <p:cNvSpPr/>
          <p:nvPr/>
        </p:nvSpPr>
        <p:spPr>
          <a:xfrm>
            <a:off x="4500720" y="4071960"/>
            <a:ext cx="35712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6429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 для самостоятельного реше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f6fc6"/>
              </a:gs>
              <a:gs pos="100000">
                <a:srgbClr val="009d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AutoShape 4"/>
          <p:cNvGrpSpPr/>
          <p:nvPr/>
        </p:nvGrpSpPr>
        <p:grpSpPr>
          <a:xfrm>
            <a:off x="1957320" y="4937040"/>
            <a:ext cx="6942240" cy="2030400"/>
            <a:chOff x="1957320" y="4937040"/>
            <a:chExt cx="6942240" cy="2030400"/>
          </a:xfrm>
        </p:grpSpPr>
        <p:pic>
          <p:nvPicPr>
            <p:cNvPr id="264" name="AutoShape 4" descr=""/>
            <p:cNvPicPr/>
            <p:nvPr/>
          </p:nvPicPr>
          <p:blipFill>
            <a:blip r:embed="rId1"/>
            <a:stretch/>
          </p:blipFill>
          <p:spPr>
            <a:xfrm>
              <a:off x="1957320" y="4937040"/>
              <a:ext cx="694224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306600" y="5065560"/>
              <a:ext cx="542772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3571920" y="5500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твет: 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468360" y="1845000"/>
            <a:ext cx="4551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Минске за каждый месяц 2003 года. По горизонтали указываются месяцы, по вертикали - температура в градусах Цельсия. Определите по диаграмме, сколько было месяцев, когда среднемесячная температура была отриц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0" descr="MA.E10.B2.169/innerimg0.png"/>
          <p:cNvPicPr/>
          <p:nvPr/>
        </p:nvPicPr>
        <p:blipFill>
          <a:blip r:embed="rId2"/>
          <a:stretch/>
        </p:blipFill>
        <p:spPr>
          <a:xfrm>
            <a:off x="4859280" y="1413000"/>
            <a:ext cx="3635280" cy="337176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ая соединительная линия 9"/>
          <p:cNvSpPr/>
          <p:nvPr/>
        </p:nvSpPr>
        <p:spPr>
          <a:xfrm>
            <a:off x="5214960" y="4357800"/>
            <a:ext cx="28584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1"/>
          <p:cNvSpPr/>
          <p:nvPr/>
        </p:nvSpPr>
        <p:spPr>
          <a:xfrm>
            <a:off x="5500800" y="4429080"/>
            <a:ext cx="285480" cy="18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5"/>
          <p:cNvSpPr/>
          <p:nvPr/>
        </p:nvSpPr>
        <p:spPr>
          <a:xfrm>
            <a:off x="5786280" y="3929040"/>
            <a:ext cx="21456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9"/>
          <p:cNvSpPr/>
          <p:nvPr/>
        </p:nvSpPr>
        <p:spPr>
          <a:xfrm>
            <a:off x="8143920" y="4000680"/>
            <a:ext cx="28584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6" descr="MA.E10.B2.311/innerimg0.png"/>
          <p:cNvPicPr/>
          <p:nvPr/>
        </p:nvPicPr>
        <p:blipFill>
          <a:blip r:embed="rId1"/>
          <a:stretch/>
        </p:blipFill>
        <p:spPr>
          <a:xfrm>
            <a:off x="4286160" y="1214280"/>
            <a:ext cx="4537080" cy="334188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3"/>
          <p:cNvSpPr/>
          <p:nvPr/>
        </p:nvSpPr>
        <p:spPr>
          <a:xfrm>
            <a:off x="142920" y="50004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rebuchet MS"/>
              </a:rPr>
              <a:t>Прототип задания B2 (№ 275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AutoShape 4"/>
          <p:cNvGrpSpPr/>
          <p:nvPr/>
        </p:nvGrpSpPr>
        <p:grpSpPr>
          <a:xfrm>
            <a:off x="2212920" y="4846680"/>
            <a:ext cx="6937560" cy="2030400"/>
            <a:chOff x="2212920" y="4846680"/>
            <a:chExt cx="6937560" cy="2030400"/>
          </a:xfrm>
        </p:grpSpPr>
        <p:pic>
          <p:nvPicPr>
            <p:cNvPr id="277" name="AutoShape 4" descr=""/>
            <p:cNvPicPr/>
            <p:nvPr/>
          </p:nvPicPr>
          <p:blipFill>
            <a:blip r:embed="rId2"/>
            <a:stretch/>
          </p:blipFill>
          <p:spPr>
            <a:xfrm>
              <a:off x="2212920" y="4846680"/>
              <a:ext cx="69375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559320" y="4971960"/>
              <a:ext cx="542736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Constantia"/>
                </a:rPr>
                <a:t>Ответ: 1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f6fc6"/>
              </a:gs>
              <a:gs pos="100000">
                <a:srgbClr val="009d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8"/>
          <p:cNvSpPr/>
          <p:nvPr/>
        </p:nvSpPr>
        <p:spPr>
          <a:xfrm>
            <a:off x="5786280" y="2928960"/>
            <a:ext cx="35748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9"/>
          <p:cNvSpPr/>
          <p:nvPr/>
        </p:nvSpPr>
        <p:spPr>
          <a:xfrm>
            <a:off x="285840" y="1143000"/>
            <a:ext cx="3500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иаграмме показано количество посетителей сайта РИА Новости во все дни с 10 по 29 ноября 2009 года. По горизонтали указываются дни месяца, по вертикали — количество посетителей сайта за данный день. Определите по диаграмме, какого числа количество посетителей сайта РИА Новости было наименьшим за указан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64260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 для самостоятельного реше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f6fc6"/>
              </a:gs>
              <a:gs pos="100000">
                <a:srgbClr val="009d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AutoShape 4"/>
          <p:cNvGrpSpPr/>
          <p:nvPr/>
        </p:nvGrpSpPr>
        <p:grpSpPr>
          <a:xfrm>
            <a:off x="2146320" y="5291280"/>
            <a:ext cx="6711840" cy="1676160"/>
            <a:chOff x="2146320" y="5291280"/>
            <a:chExt cx="6711840" cy="1676160"/>
          </a:xfrm>
        </p:grpSpPr>
        <p:pic>
          <p:nvPicPr>
            <p:cNvPr id="285" name="AutoShape 4" descr=""/>
            <p:cNvPicPr/>
            <p:nvPr/>
          </p:nvPicPr>
          <p:blipFill>
            <a:blip r:embed="rId1"/>
            <a:stretch/>
          </p:blipFill>
          <p:spPr>
            <a:xfrm>
              <a:off x="2146320" y="5291280"/>
              <a:ext cx="67118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3432240" y="5405400"/>
              <a:ext cx="5280120" cy="13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571920" y="54291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Разность наибольшего и наименьшего количества посетителей: 80000 – 10000 = 7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твет:7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24000" y="1787400"/>
            <a:ext cx="3676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иаграмме показано количество посетителей сайта РИА Новости в течение каждого часа 8 декабря 2009 года. По горизонтали указывается номер часа, по вертикали — количество посетителей сайта за данный час. Определите по диаграмме разность наибольшего и наименьшего количества посетителей за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MA.E10.B2.324/innerimg0.png"/>
          <p:cNvPicPr/>
          <p:nvPr/>
        </p:nvPicPr>
        <p:blipFill>
          <a:blip r:embed="rId2"/>
          <a:stretch/>
        </p:blipFill>
        <p:spPr>
          <a:xfrm>
            <a:off x="3929040" y="1571760"/>
            <a:ext cx="4907160" cy="357192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ая соединительная линия 11"/>
          <p:cNvSpPr/>
          <p:nvPr/>
        </p:nvSpPr>
        <p:spPr>
          <a:xfrm>
            <a:off x="4929120" y="4429080"/>
            <a:ext cx="142920" cy="18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15"/>
          <p:cNvSpPr/>
          <p:nvPr/>
        </p:nvSpPr>
        <p:spPr>
          <a:xfrm flipV="1">
            <a:off x="6714360" y="1999800"/>
            <a:ext cx="1800" cy="18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18"/>
          <p:cNvSpPr/>
          <p:nvPr/>
        </p:nvSpPr>
        <p:spPr>
          <a:xfrm>
            <a:off x="6715080" y="2000160"/>
            <a:ext cx="142920" cy="18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рисунке жирными точками показана цена олова на момент закрытия биржевых торгов во все рабочие дни с 3 по 18 сентября 2007 года. По горизонтали указываются числа месяца, по вертикали — цена тонны олова в долларах США.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133360"/>
            <a:ext cx="40384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Для наглядности жирные точки на рисунке соединены линией. Определите по рисунку, какого числа цена олова на момент закрытия торгов была наибольшей за данный период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nstantia"/>
              </a:rPr>
              <a:t>Наибольшая цена олова за указанный период на оси ординат находится посередине между числами 15100 и 15200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nstantia"/>
              </a:rPr>
              <a:t>Значит, эта цена равна 15150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доллар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Рисунок 5" descr="MA.E10.B2.238/innerimg0.png"/>
          <p:cNvPicPr/>
          <p:nvPr/>
        </p:nvPicPr>
        <p:blipFill>
          <a:blip r:embed="rId1"/>
          <a:stretch/>
        </p:blipFill>
        <p:spPr>
          <a:xfrm>
            <a:off x="4572000" y="2421000"/>
            <a:ext cx="38098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298" name="AutoShape 4"/>
          <p:cNvGrpSpPr/>
          <p:nvPr/>
        </p:nvGrpSpPr>
        <p:grpSpPr>
          <a:xfrm>
            <a:off x="3279600" y="5767560"/>
            <a:ext cx="5937480" cy="1199880"/>
            <a:chOff x="3279600" y="5767560"/>
            <a:chExt cx="5937480" cy="1199880"/>
          </a:xfrm>
        </p:grpSpPr>
        <p:pic>
          <p:nvPicPr>
            <p:cNvPr id="299" name="AutoShape 4" descr=""/>
            <p:cNvPicPr/>
            <p:nvPr/>
          </p:nvPicPr>
          <p:blipFill>
            <a:blip r:embed="rId2"/>
            <a:stretch/>
          </p:blipFill>
          <p:spPr>
            <a:xfrm>
              <a:off x="3279600" y="5767560"/>
              <a:ext cx="593748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406760" y="5856120"/>
              <a:ext cx="468648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Constantia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Constantia"/>
                </a:rPr>
                <a:t>151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f6fc6"/>
              </a:gs>
              <a:gs pos="100000">
                <a:srgbClr val="009d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0"/>
          <p:cNvSpPr/>
          <p:nvPr/>
        </p:nvSpPr>
        <p:spPr>
          <a:xfrm>
            <a:off x="5076720" y="3068640"/>
            <a:ext cx="144000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16"/>
          <p:cNvSpPr/>
          <p:nvPr/>
        </p:nvSpPr>
        <p:spPr>
          <a:xfrm>
            <a:off x="718200" y="476280"/>
            <a:ext cx="74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для самостоятельного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9152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диаграмме показана среднемесячная температура воздуха в Нижнем Новгороде (Горьком) за каждый месяц 1994 года. По горизонтали указываются месяцы, по вертикали — температура в градусах Цельсия. Определите по диаграмме наименьшую среднемесячную температуру в 1994 году. Ответ дайте в градусах Цельсия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ходим самую низкую температуру. Она лежит посередине между числами (-12) и (-16). Значит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вет: -1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6" name="Содержимое 4" descr="MA.E10.B2.157/innerimg0.png"/>
          <p:cNvPicPr/>
          <p:nvPr/>
        </p:nvPicPr>
        <p:blipFill>
          <a:blip r:embed="rId1"/>
          <a:stretch/>
        </p:blipFill>
        <p:spPr>
          <a:xfrm>
            <a:off x="4643280" y="2060640"/>
            <a:ext cx="3967200" cy="3441600"/>
          </a:xfrm>
          <a:prstGeom prst="rect">
            <a:avLst/>
          </a:prstGeom>
          <a:ln w="0">
            <a:noFill/>
          </a:ln>
        </p:spPr>
      </p:pic>
      <p:grpSp>
        <p:nvGrpSpPr>
          <p:cNvPr id="307" name="AutoShape 4"/>
          <p:cNvGrpSpPr/>
          <p:nvPr/>
        </p:nvGrpSpPr>
        <p:grpSpPr>
          <a:xfrm>
            <a:off x="2749680" y="5479920"/>
            <a:ext cx="6076800" cy="1487520"/>
            <a:chOff x="2749680" y="5479920"/>
            <a:chExt cx="6076800" cy="1487520"/>
          </a:xfrm>
        </p:grpSpPr>
        <p:pic>
          <p:nvPicPr>
            <p:cNvPr id="308" name="AutoShape 4" descr=""/>
            <p:cNvPicPr/>
            <p:nvPr/>
          </p:nvPicPr>
          <p:blipFill>
            <a:blip r:embed="rId2"/>
            <a:stretch/>
          </p:blipFill>
          <p:spPr>
            <a:xfrm>
              <a:off x="2749680" y="5479920"/>
              <a:ext cx="60768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917880" y="5583240"/>
              <a:ext cx="4770360" cy="12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Constantia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Constantia"/>
                </a:rPr>
                <a:t>-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AutoShape 3"/>
          <p:cNvSpPr/>
          <p:nvPr/>
        </p:nvSpPr>
        <p:spPr>
          <a:xfrm>
            <a:off x="25092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f6fc6"/>
              </a:gs>
              <a:gs pos="100000">
                <a:srgbClr val="009d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8"/>
          <p:cNvSpPr/>
          <p:nvPr/>
        </p:nvSpPr>
        <p:spPr>
          <a:xfrm>
            <a:off x="5076720" y="5084640"/>
            <a:ext cx="57492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1"/>
          <p:cNvSpPr/>
          <p:nvPr/>
        </p:nvSpPr>
        <p:spPr>
          <a:xfrm>
            <a:off x="684360" y="189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для самостоятельного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Список рекомендуемой литератур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0004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49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мое полное издание типовых вариантов реальных заданий ЕГЭ: 2010: Математика / авт.-сост. И.Р.Высоцкий, Д.Д.Гущин, П.И.Захаров и др.; под ред. А.Л.Семенова, И.В.Ященко. – М.:АСТ:Астрель, 2010. – 93, (3)с. – (Федеральный институт педагогических измерений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349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тематика: тематическое планирование  уроков подготовки к экзамену / Белошистая.В. А. –М: Издательство «Экзамен», 2007. – 478 (2) с. (Серия «ЕГЭ 2007. Поурочное планирование»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349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тематика: самостоятельная подготовка к ЕГЭ / Л.Д. Лаппо, М.А. Попов. – 3-е изд., перераб. И дополн. -  М.: Издательство «Экзамен», 2009. – 381, (3) с. (Серия «ЕГЭ. Интенсив»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349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тематика. Решение задач группы В / Ю.А.Глазков, И.А.Варшавский, М.Я. Гаиашвилли. – М.: Издательство «Экзамен», 2009. – 382 (2) с. (Серия «ЕГЭ. 100 баллов»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349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тематика:  тренировочные тематические задания повышенной сложности с ответами для подготовки к ЕГЭ и к другим формам выпускного и вступительного экзаменов /сост Г.И.Ковалева, Т.И.Бузулина, О.Л.Безрукова,  Ю.А. Розка. _ Волгоград: Учитель, 20089, - 494 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349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Шабунин М.И. и др. Алгебра и начала анализа: Дидактические материалы для 10-11 кл. – 3-е изд. – М.: Мнемозина, 2000. – 251 с.: ил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349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349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Адреса сайтов в сети Интерн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0040" y="114264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>
              <a:spcBef>
                <a:spcPts val="326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www.fipi.ru – Федеральный институт педагогических измерений (ФИПИ). Особенно обратите внимание на раздел «Открытый сегмент ФБТЗ» – это система для подготовки к ЕГЭ - в режиме on-line. Вы можете отвечать на вопросы банка заданий ЕГЭ по различным предметам, а так же по выбранной теме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spcBef>
                <a:spcPts val="326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http://mathege.ru -Открытый банк задач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ЕГЭ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по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математике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.  Главная задача открытого банка заданий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ЕГЭ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по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математике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— дать представление о том, какие задания будут в вариантах Единого государственного экзамена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по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математике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в 2010 году, и помочь выпускникам сориентироваться при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подготовке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к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экзамену. Здесь же можно найти все пробные ЕГЭ по математике, которые уже прошли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spcBef>
                <a:spcPts val="326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http://egetrener.ru/ - математика: видеоуроки, решение задач ЕГЭ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spcBef>
                <a:spcPts val="326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http://ege-trener.ru/ - очень увлекательная и эффективная подготовка к ЕГЭ по математике. Зарегистрируйтесь и попытайтесь попасть в 30-ку лучших!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spcBef>
                <a:spcPts val="326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uztest.ru — бесплатные материалы для подготовки к ЕГЭ (и не только к ЕГЭ) по математике: интерактивные тематические тренажеры, возможность записи на бесплатные on-line курсы по подготовке к ЕГЭ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spcBef>
                <a:spcPts val="326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www.ege.edu.ru – официальный информационный портал единого государственного экзамена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spcBef>
                <a:spcPts val="326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On-line видеолекции "Консультации по ЕГЭ" по всем предметам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spcBef>
                <a:spcPts val="326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Ролики категории ЕГЭ. Лекции по математике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spcBef>
                <a:spcPts val="326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http://www.alexlarin.narod.ru/ege.html - материалы для подготовки к ЕГЭ по математике (сайт Ларина Александра Александровича)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spcBef>
                <a:spcPts val="326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http://www.diary.ru/~eek/ - сообщество, оказывающее помощь в решении задач по математике, здесь же можно скачать много полезных книг по математике, в том числе для подготовки к ЕГЭ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spcBef>
                <a:spcPts val="326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http://4ege.ru/ - ЕГЭ портал, всё последнее к ЕГЭ. Вся информация о егэ. ЕГЭ 2010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8" name="Содержимое 3" descr="http://xni5.ucoz.ru/fotoglav/3.gif"/>
          <p:cNvPicPr/>
          <p:nvPr/>
        </p:nvPicPr>
        <p:blipFill>
          <a:blip r:embed="rId1"/>
          <a:stretch/>
        </p:blipFill>
        <p:spPr>
          <a:xfrm>
            <a:off x="2324160" y="1935000"/>
            <a:ext cx="44956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роверяемые требования (умения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3642840"/>
            <a:ext cx="82296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 использовать приобретенные знания и умения в практической деятельности и повседневной жизни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677520" y="714240"/>
            <a:ext cx="595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Прототипов заданий В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Умения по К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5280" y="2060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ределять значение функции по значению аргумента при различных способах задания функции; описывать по графику поведение и свойства функций, находить по графику функции наибольшие и наименьшие значения; строить графики изученных функци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исывать с помощью функций различные реальные зависимости между величинами и интерпретировать их графики; извлекать информацию, представленную в таблицах, на диаграммах, графика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одержание задания В2 по КЭС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004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ение и график функци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ментарное исследование функци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ные элементарные функци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840" y="571680"/>
            <a:ext cx="630252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мятка ученик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13840" y="1571400"/>
            <a:ext cx="647244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дание B2 на чтение графических функций (график характеризует изменение в зависимости от времени некоторой величины), обычно, в задании требуется найти наибольшее или наименьшее значение этой величины. В этом задании ученик демонстрирует использование математических знаний и умений в практической деятельности и повседневной жизни. Для успешного решения задания B2 ученик должен уметь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• определять значение функции при различных способах задания функци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• находить по графику функции наибольшие и наименьшие значени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• строить графики изученных функци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• описывать с помощью функций различные зависимости и читать их графи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• пользоваться информацией, представленной в виде таблиц и графи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Рисунок 4" descr="http://im5-tub-ru.yandex.net/i?id=283051374-63-72&amp;n=21"/>
          <p:cNvPicPr/>
          <p:nvPr/>
        </p:nvPicPr>
        <p:blipFill>
          <a:blip r:embed="rId1"/>
          <a:stretch/>
        </p:blipFill>
        <p:spPr>
          <a:xfrm>
            <a:off x="6516720" y="11253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AutoShape 4"/>
          <p:cNvGrpSpPr/>
          <p:nvPr/>
        </p:nvGrpSpPr>
        <p:grpSpPr>
          <a:xfrm>
            <a:off x="1957320" y="5175360"/>
            <a:ext cx="6942240" cy="1579320"/>
            <a:chOff x="1957320" y="5175360"/>
            <a:chExt cx="6942240" cy="1579320"/>
          </a:xfrm>
        </p:grpSpPr>
        <p:pic>
          <p:nvPicPr>
            <p:cNvPr id="208" name="AutoShape 4" descr=""/>
            <p:cNvPicPr/>
            <p:nvPr/>
          </p:nvPicPr>
          <p:blipFill>
            <a:blip r:embed="rId1"/>
            <a:stretch/>
          </p:blipFill>
          <p:spPr>
            <a:xfrm>
              <a:off x="1957320" y="5175360"/>
              <a:ext cx="694224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284640" y="5284800"/>
              <a:ext cx="547200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Прототип задания B2 (№26869)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AutoShape 19"/>
          <p:cNvSpPr/>
          <p:nvPr/>
        </p:nvSpPr>
        <p:spPr>
          <a:xfrm>
            <a:off x="0" y="6308640"/>
            <a:ext cx="2143080" cy="549360"/>
          </a:xfrm>
          <a:custGeom>
            <a:avLst/>
            <a:gdLst>
              <a:gd name="textAreaLeft" fmla="*/ 35280 w 2143080"/>
              <a:gd name="textAreaRight" fmla="*/ 2107800 w 2143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84222" h="21600">
                <a:moveTo>
                  <a:pt x="0" y="0"/>
                </a:moveTo>
                <a:lnTo>
                  <a:pt x="84222" y="0"/>
                </a:lnTo>
                <a:lnTo>
                  <a:pt x="84222" y="21600"/>
                </a:lnTo>
                <a:lnTo>
                  <a:pt x="0" y="21600"/>
                </a:lnTo>
                <a:close/>
              </a:path>
              <a:path fill="lightenLess" w="84222" h="21600">
                <a:moveTo>
                  <a:pt x="0" y="0"/>
                </a:moveTo>
                <a:lnTo>
                  <a:pt x="84222" y="0"/>
                </a:lnTo>
                <a:lnTo>
                  <a:pt x="82822" y="1400"/>
                </a:lnTo>
                <a:lnTo>
                  <a:pt x="1400" y="1400"/>
                </a:lnTo>
                <a:close/>
              </a:path>
              <a:path fill="darken" w="84222" h="21600">
                <a:moveTo>
                  <a:pt x="84222" y="0"/>
                </a:moveTo>
                <a:lnTo>
                  <a:pt x="84222" y="21600"/>
                </a:lnTo>
                <a:lnTo>
                  <a:pt x="82822" y="20200"/>
                </a:lnTo>
                <a:lnTo>
                  <a:pt x="82822" y="1400"/>
                </a:lnTo>
                <a:close/>
              </a:path>
              <a:path fill="darkenLess" w="84222" h="21600">
                <a:moveTo>
                  <a:pt x="84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822" y="20200"/>
                </a:lnTo>
                <a:close/>
              </a:path>
              <a:path fill="lighten" w="84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8"/>
          <p:cNvSpPr/>
          <p:nvPr/>
        </p:nvSpPr>
        <p:spPr>
          <a:xfrm>
            <a:off x="214200" y="1501200"/>
            <a:ext cx="266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унке показано изменение температуры воздуха на протяжении трех суток. По горизонтали указывается дата и время суток, по вертикали — значение температуры в градусах Цельсия. Определите по рисунку наименьшую температуру воздуха 22 янв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MA.E10.B2.83/img512720n1.png"/>
          <p:cNvPicPr/>
          <p:nvPr/>
        </p:nvPicPr>
        <p:blipFill>
          <a:blip r:embed="rId2"/>
          <a:stretch/>
        </p:blipFill>
        <p:spPr>
          <a:xfrm>
            <a:off x="2928960" y="1000080"/>
            <a:ext cx="5791320" cy="39528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6"/>
          <p:cNvSpPr/>
          <p:nvPr/>
        </p:nvSpPr>
        <p:spPr>
          <a:xfrm>
            <a:off x="3500280" y="5214960"/>
            <a:ext cx="521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ми линиями отмечено интересующее нас 22 января. Красная линия проведена к наименьшей температуре, до которой прогрелся воздух в этот день, это -23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-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16"/>
          <p:cNvSpPr/>
          <p:nvPr/>
        </p:nvSpPr>
        <p:spPr>
          <a:xfrm flipH="1">
            <a:off x="5143680" y="2071800"/>
            <a:ext cx="1440" cy="19288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22"/>
          <p:cNvSpPr/>
          <p:nvPr/>
        </p:nvSpPr>
        <p:spPr>
          <a:xfrm flipH="1">
            <a:off x="3714840" y="2071800"/>
            <a:ext cx="1440" cy="19288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24"/>
          <p:cNvSpPr/>
          <p:nvPr/>
        </p:nvSpPr>
        <p:spPr>
          <a:xfrm>
            <a:off x="3714840" y="3786120"/>
            <a:ext cx="1857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 для самостоятельного реше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f6fc6"/>
              </a:gs>
              <a:gs pos="100000">
                <a:srgbClr val="009d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AutoShape 4"/>
          <p:cNvGrpSpPr/>
          <p:nvPr/>
        </p:nvGrpSpPr>
        <p:grpSpPr>
          <a:xfrm>
            <a:off x="2030400" y="5486400"/>
            <a:ext cx="6942240" cy="1481040"/>
            <a:chOff x="2030400" y="5486400"/>
            <a:chExt cx="6942240" cy="1481040"/>
          </a:xfrm>
        </p:grpSpPr>
        <p:pic>
          <p:nvPicPr>
            <p:cNvPr id="221" name="AutoShape 4" descr=""/>
            <p:cNvPicPr/>
            <p:nvPr/>
          </p:nvPicPr>
          <p:blipFill>
            <a:blip r:embed="rId1"/>
            <a:stretch/>
          </p:blipFill>
          <p:spPr>
            <a:xfrm>
              <a:off x="2030400" y="5486400"/>
              <a:ext cx="69422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351240" y="5587920"/>
              <a:ext cx="548172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Constantia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Constantia"/>
                </a:rPr>
                <a:t>-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рямоугольник 5"/>
          <p:cNvSpPr/>
          <p:nvPr/>
        </p:nvSpPr>
        <p:spPr>
          <a:xfrm>
            <a:off x="250920" y="170028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2"/>
          <p:cNvSpPr/>
          <p:nvPr/>
        </p:nvSpPr>
        <p:spPr>
          <a:xfrm>
            <a:off x="468360" y="1845360"/>
            <a:ext cx="316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унке показано изменение температуры воздуха на протяжении трех суток. По горизонтали указывается дата и время суток, по вертикали — значение температуры в градусах Цельсия. Определите по рисунку наименьшую температуру воздуха 23 янв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4" descr="MA.E10.B2.84/img512721n1.png"/>
          <p:cNvPicPr/>
          <p:nvPr/>
        </p:nvPicPr>
        <p:blipFill>
          <a:blip r:embed="rId2"/>
          <a:stretch/>
        </p:blipFill>
        <p:spPr>
          <a:xfrm>
            <a:off x="3564000" y="1484280"/>
            <a:ext cx="5148360" cy="35146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ая соединительная линия 8"/>
          <p:cNvSpPr/>
          <p:nvPr/>
        </p:nvSpPr>
        <p:spPr>
          <a:xfrm flipH="1">
            <a:off x="5500800" y="3143160"/>
            <a:ext cx="1440" cy="10731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0"/>
          <p:cNvSpPr/>
          <p:nvPr/>
        </p:nvSpPr>
        <p:spPr>
          <a:xfrm flipH="1">
            <a:off x="6858000" y="3143160"/>
            <a:ext cx="1440" cy="10731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4"/>
          <p:cNvSpPr/>
          <p:nvPr/>
        </p:nvSpPr>
        <p:spPr>
          <a:xfrm>
            <a:off x="4214880" y="3857760"/>
            <a:ext cx="292896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Прототип задания B2 (№ 26871)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0" y="6308640"/>
            <a:ext cx="2736720" cy="549360"/>
          </a:xfrm>
          <a:custGeom>
            <a:avLst/>
            <a:gdLst>
              <a:gd name="textAreaLeft" fmla="*/ 35280 w 2736720"/>
              <a:gd name="textAreaRight" fmla="*/ 2701440 w 2736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107547" h="21600">
                <a:moveTo>
                  <a:pt x="0" y="0"/>
                </a:moveTo>
                <a:lnTo>
                  <a:pt x="107547" y="0"/>
                </a:lnTo>
                <a:lnTo>
                  <a:pt x="107547" y="21600"/>
                </a:lnTo>
                <a:lnTo>
                  <a:pt x="0" y="21600"/>
                </a:lnTo>
                <a:close/>
              </a:path>
              <a:path fill="lightenLess" w="107547" h="21600">
                <a:moveTo>
                  <a:pt x="0" y="0"/>
                </a:moveTo>
                <a:lnTo>
                  <a:pt x="107547" y="0"/>
                </a:lnTo>
                <a:lnTo>
                  <a:pt x="106147" y="1400"/>
                </a:lnTo>
                <a:lnTo>
                  <a:pt x="1400" y="1400"/>
                </a:lnTo>
                <a:close/>
              </a:path>
              <a:path fill="darken" w="107547" h="21600">
                <a:moveTo>
                  <a:pt x="107547" y="0"/>
                </a:moveTo>
                <a:lnTo>
                  <a:pt x="107547" y="21600"/>
                </a:lnTo>
                <a:lnTo>
                  <a:pt x="106147" y="20200"/>
                </a:lnTo>
                <a:lnTo>
                  <a:pt x="106147" y="1400"/>
                </a:lnTo>
                <a:close/>
              </a:path>
              <a:path fill="darkenLess" w="107547" h="21600">
                <a:moveTo>
                  <a:pt x="107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147" y="20200"/>
                </a:lnTo>
                <a:close/>
              </a:path>
              <a:path fill="lighten" w="107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142920" y="1287000"/>
            <a:ext cx="38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среднесуточная температура воздуха в Бресте каждый день с 6 по 19 июля 1981 года. По горизонтали указываются числа месяца, по вертикали - температура в градусах Цельсия. Для наглядности жирные точки соединены линией. Определите по рисунку, какого числа в первый раз за указанный период среднесуточная температура равнялась 19 граду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9" descr="spacer"/>
          <p:cNvPicPr/>
          <p:nvPr/>
        </p:nvPicPr>
        <p:blipFill>
          <a:blip r:embed="rId1"/>
          <a:stretch/>
        </p:blipFill>
        <p:spPr>
          <a:xfrm>
            <a:off x="4524480" y="342432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1" descr="spacer"/>
          <p:cNvPicPr/>
          <p:nvPr/>
        </p:nvPicPr>
        <p:blipFill>
          <a:blip r:embed="rId2"/>
          <a:stretch/>
        </p:blipFill>
        <p:spPr>
          <a:xfrm>
            <a:off x="4524480" y="342432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3" descr="spacer"/>
          <p:cNvPicPr/>
          <p:nvPr/>
        </p:nvPicPr>
        <p:blipFill>
          <a:blip r:embed="rId3"/>
          <a:stretch/>
        </p:blipFill>
        <p:spPr>
          <a:xfrm>
            <a:off x="4524480" y="342432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5" descr="03FDF5D8B904826F4D3B5ED78EAA549A/simg1_1258043218.png"/>
          <p:cNvPicPr/>
          <p:nvPr/>
        </p:nvPicPr>
        <p:blipFill>
          <a:blip r:embed="rId4"/>
          <a:stretch/>
        </p:blipFill>
        <p:spPr>
          <a:xfrm>
            <a:off x="4143240" y="1643040"/>
            <a:ext cx="4762800" cy="27432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ая соединительная линия 10"/>
          <p:cNvSpPr/>
          <p:nvPr/>
        </p:nvSpPr>
        <p:spPr>
          <a:xfrm>
            <a:off x="4500720" y="3286080"/>
            <a:ext cx="4143240" cy="18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12"/>
          <p:cNvSpPr/>
          <p:nvPr/>
        </p:nvSpPr>
        <p:spPr>
          <a:xfrm flipH="1">
            <a:off x="5214960" y="2643120"/>
            <a:ext cx="1440" cy="1214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AutoShape 4"/>
          <p:cNvGrpSpPr/>
          <p:nvPr/>
        </p:nvGrpSpPr>
        <p:grpSpPr>
          <a:xfrm>
            <a:off x="1920960" y="4896000"/>
            <a:ext cx="6937200" cy="2028600"/>
            <a:chOff x="1920960" y="4896000"/>
            <a:chExt cx="6937200" cy="2028600"/>
          </a:xfrm>
        </p:grpSpPr>
        <p:pic>
          <p:nvPicPr>
            <p:cNvPr id="239" name="AutoShape 4" descr=""/>
            <p:cNvPicPr/>
            <p:nvPr/>
          </p:nvPicPr>
          <p:blipFill>
            <a:blip r:embed="rId5"/>
            <a:stretch/>
          </p:blipFill>
          <p:spPr>
            <a:xfrm>
              <a:off x="1920960" y="4896000"/>
              <a:ext cx="6937200" cy="20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267000" y="5021280"/>
              <a:ext cx="542772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Синей линией отмечена интересующая нас температура 19°С. Красная - указывает на число, когда среднесуточная температура первый раз равнялась 19°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onstantia"/>
                </a:rPr>
                <a:t>Ответ:</a:t>
              </a:r>
              <a:r>
                <a:rPr b="0" lang="ru-RU" sz="2000" spc="-1" strike="noStrike">
                  <a:solidFill>
                    <a:srgbClr val="c00000"/>
                  </a:solidFill>
                  <a:latin typeface="Constantia"/>
                </a:rPr>
                <a:t>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 для самостоятельного реше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f6fc6"/>
              </a:gs>
              <a:gs pos="100000">
                <a:srgbClr val="009d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AutoShape 4"/>
          <p:cNvGrpSpPr/>
          <p:nvPr/>
        </p:nvGrpSpPr>
        <p:grpSpPr>
          <a:xfrm>
            <a:off x="1889280" y="4937040"/>
            <a:ext cx="6937200" cy="2030400"/>
            <a:chOff x="1889280" y="4937040"/>
            <a:chExt cx="6937200" cy="2030400"/>
          </a:xfrm>
        </p:grpSpPr>
        <p:pic>
          <p:nvPicPr>
            <p:cNvPr id="244" name="AutoShape 4" descr=""/>
            <p:cNvPicPr/>
            <p:nvPr/>
          </p:nvPicPr>
          <p:blipFill>
            <a:blip r:embed="rId1"/>
            <a:stretch/>
          </p:blipFill>
          <p:spPr>
            <a:xfrm>
              <a:off x="1889280" y="4937040"/>
              <a:ext cx="69372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235320" y="5065560"/>
              <a:ext cx="542772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3564000" y="5157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250920" y="150588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среднесуточная температура воздуха в Бресте каждый день с 6 по 19 июля 1981 года. По горизонтали указываются числа месяца, по вертикали - температура в градусах Цельсия. Для наглядности жирные точки соединены линией. Определите по рисунку наибольшую среднесуточную температуру в период с 8 по 18 ию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7" descr="73CDD638FFA29B53495ACB8BD2A44B0D/simg1_1258043275.png"/>
          <p:cNvPicPr/>
          <p:nvPr/>
        </p:nvPicPr>
        <p:blipFill>
          <a:blip r:embed="rId2"/>
          <a:stretch/>
        </p:blipFill>
        <p:spPr>
          <a:xfrm>
            <a:off x="4211640" y="1916280"/>
            <a:ext cx="4762440" cy="27432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ая соединительная линия 9"/>
          <p:cNvSpPr/>
          <p:nvPr/>
        </p:nvSpPr>
        <p:spPr>
          <a:xfrm flipH="1">
            <a:off x="5214960" y="2786040"/>
            <a:ext cx="1440" cy="1359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11"/>
          <p:cNvSpPr/>
          <p:nvPr/>
        </p:nvSpPr>
        <p:spPr>
          <a:xfrm flipH="1">
            <a:off x="8214840" y="2786040"/>
            <a:ext cx="1800" cy="1359000"/>
          </a:xfrm>
          <a:prstGeom prst="line">
            <a:avLst/>
          </a:prstGeom>
          <a:ln w="572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13"/>
          <p:cNvSpPr/>
          <p:nvPr/>
        </p:nvSpPr>
        <p:spPr>
          <a:xfrm>
            <a:off x="4643280" y="2928960"/>
            <a:ext cx="357192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зитроника</cp:lastModifiedBy>
  <dcterms:modified xsi:type="dcterms:W3CDTF">2012-12-08T17:40:05Z</dcterms:modified>
  <cp:revision>95</cp:revision>
  <dc:subject/>
  <dc:title>Слайд 1</dc:title>
</cp:coreProperties>
</file>