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AB80-F481-472B-A814-2FB4D5BF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F74-FBD1-4ACE-B7E5-056A9398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A801-AEE9-4609-B5BD-B431F86F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34FC-8377-473D-84AD-32C2E6C9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4F87-2842-4643-A882-AB3C65B6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19DC-B075-48C8-B809-5D50CF68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93C6-3793-4C04-B073-F0007842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F598-E294-4397-840C-570926FA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E519-125E-44BE-85A8-5A300473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7678-D515-4D9E-8890-AF151887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F92E-6006-489C-8564-8DF19798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CB2D-2E20-4F40-B5AE-17ECC38F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662F-8877-4297-888E-EF3423C1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8EC3-964E-4325-A5E9-5EA1E927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5F01-6119-448B-B086-8403447B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4135-8A59-4971-A8DF-28970FA1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9989-9A5E-41B5-B317-2534221F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444-2078-490A-993D-EC75F8F1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8E6-8464-4B61-9EDF-FCA827D2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9B9C-691F-451C-B73E-B804F822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AF3-9EE1-4E48-A133-9DE56D5B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30B-3490-4A71-86E1-384F81B5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E843-0A6C-4D07-8B61-B37CADF0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BB4-DD56-468A-ABFC-7FA1F634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FB07-B6B8-40EA-9934-BD19BD9DA7B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BA41-B3BB-46FA-84A9-05BDF9A34F6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ережное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3499920"/>
            <a:ext cx="4680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боту выполн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рмак Анто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еник 5 в клас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У СОШ №410 г.Пушк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1557360"/>
            <a:ext cx="649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ношение к воде  и экономия 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Я задумался, почему нужно беречь вод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этого 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Прочитал в книге, о том что людя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обходима пресная вода, которой 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емле не так уж мн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Спросил у учителя надолго ли людям хватит вод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Побеседовал с медиком какую воду можно п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Поговорил с мамой о расходовании воды в нашей семь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олько пресной воды на Земл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 книги я  узнал, что 97,2% составляют соленые воды морей и океанов. Остается 2,8%-это пресная вода. Но 2.15% ее надежно заморожено в ледниках гор, Арктики и Антарктиды. Еще 0.001% содержится в атмосфере. И только 0.65%-это пресная вода, находящаяся в реках, озерах и под земл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7419" t="34833" r="11056" b="14414"/>
          <a:stretch/>
        </p:blipFill>
        <p:spPr>
          <a:xfrm>
            <a:off x="250920" y="1628640"/>
            <a:ext cx="8569080" cy="48247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08000" y="1628280"/>
            <a:ext cx="61912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долго ли людям хватит вод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 рассказа учителя я узнал, что пресная вода на Земле составляет лишь 20000 км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которой хватит на 93 года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ую воду можно п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разговора с медиком я узнал, что питьевая вода должна быть приятной на вкус, бесцветной и прозрачной. Кроме того, в воде не должно быть вредных для здоровья бактерий и химических веществ. Ученые разработали нормы предельно допустимой концентра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ДК) вредных веществ в воде. Для питьевой воды эти нормы самые строг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кономия воды в нашей квартир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подсчита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 одну минуту в кружку накапало 70 кап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 один час 4200 кап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 сутки 100800 кап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 неделю 705600 кап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0 капель-это 115 м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05600 капель-это 1159.2 л = 1.159 куб. 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куб. м стоит 25 ру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Значит стоимость наших капель будет 29 ру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06:21:23Z</dcterms:created>
  <dc:creator>duke</dc:creator>
  <dc:description/>
  <dc:language>en-US</dc:language>
  <cp:lastModifiedBy>Танечка</cp:lastModifiedBy>
  <dcterms:modified xsi:type="dcterms:W3CDTF">2012-12-09T15:02:09Z</dcterms:modified>
  <cp:revision>22</cp:revision>
  <dc:subject/>
  <dc:title>Слайд 1</dc:title>
</cp:coreProperties>
</file>