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2375-D20C-4BF8-92B1-F5B640AE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8EBE-23F6-449A-8BB3-D49A274C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DC96-893E-4717-BE52-2314B38C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62B1-B760-4347-AB0E-0901A6AA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92CD-B395-4A7D-A854-802AAA67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4949-71F2-4D1B-B651-19BB526E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76E2-B42E-4641-9E67-894AB477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D4D3-E94A-468F-9C34-9282547D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4FE9-6CCC-464E-AA20-5368A224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90F8-6575-46A2-B38E-9D178926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6CFD-1388-48B2-8B35-CC02BB0B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C551-DD2F-4641-A408-D8C58B3D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5C81-874E-48FB-9282-2F728B7E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57B3-8DE3-4DFB-B64D-0023452B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3BD5-67B7-45FB-8A9F-A7CB3361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4937-6F65-47DC-B261-2204723D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3993-FC95-4223-B0A2-CB8E520B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934E-70A7-4F12-B049-A82FB83B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AC93-A7A8-494B-A329-EEE844F9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7C75-546C-4059-9A36-323E641C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3D68-6FA0-4D47-8AEF-CDAD7AF0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4F70-7F2E-476C-A1C8-E40F24D5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9AD5-5AC2-47B1-9E4A-BAB5AD9E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DB0B-1E73-4C27-A102-F1EF87F3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235E-B4CC-49BB-B8D3-AEB3A246613A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E40D-6573-49CE-91DF-BA6FF8FAEA82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260280"/>
            <a:ext cx="8226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Безличные предложения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1700280"/>
            <a:ext cx="6400800" cy="39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чера утром крепко подморозило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Маму несколько дней знобит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Многим в нашем классе нездоровитс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Я чувствую: быть гроз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И скучно и грустно, и некому руку подат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черкнуть сказуемое и обозначить, чем оно выражено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авить безличные предложения с использованием слов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Холодае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меркаетс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Работалось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е хочетс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есе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устынн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е следует торопитьс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Грустно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ти соответствия безличных и личных предложен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Черемухой пахнет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Мне сегодня не спитс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Быть ЕГЭ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ет желания учит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 классе тихо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Мне нерадостно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ЕГЭ будет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Я не хочу учит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Как пахнет черемуха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 классе все тихо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Я нерадостн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Я не сплю сегодн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аковы формы сказуемых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Светает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Очень ветрено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Не следует спешить с ответо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Словом можно убит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Те минуты позабыть нельз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Не работается мне сегодн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Нет правды на земле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Слово состоя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Безличный глаго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Инфинитив со вспомогательным глаголо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Возвратный глагол в безличном значен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Инфинитив + НЕЛЬЗ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Неизменяемая глагольная форма НЕ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роставить знаки препинания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Дорожки в поселке посыпали галькой ее привезли с мор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о одежке встречают по уму провожают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Дни поздней осени бранят обыкновенно но мне она мила читатель дорогой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апочка привези мне акулу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Читаю допоздна и потом мне не спи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02:47:13Z</dcterms:created>
  <dc:creator>pob</dc:creator>
  <dc:description/>
  <dc:language>en-US</dc:language>
  <cp:lastModifiedBy>pob</cp:lastModifiedBy>
  <dcterms:modified xsi:type="dcterms:W3CDTF">2009-12-09T05:38:05Z</dcterms:modified>
  <cp:revision>3</cp:revision>
  <dc:subject/>
  <dc:title>Безличные предложения</dc:title>
</cp:coreProperties>
</file>