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CA9-740E-489E-9493-57A3C1E7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B19-7D96-4365-B394-E20B45D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11B-49F5-4310-8EC3-A64DCF78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194-6657-41A9-83BD-28D81102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929-F110-4F32-85CC-73D9A003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5A8C-6B72-4A9E-9D7A-142F3A1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F7B-26A4-4A58-9FEF-57A82906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B86-A02F-48B2-96C1-09F0D294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950-31D2-4B50-A342-9D4A8D74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7146-5DCC-4F7C-8B26-3EB4F318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AFAE-ECF8-4955-912C-19A1E97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DE9-2796-4A7B-8D1C-7D43C92B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F203-C5B0-496F-A82A-DAACA25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35D9-189F-40C9-85A7-107A753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EAF1-7171-41FF-A089-590922C3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2EA-32DA-484A-8301-01488453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790F-B835-4670-B765-83188D39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36436-130D-4A53-B471-D57AA834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8734A-9678-40C0-86A0-3480555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C047F-C663-4E84-A332-7B71AA2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A7D7D-5679-4ED3-9310-CC7F464A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86687-8EF8-4B99-AFF5-27054D15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D2E-4BDC-4E08-B7F7-803BA10A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3B260-4143-4040-B845-43368C91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765D7-A4B0-4F3D-A318-7491986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159C9-03C6-4858-A63C-4A87F0D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0A2AF-DDAB-4188-A192-114B182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F22BA-0498-4FF8-9407-7179529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570DB-148E-417A-9888-1161345D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C262B-C3F8-487D-AECA-A72C36DC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0499-82D9-414D-89BE-EECF8EDB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97D5-734D-4949-8255-7C695C8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042A-025E-4741-A0D9-8BD082D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A97-0544-4FEE-A266-8FA478B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3857-F3B3-4828-9B27-01351E4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02E0-3D74-423F-98A2-8B59268D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BCD4-131C-43A8-8B31-903A826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C6B0-5BF3-4432-999C-130F5DA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5DDD-AF21-45C1-ACC5-BA1270E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74CB-FAB9-4E33-8BA9-5B933FD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728C-6B74-4F8D-893F-293F68A1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32E0-82CD-46F2-B4FF-453409D4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3E4F-3B89-4839-BB6A-6921054D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F5CF1-E509-46FA-927C-3906063B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9F8-5A0E-4165-AC20-0F2A981E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FFB6E-86FD-41F9-B4B5-B1103AE9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F9B37-B353-4374-B3A9-9B853C29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84FD1-7D8B-4C23-A092-23D9ACF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8F0CD-4589-4DCF-B57D-7D1CD98A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66BB5-A059-4CC2-BB4F-03B01DC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52E3B-ECD6-43B3-B52A-C5E1033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28A0B-FBDA-457B-8701-6B31352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3B1DE-6A51-4145-9B9A-90399B3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E7276-B468-4B47-B1FE-E318319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C7F3B-86B7-484E-B475-93F7114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719-DFCE-44D2-B184-7C28CE2A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752E5-82CA-47F2-949F-5035918C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11FA4-A997-4744-8FFA-9D01883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E78AB-CCBB-49BE-8447-4A9101CC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4CC68-4A53-41D1-BD4C-ABD016CF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0B272-B5CE-4769-B677-35BAA4F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AD7E6-A4D3-414D-9C23-84AA102F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A6746-A404-4D78-8379-081E1F8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3493D-FAAD-4993-84EF-743DE43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7F949-2075-4D30-AF18-C3328DA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0BF9D-03DE-4685-BB35-6DA02BA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1DE-D539-40D3-90A4-12019F9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63108-CA2D-454C-B27E-0898C29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E83FF-CED4-4DFB-BE56-82BFDA40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BBFCC-27D1-4E55-A5B5-B9B0F52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2EC9B-F167-46E0-B36D-E10C830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E8047-AA7C-4684-8BA5-AF42E05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DB2A5-7350-4BE4-94BD-348B8673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7ACEB-5B8A-44D3-A585-D669F39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CFE8B-122E-4E70-89EA-6733EE14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011A7-418F-40EC-9FC4-3ECAC35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F37EF-DC92-4C97-B966-9DE9ABA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013-9852-44F2-A716-445E821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B8099-F72B-44FC-99F4-6D0451A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0FDDC-F8A4-45C4-96A6-69C22FE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9CA94-00E0-4B3F-9616-A700274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CB8F8-A868-457C-B701-AF1A8CF6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A331B-3C76-4DE2-924C-15B20D64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A64-970D-4A1D-9ED1-3663658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5819-9DD5-47EC-B24C-66072704565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98E-B336-4776-AA56-245E6BD8E1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AE2-9D56-464C-AA27-202F3568BCA7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C873-5D00-479E-AF9C-94569F0310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B6C-445A-4282-B43B-66CE9C7C2F1B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BA52-E112-43AA-8760-A9274E41DE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B4C-D173-4405-8283-D68CE6C5623A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8EA-7F2C-4B3E-A6C5-A1CF2D17AB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606-E813-4DB2-BCC2-E14D1BE9221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3AF-A610-4F50-AB78-729E32FEAC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085-01F4-4ECB-A30D-5DE74F11306F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B14-65BA-41CB-9F80-ACC029C3C6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D2E3-CDAD-4459-8FBF-7EA203BCBDE2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03D-2419-4F78-8F6B-BD5CF67C26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72;&#1082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avicom.ru/pages-view-1291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ia.ru/authors/20110817/418710660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Georgia"/>
              </a:rPr>
              <a:t>ДАВАЙТЕ НЕ БУДЕМ КУРИТЬ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C:\Users\Савка\Desktop\no-smoking-533.jpg"/>
          <p:cNvPicPr/>
          <p:nvPr/>
        </p:nvPicPr>
        <p:blipFill>
          <a:blip r:embed="rId1"/>
          <a:stretch/>
        </p:blipFill>
        <p:spPr>
          <a:xfrm>
            <a:off x="3048120" y="16765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48006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нический проект для классного часа о вреде кур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"ОТКРЫТИЕ" ТАБАКА СВЯЗЫВАЮТ С ИМЕНЕМ КОЛУМБА. 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утешествия Колумба матросы, высадившиеся на Кубу, впервые увидели, как аборигены поджигали скатанные в трубочку листья и глотали дым, выпуская его через ноздри, до тех пор, пока с ними не начинал беседовать "великий дух". Очевидно, большое количество выкуренного табака, вызывало у местных жителей слуховые галлюцинации. Вместе с тем, заметьте, курили индейцы не забавы для, а только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лигиозные праздни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132000" cy="2733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Users\Савка\Desktop\200x200.jpg"/>
          <p:cNvPicPr/>
          <p:nvPr/>
        </p:nvPicPr>
        <p:blipFill>
          <a:blip r:embed="rId2"/>
          <a:stretch/>
        </p:blipFill>
        <p:spPr>
          <a:xfrm>
            <a:off x="6172200" y="1066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152280"/>
            <a:ext cx="46483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 табачное растение, привезенное из Америки, первоначально использовалось только как декоративное. Нюхать, жевать и курить его стали только после того, как по всей Франции прошел слух, будто бы Жан Нико в 1560 году при помощи "целебной травы" - при помощи табака - исцелил Екатерину Медичи и ее сына Франциска II от головных болей. С этого момента табак стал быстро распространяться и использоваться при самых разных болезн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Савка\Desktop\1228132641_temp.jpg"/>
          <p:cNvPicPr/>
          <p:nvPr/>
        </p:nvPicPr>
        <p:blipFill>
          <a:blip r:embed="rId1"/>
          <a:stretch/>
        </p:blipFill>
        <p:spPr>
          <a:xfrm>
            <a:off x="5410080" y="3505320"/>
            <a:ext cx="3162600" cy="2820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Users\Савка\Desktop\images.jpg"/>
          <p:cNvPicPr/>
          <p:nvPr/>
        </p:nvPicPr>
        <p:blipFill>
          <a:blip r:embed="rId2"/>
          <a:stretch/>
        </p:blipFill>
        <p:spPr>
          <a:xfrm>
            <a:off x="5715000" y="457200"/>
            <a:ext cx="2344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ЕМНОГО ИСТОР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990720"/>
            <a:ext cx="533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табак появился в 16 веке и более-менее серьезно с ним боролись только в начале. Так, например, </a:t>
            </a:r>
            <a:r>
              <a:rPr b="0" lang="ru-RU" sz="26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царь Михаил Фёдорович приказывал казнить всякого, у кого найден таб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царь Алексей Михайлович издал следующий указ: «Каждого, у кого будет найден табак, мучить до тех пор, пока не выдаст имя человека, давшего оный». А вот после Петра I курение табака было признано нормальным делом даже на государственном уровн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51920"/>
            <a:ext cx="5105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таром Осколе природные условия позволяли выращивать табак, и уже в 1858 году купец Волчанский открыл в 20 квартале, почти напротив Михайловской церкви,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первую табачную фабрик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 Позднее туда же вложил свои капиталы купец Мешков. За ними последовал Порфирий Михайлович Лавринов и построил фабрику в 12 квартале за Успенской церковью. Известно, что перед революцией две табачные фабрики приносили оборот на сумму свыше 50 тысяч руб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Савка\Desktop\4678h.jpg"/>
          <p:cNvPicPr/>
          <p:nvPr/>
        </p:nvPicPr>
        <p:blipFill>
          <a:blip r:embed="rId2"/>
          <a:stretch/>
        </p:blipFill>
        <p:spPr>
          <a:xfrm>
            <a:off x="5105520" y="3962520"/>
            <a:ext cx="3551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Савка\Downloads\Nicotiana_alata.jpg"/>
          <p:cNvPicPr/>
          <p:nvPr/>
        </p:nvPicPr>
        <p:blipFill>
          <a:blip r:embed="rId3"/>
          <a:stretch/>
        </p:blipFill>
        <p:spPr>
          <a:xfrm>
            <a:off x="5562720" y="685800"/>
            <a:ext cx="26827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52280" y="304920"/>
            <a:ext cx="4267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моложе ребёнок, тем слабее у него защитные механизмы, тем быстрее курение разрушает его организм. У того, кто начал курить в детстве, к примеру, в 11-12 лет, можно ожидать развития к 35-40 годам сердечной недостаточности или рака лёгки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3" descr="C:\Users\Савка\Desktop\no-smoking-135.jpg"/>
          <p:cNvPicPr/>
          <p:nvPr/>
        </p:nvPicPr>
        <p:blipFill>
          <a:blip r:embed="rId1"/>
          <a:stretch/>
        </p:blipFill>
        <p:spPr>
          <a:xfrm>
            <a:off x="4419720" y="1295280"/>
            <a:ext cx="43052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-360" y="152280"/>
            <a:ext cx="8991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стал покуривать? А ведь знаешь, что курящие живут меньше и тяжело болеют в конце жизни. Но разве тебя напугаешь, юного и непутёвого, болезнями в старости? Рак лёгкого или инфаркт... Это так далеко. Тебя это пока не волнует. Но ведь болезни старости закладываются в детств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3"/>
          <p:cNvPicPr/>
          <p:nvPr/>
        </p:nvPicPr>
        <p:blipFill>
          <a:blip r:embed="rId1"/>
          <a:srcRect l="5739" t="0" r="0" b="0"/>
          <a:stretch/>
        </p:blipFill>
        <p:spPr>
          <a:xfrm>
            <a:off x="1523880" y="2971800"/>
            <a:ext cx="5867640" cy="36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хочешь казаться взрослым. Но оттого, что некоторые твои приятели начали курить, они не стали ни умней, ни взрослей. Так взрослыми не становятся. Помни, что дети, рано пристрастившиеся к курению, не отличаются крепким здоровьем. Они бледны, у них частые головные боли. Курящие дети хуже растут, слабее развиты физически. У них плохой сон и аппетит. Они нервны, раздражительны, быстрее устают, плохо запоминают новый учебный материал, неусидчивы, невнимательны и вообще хуже учатся, чем некурящи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"/>
          <p:cNvPicPr/>
          <p:nvPr/>
        </p:nvPicPr>
        <p:blipFill>
          <a:blip r:embed="rId1"/>
          <a:srcRect l="0" t="0" r="5649" b="3223"/>
          <a:stretch/>
        </p:blipFill>
        <p:spPr>
          <a:xfrm>
            <a:off x="914400" y="0"/>
            <a:ext cx="6705720" cy="66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520" y="228600"/>
            <a:ext cx="4038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ычно в среднем и пожилом возрасте курить не начинают. Жизненный опыт, мудрость, пришедшая с годами, не дадут сделать такой глупости. Это – удел безрассудной юности. Мальчишки, девчонки,  не делайте самой большой ошибки в жизни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1218645169_temp"/>
          <p:cNvPicPr/>
          <p:nvPr/>
        </p:nvPicPr>
        <p:blipFill>
          <a:blip r:embed="rId1"/>
          <a:stretch/>
        </p:blipFill>
        <p:spPr>
          <a:xfrm>
            <a:off x="4575240" y="457200"/>
            <a:ext cx="446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485640" y="299880"/>
            <a:ext cx="817272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НАД ПРОЕКТОМ РАБОТАЛИ: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УЧАЩИЕСЯ 6А КЛАССА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АНИСИМОВА АННА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ЧЕРМАШЕНЦЕВА АЛЕНА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АНДРЕЕВА АЛИНА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ТАРАСОВ КИРИЛЛ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 КЛАССНЫЙ РУКОВОДИТЕЛЬ -  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ЛИХУШИНА НАТАЛИЯ ИВАНОВН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6629400" y="5791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2-2013 уч.го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1920" y="533520"/>
            <a:ext cx="4419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росткам свойственно поступать вопреки советам взрослых и делать все наоборот. Средний курильщик тратит на сигареты около 9 125 рублей в год. Прикиньте, что бы вы могли сделать с такими деньгами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" descr="1226950416_neky"/>
          <p:cNvPicPr/>
          <p:nvPr/>
        </p:nvPicPr>
        <p:blipFill>
          <a:blip r:embed="rId1"/>
          <a:srcRect l="11233" t="20005" r="11508" b="0"/>
          <a:stretch/>
        </p:blipFill>
        <p:spPr>
          <a:xfrm>
            <a:off x="4876920" y="4572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6840" y="1519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е 6 секунд от курения умирает один житель нашей планеты! Не дадим никотину истребить нас!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C:\Users\Савка\Desktop\127e8c930a487f39674d87745af39327.jpg"/>
          <p:cNvPicPr/>
          <p:nvPr/>
        </p:nvPicPr>
        <p:blipFill>
          <a:blip r:embed="rId1"/>
          <a:stretch/>
        </p:blipFill>
        <p:spPr>
          <a:xfrm>
            <a:off x="1676520" y="2133720"/>
            <a:ext cx="5600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52280" y="22860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нство людей начинают употреблять табак еще до того, как заканчивают школу. Это значит, что если ты не закуришь в школе, то есть вероятность, что ты не закуришь никог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нство курящих подростков зависимы от никотина. Они хотят бросить курить, но не могут. Когда они пытаются бросить, они испытывают, так же как и взрослые, неприятные симптомы отме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иная курить, дети в большинстве случаев снижают успеваемость в школе. Они предпочитают общаться с теми детьми, которые тоже курят. Обычно у них низкая самооценка и они не знают, как сказать НЕТ табак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28600" y="2286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есть и хорошие тенденции! Дети в своих коллективах сами начинают предостерегать друг друга от курения, а еще есть разные программы, которые осложняют продажу сигарет детям в магазинах – все это помогает уберечь детей от таба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еще и появляются  законы запрещающие курение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Users\Савка\Desktop\no-smoking-370.jpg"/>
          <p:cNvPicPr/>
          <p:nvPr/>
        </p:nvPicPr>
        <p:blipFill>
          <a:blip r:embed="rId1"/>
          <a:stretch/>
        </p:blipFill>
        <p:spPr>
          <a:xfrm>
            <a:off x="5105520" y="1447920"/>
            <a:ext cx="3848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380520"/>
            <a:ext cx="3657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ША в последнее время активно борются с курением. Курение запрещено во всех общественных местах, а стоимость пачки сигарет в среднем уже дошла до восьми долларов. В некоторых странах борьба с курением ужесточилась до предела: в Северной Корее, например, курящих молодых людей не принимают в вузы, а студентов, у которых обнаружены симптомы никотиновой зависимости, из институтов отчисляют. А что же у нас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ОВОСТИ ИЗ ГОСДУМ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думе рассматривается законопроект, предложенный Минздравсоцразвития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в соответствии со взятыми Россией обязательств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 выполнению «Рамочной конвенции ВОЗ по борьбе с табаком» (FCTC). Фактически речь в законопроекте идет о полном искоренении никотиновой зависимости у насе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51920" y="304920"/>
            <a:ext cx="4953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гареты исчезнут с прилав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клама табака окажется под запретом. Купить «никотиновую отраву» можно будет только в крупных магазинах - выбирая по каталогу (выставлять этот товар на витрины не разрешат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отом вступит в силу полный запрет на курение - практически во всех местах, где могут находиться люд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C:\Users\Савка\Desktop\no-smoking-189.jpg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240" y="152280"/>
            <a:ext cx="472428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закона объявляются нюхательный и жевательный табак, а режиссерам российских фильмов запретят снимать курящих персонаж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Регионы получат право устанавливать еще более жесткие ограничения мест и условий продаж, а также мест, где запрещено курение, по своему усмотр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C:\Users\Савка\Desktop\no-smoking-80.jpg"/>
          <p:cNvPicPr/>
          <p:nvPr/>
        </p:nvPicPr>
        <p:blipFill>
          <a:blip r:embed="rId1"/>
          <a:stretch/>
        </p:blipFill>
        <p:spPr>
          <a:xfrm>
            <a:off x="4800600" y="1447920"/>
            <a:ext cx="4076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560" y="3049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Штраф за нарушение установленных правил составит по разным прогнозам от 3000 до 5000 рублей. При этом цены на табачные изделия будут расти ежегодно и большими темпами. В итоге цена на самые дешевые сигареты, которая сейчас меньше 20 рублей, может возрасти раза в т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2"/>
          <p:cNvPicPr/>
          <p:nvPr/>
        </p:nvPicPr>
        <p:blipFill>
          <a:blip r:embed="rId1"/>
          <a:stretch/>
        </p:blipFill>
        <p:spPr>
          <a:xfrm>
            <a:off x="2514600" y="3505320"/>
            <a:ext cx="42321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Савка</cp:lastModifiedBy>
  <dcterms:modified xsi:type="dcterms:W3CDTF">2012-12-09T17:35:5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