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32E-F1D8-4750-B498-676D99E7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9F6-8963-4623-9D75-79539446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A46-DFEB-42F1-B60A-9DA4488F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D5B-715F-44EB-AA17-C16B554A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5829-1C5E-42FB-BABD-61D79E1F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066F-41F4-4E2D-B24B-0B7C7F50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02B5-F653-435B-9BEA-25875A4B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610B-FBF6-43DB-A084-40635BB9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80BC-15C0-4E74-BD5B-95892A37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040F-8A0A-4DC5-8AE7-588E5974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4042-FA47-4C2E-8AD3-810FA9E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B58-570E-486C-8BA2-42240BA5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5475-190B-4768-AFD7-037F28B6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2B26-5DC4-4AA2-81FF-906D1D8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70ED-3AFB-45C7-A4BB-790F017F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633C-5CA8-43DD-A940-63E3615B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DCF3-2FC4-48E1-9937-0B88160E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CB3-B2A6-4248-96E6-7FAEEE5B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3A7-CE41-4C4F-85E2-423B0984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CBF-B8E8-4AFE-8773-453E9E6F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F8A-D20F-45E7-8491-4FFF86EE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5BF-BA78-4264-874C-FBF627B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EEE-57A2-4D5D-9D3A-8D788EC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3FE-D5FF-49BD-9E22-62223FDC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1C55-C986-41B7-8BB2-AA85A9CCA8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0AD3-A539-459E-840F-8AF833A2ED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996633"/>
                </a:solidFill>
                <a:latin typeface="Times New Roman"/>
              </a:rPr>
              <a:t>Материалы к уроку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очная работа по окружающе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: Макшакова  Т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ей № 5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2-2013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Проверочная рабо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1 Лед и снег – это вод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в твердом состоя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в жидком состоя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в газообразном состоя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2 За счет чего зимой могут лопаться водопроводные труб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 вода превращается в лед и расширяет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вода превращается в лед и сжимает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повреждение труб с водой не связа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Продол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3 К какой природе можно отнести почв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к живо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к неживо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неживая и живая природа в почве соединя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4 Что растения получают из почв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 перегной ,песок, гли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 воздух, воду, со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 остатки растений и животн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Продолжение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00"/>
                </a:solidFill>
                <a:latin typeface="Times New Roman"/>
              </a:rPr>
              <a:t>5 Что влияет на плодородие почв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00"/>
                </a:solidFill>
                <a:latin typeface="Times New Roman"/>
              </a:rPr>
              <a:t>-наличие в почве перегно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00"/>
                </a:solidFill>
                <a:latin typeface="Times New Roman"/>
              </a:rPr>
              <a:t>-наличие в почве вод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00"/>
                </a:solidFill>
                <a:latin typeface="Times New Roman"/>
              </a:rPr>
              <a:t>-наличие в почве песка и гл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00"/>
                </a:solidFill>
                <a:latin typeface="Times New Roman"/>
              </a:rPr>
              <a:t>6 Как называется наука о растения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00"/>
                </a:solidFill>
                <a:latin typeface="Times New Roman"/>
              </a:rPr>
              <a:t>-ботан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00"/>
                </a:solidFill>
                <a:latin typeface="Times New Roman"/>
              </a:rPr>
              <a:t>-зоолог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00"/>
                </a:solidFill>
                <a:latin typeface="Times New Roman"/>
              </a:rPr>
              <a:t>-астроном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одол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7 Какое важное вещество образуется в листе вместе с питательным веществ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азо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углекислый га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кислор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8 Как называется наука о животны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ботани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зо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астроном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Продол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9 Какое из указанных животных относится к рыб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дельфин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бегемо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 кар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10 Какие из указанных животных относятся к растительноядны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коровы ,бегемоты, жираф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волки ,лисы, каба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-лоси, тюлени, ки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Продол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 Какая  из цепей питания указана правильн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сосна, дятел , жук-короед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слизень, капуста, жаб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рожь, мышь, змея, ор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2 В какой строчке указаны  только веще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алюминий, железо, мед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алюминиевая кастрюля, железная кочерга, медный та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кусок сахара, капля росы, кристалл со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Повтори все темы за вторую четверть.</a:t>
            </a:r>
            <a:br>
              <a:rPr sz="36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Подготовься к тесту и проверочной работе за четвер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Успехов! Не ленис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учеба,снова в школу,фон,книги,сиреневый,узоры,фиолетовые,чтение,в полоску"/>
          <p:cNvPicPr/>
          <p:nvPr/>
        </p:nvPicPr>
        <p:blipFill>
          <a:blip r:embed="rId1"/>
          <a:stretch/>
        </p:blipFill>
        <p:spPr>
          <a:xfrm>
            <a:off x="5435640" y="3429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изображения людей,изображения мужчин,изучение,люди в очках,малыши,мальчики,молодежь,подростки,руки в волосах,свитера,учеба,фотографии"/>
          <p:cNvPicPr/>
          <p:nvPr/>
        </p:nvPicPr>
        <p:blipFill>
          <a:blip r:embed="rId2"/>
          <a:stretch/>
        </p:blipFill>
        <p:spPr>
          <a:xfrm>
            <a:off x="826920" y="3500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канцелярские товары,карандаши,компании,подставки для карандашей,учеба,фотографии,школьные принадлежности"/>
          <p:cNvPicPr/>
          <p:nvPr/>
        </p:nvPicPr>
        <p:blipFill>
          <a:blip r:embed="rId1"/>
          <a:stretch/>
        </p:blipFill>
        <p:spPr>
          <a:xfrm>
            <a:off x="-36360" y="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тома,учеба,учебники,фотографии"/>
          <p:cNvPicPr/>
          <p:nvPr/>
        </p:nvPicPr>
        <p:blipFill>
          <a:blip r:embed="rId2"/>
          <a:stretch/>
        </p:blipFill>
        <p:spPr>
          <a:xfrm>
            <a:off x="3059280" y="907920"/>
            <a:ext cx="3095280" cy="309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выражения,девочки,девушки,люди,студенты,ухмылки,учеба,учебники,фотографии"/>
          <p:cNvPicPr/>
          <p:nvPr/>
        </p:nvPicPr>
        <p:blipFill>
          <a:blip r:embed="rId3"/>
          <a:stretch/>
        </p:blipFill>
        <p:spPr>
          <a:xfrm>
            <a:off x="5796000" y="3573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7:31:08Z</dcterms:created>
  <dc:creator>Татьяна</dc:creator>
  <dc:description/>
  <dc:language>en-US</dc:language>
  <cp:lastModifiedBy>Татьяна</cp:lastModifiedBy>
  <dcterms:modified xsi:type="dcterms:W3CDTF">2012-12-09T18:49:54Z</dcterms:modified>
  <cp:revision>9</cp:revision>
  <dc:subject/>
  <dc:title>    Материалы к уроку</dc:title>
</cp:coreProperties>
</file>