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wmf" ContentType="image/x-wmf"/>
  <Override PartName="/ppt/media/image7.png" ContentType="image/png"/>
  <Override PartName="/ppt/media/laser.wav" ContentType="audio/x-wav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A54-F1D5-4AF6-9EE0-E8DC1A3A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B56-44DD-4863-8AA6-6F89A006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1F8-74B2-4699-A6BD-9CB9705C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EE5-7A22-4F57-B30E-813CEA80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CA9-4ECD-47C8-8864-82E3527B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7EE-C7CE-41F5-9ACF-F2894E7F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0EF-FB11-43B4-BD82-DD53F89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0F6-AB8D-430D-9B59-6858280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FCD-66CF-4846-A1AB-79A0392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C4F-0527-4D43-9225-2BDC67C4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0F9-74DB-405D-A4F9-6DF4905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061-3CFC-45DA-B365-7F7DFBA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9128-75F7-4CA9-AE84-B0FC12A2C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0680" y="5337000"/>
            <a:ext cx="8348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БОУ "Большекалмыкская СОШ"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3" name="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762120" y="3352680"/>
            <a:ext cx="71625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лощадь круга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666880"/>
            <a:ext cx="723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атериал для сопровождения урока математики в 6 кл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57200"/>
            <a:ext cx="73911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лина окружности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23920" y="274680"/>
            <a:ext cx="3962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ужность ствола 25,2 м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пределите диаметр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91120" cy="452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еперь ребята в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стро руки вверх подня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ороны, вперед,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рнулись влево, 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о сели, вновь за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62320" y="5410080"/>
            <a:ext cx="380880" cy="3812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876920"/>
            <a:ext cx="380880" cy="3045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343400"/>
            <a:ext cx="380880" cy="3049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809880"/>
            <a:ext cx="380880" cy="3049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276720"/>
            <a:ext cx="457200" cy="3045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666880"/>
            <a:ext cx="457200" cy="3812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209680"/>
            <a:ext cx="457200" cy="228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ина окружности вычисляется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;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С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     Д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Площадь круга вычисляется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/2;       B) s=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;      C) s=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;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 Чис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π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,34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  3,14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31,4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4,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 r=5. 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31,4;      В) 3,14;        С) 314;          Д) 1,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r=5. 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31,4;      В) 78,5;        С) 225;         Д) 3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 Чему равен r,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8,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2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  3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)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  Чему равен r,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2,5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2,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 3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йте вспомним, что сегодня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ли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м понравился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мы с вами занима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считаете, все ли мы повтори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те свои знания по эт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867280" y="228600"/>
            <a:ext cx="2895840" cy="3962160"/>
            <a:chOff x="5867280" y="228600"/>
            <a:chExt cx="2895840" cy="39621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 flipH="1">
              <a:off x="6248160" y="609480"/>
              <a:ext cx="218916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867280" y="228600"/>
              <a:ext cx="2895840" cy="3962160"/>
            </a:xfrm>
            <a:custGeom>
              <a:avLst/>
              <a:gdLst/>
              <a:ahLst/>
              <a:rect l="l" t="t" r="r" b="b"/>
              <a:pathLst>
                <a:path w="2498" h="3084">
                  <a:moveTo>
                    <a:pt x="289" y="316"/>
                  </a:moveTo>
                  <a:lnTo>
                    <a:pt x="2232" y="316"/>
                  </a:lnTo>
                  <a:lnTo>
                    <a:pt x="2232" y="2810"/>
                  </a:lnTo>
                  <a:lnTo>
                    <a:pt x="288" y="2820"/>
                  </a:lnTo>
                  <a:lnTo>
                    <a:pt x="3" y="3049"/>
                  </a:lnTo>
                  <a:lnTo>
                    <a:pt x="0" y="3072"/>
                  </a:lnTo>
                  <a:lnTo>
                    <a:pt x="2460" y="3084"/>
                  </a:lnTo>
                  <a:lnTo>
                    <a:pt x="2447" y="3058"/>
                  </a:lnTo>
                  <a:lnTo>
                    <a:pt x="2234" y="2807"/>
                  </a:lnTo>
                  <a:lnTo>
                    <a:pt x="2447" y="3065"/>
                  </a:lnTo>
                  <a:lnTo>
                    <a:pt x="2447" y="3072"/>
                  </a:lnTo>
                  <a:lnTo>
                    <a:pt x="2472" y="3084"/>
                  </a:lnTo>
                  <a:lnTo>
                    <a:pt x="2498" y="3"/>
                  </a:lnTo>
                  <a:lnTo>
                    <a:pt x="2234" y="321"/>
                  </a:lnTo>
                  <a:lnTo>
                    <a:pt x="2498" y="3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12" y="0"/>
                  </a:lnTo>
                  <a:lnTo>
                    <a:pt x="0" y="3051"/>
                  </a:lnTo>
                  <a:lnTo>
                    <a:pt x="25" y="3"/>
                  </a:lnTo>
                  <a:lnTo>
                    <a:pt x="267" y="293"/>
                  </a:lnTo>
                  <a:lnTo>
                    <a:pt x="270" y="2835"/>
                  </a:lnTo>
                  <a:lnTo>
                    <a:pt x="6" y="3044"/>
                  </a:lnTo>
                  <a:lnTo>
                    <a:pt x="6" y="3058"/>
                  </a:lnTo>
                  <a:lnTo>
                    <a:pt x="12" y="12"/>
                  </a:lnTo>
                  <a:lnTo>
                    <a:pt x="42" y="0"/>
                  </a:lnTo>
                  <a:lnTo>
                    <a:pt x="31" y="14"/>
                  </a:lnTo>
                  <a:lnTo>
                    <a:pt x="289" y="31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04920" y="3200400"/>
            <a:ext cx="4572000" cy="3352680"/>
            <a:chOff x="304920" y="3200400"/>
            <a:chExt cx="4572000" cy="335268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838080" y="3581280"/>
              <a:ext cx="350532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04920" y="3200400"/>
              <a:ext cx="4572000" cy="3352680"/>
            </a:xfrm>
            <a:custGeom>
              <a:avLst/>
              <a:gdLst/>
              <a:ahLst/>
              <a:rect l="l" t="t" r="r" b="b"/>
              <a:pathLst>
                <a:path w="2498" h="3084">
                  <a:moveTo>
                    <a:pt x="289" y="316"/>
                  </a:moveTo>
                  <a:lnTo>
                    <a:pt x="2232" y="316"/>
                  </a:lnTo>
                  <a:lnTo>
                    <a:pt x="2232" y="2810"/>
                  </a:lnTo>
                  <a:lnTo>
                    <a:pt x="288" y="2820"/>
                  </a:lnTo>
                  <a:lnTo>
                    <a:pt x="3" y="3049"/>
                  </a:lnTo>
                  <a:lnTo>
                    <a:pt x="0" y="3072"/>
                  </a:lnTo>
                  <a:lnTo>
                    <a:pt x="2460" y="3084"/>
                  </a:lnTo>
                  <a:lnTo>
                    <a:pt x="2447" y="3058"/>
                  </a:lnTo>
                  <a:lnTo>
                    <a:pt x="2234" y="2807"/>
                  </a:lnTo>
                  <a:lnTo>
                    <a:pt x="2447" y="3065"/>
                  </a:lnTo>
                  <a:lnTo>
                    <a:pt x="2447" y="3072"/>
                  </a:lnTo>
                  <a:lnTo>
                    <a:pt x="2472" y="3084"/>
                  </a:lnTo>
                  <a:lnTo>
                    <a:pt x="2498" y="3"/>
                  </a:lnTo>
                  <a:lnTo>
                    <a:pt x="2234" y="321"/>
                  </a:lnTo>
                  <a:lnTo>
                    <a:pt x="2498" y="3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12" y="0"/>
                  </a:lnTo>
                  <a:lnTo>
                    <a:pt x="0" y="3051"/>
                  </a:lnTo>
                  <a:lnTo>
                    <a:pt x="25" y="3"/>
                  </a:lnTo>
                  <a:lnTo>
                    <a:pt x="267" y="293"/>
                  </a:lnTo>
                  <a:lnTo>
                    <a:pt x="270" y="2835"/>
                  </a:lnTo>
                  <a:lnTo>
                    <a:pt x="6" y="3044"/>
                  </a:lnTo>
                  <a:lnTo>
                    <a:pt x="6" y="3058"/>
                  </a:lnTo>
                  <a:lnTo>
                    <a:pt x="12" y="12"/>
                  </a:lnTo>
                  <a:lnTo>
                    <a:pt x="42" y="0"/>
                  </a:lnTo>
                  <a:lnTo>
                    <a:pt x="31" y="14"/>
                  </a:lnTo>
                  <a:lnTo>
                    <a:pt x="289" y="316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295280" y="5486400"/>
            <a:ext cx="609840" cy="609480"/>
            <a:chOff x="1295280" y="5486400"/>
            <a:chExt cx="609840" cy="609480"/>
          </a:xfrm>
        </p:grpSpPr>
        <p:sp>
          <p:nvSpPr>
            <p:cNvPr id="61" name=""/>
            <p:cNvSpPr/>
            <p:nvPr/>
          </p:nvSpPr>
          <p:spPr>
            <a:xfrm>
              <a:off x="1295280" y="5486400"/>
              <a:ext cx="609840" cy="609480"/>
            </a:xfrm>
            <a:custGeom>
              <a:avLst/>
              <a:gdLst>
                <a:gd name="textAreaLeft" fmla="*/ 286920 w 609840"/>
                <a:gd name="textAreaRight" fmla="*/ 322920 w 609840"/>
                <a:gd name="textAreaTop" fmla="*/ 286920 h 609480"/>
                <a:gd name="textAreaBottom" fmla="*/ 322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7" y="10972"/>
                  </a:lnTo>
                  <a:lnTo>
                    <a:pt x="786" y="14846"/>
                  </a:lnTo>
                  <a:lnTo>
                    <a:pt x="10045" y="11290"/>
                  </a:lnTo>
                  <a:lnTo>
                    <a:pt x="3163" y="18437"/>
                  </a:lnTo>
                  <a:lnTo>
                    <a:pt x="10297" y="11546"/>
                  </a:lnTo>
                  <a:lnTo>
                    <a:pt x="6580" y="20741"/>
                  </a:lnTo>
                  <a:lnTo>
                    <a:pt x="10613" y="11680"/>
                  </a:lnTo>
                  <a:lnTo>
                    <a:pt x="10800" y="21600"/>
                  </a:lnTo>
                  <a:lnTo>
                    <a:pt x="10972" y="11683"/>
                  </a:lnTo>
                  <a:lnTo>
                    <a:pt x="14846" y="20814"/>
                  </a:lnTo>
                  <a:lnTo>
                    <a:pt x="11290" y="11555"/>
                  </a:lnTo>
                  <a:lnTo>
                    <a:pt x="18437" y="18437"/>
                  </a:lnTo>
                  <a:lnTo>
                    <a:pt x="11546" y="11303"/>
                  </a:lnTo>
                  <a:lnTo>
                    <a:pt x="20741" y="15020"/>
                  </a:lnTo>
                  <a:lnTo>
                    <a:pt x="11680" y="10987"/>
                  </a:lnTo>
                  <a:lnTo>
                    <a:pt x="21600" y="10800"/>
                  </a:lnTo>
                  <a:lnTo>
                    <a:pt x="11683" y="10628"/>
                  </a:lnTo>
                  <a:lnTo>
                    <a:pt x="20814" y="6754"/>
                  </a:lnTo>
                  <a:lnTo>
                    <a:pt x="11555" y="10310"/>
                  </a:lnTo>
                  <a:lnTo>
                    <a:pt x="18437" y="3163"/>
                  </a:lnTo>
                  <a:lnTo>
                    <a:pt x="11303" y="10054"/>
                  </a:lnTo>
                  <a:lnTo>
                    <a:pt x="15020" y="859"/>
                  </a:lnTo>
                  <a:lnTo>
                    <a:pt x="10987" y="9920"/>
                  </a:lnTo>
                  <a:lnTo>
                    <a:pt x="10800" y="0"/>
                  </a:lnTo>
                  <a:lnTo>
                    <a:pt x="10628" y="9917"/>
                  </a:lnTo>
                  <a:lnTo>
                    <a:pt x="6754" y="786"/>
                  </a:lnTo>
                  <a:lnTo>
                    <a:pt x="10310" y="10045"/>
                  </a:lnTo>
                  <a:lnTo>
                    <a:pt x="3163" y="3163"/>
                  </a:lnTo>
                  <a:lnTo>
                    <a:pt x="10054" y="10297"/>
                  </a:lnTo>
                  <a:lnTo>
                    <a:pt x="859" y="6580"/>
                  </a:lnTo>
                  <a:lnTo>
                    <a:pt x="9920" y="1061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5486400"/>
              <a:ext cx="609840" cy="609480"/>
            </a:xfrm>
            <a:prstGeom prst="ellipse">
              <a:avLst/>
            </a:prstGeom>
            <a:noFill/>
            <a:ln w="57240">
              <a:solidFill>
                <a:srgbClr val="5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3880" y="5715000"/>
              <a:ext cx="152640" cy="152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3341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евние греки считали окружность совершеннейшей и «самой круглой» фигурой. Также считают и колесо – одно из самых замечательных изобретений челове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73333 0.01112 E">
                                      <p:cBhvr>
                                        <p:cTn id="18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ор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йте соберем разбежавшиеся прав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36003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формулу площади к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равно отношение длины окружности к длине диаме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сать формулу для вычисления длины окруж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жите на чертеже : центр, радиус, диа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т"/>
          <p:cNvPicPr/>
          <p:nvPr/>
        </p:nvPicPr>
        <p:blipFill>
          <a:blip r:embed="rId1"/>
          <a:stretch/>
        </p:blipFill>
        <p:spPr>
          <a:xfrm>
            <a:off x="6934320" y="3733920"/>
            <a:ext cx="187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4419360" cy="4343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905120"/>
            <a:ext cx="0" cy="21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3" idx="6"/>
            <a:endCxn id="73" idx="2"/>
          </p:cNvCxnSpPr>
          <p:nvPr/>
        </p:nvCxnSpPr>
        <p:spPr>
          <a:xfrm flipH="1">
            <a:off x="747360" y="4076280"/>
            <a:ext cx="44488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2895480" y="3962520"/>
            <a:ext cx="152640" cy="15228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37339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257800" y="3809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90920" y="350532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19520" y="13716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диаметр окружности, если радиус равен 4см, 0.2 см, ½ с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длину окружности, если диаметр равен 1см, 10 см, 0.1 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площадь круга, если радиус равен 1 см, 10 см, если диаметр равен 2 с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Рисунок1цыц"/>
          <p:cNvPicPr/>
          <p:nvPr/>
        </p:nvPicPr>
        <p:blipFill>
          <a:blip r:embed="rId1"/>
          <a:stretch/>
        </p:blipFill>
        <p:spPr>
          <a:xfrm>
            <a:off x="228600" y="0"/>
            <a:ext cx="1871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2406600" cy="45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2438280"/>
                <a:ext cx="9270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29200" y="3429000"/>
                <a:ext cx="1170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≈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191120" y="4572000"/>
                <a:ext cx="1155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28600" y="155196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буквой греческого слова «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Я» - ОКРУЖ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361600"/>
            <a:ext cx="3809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рхимед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. до н.э.) счит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958480"/>
            <a:ext cx="4724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тайские учёны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. использов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251240"/>
            <a:ext cx="3886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. Цзу Чуп Чжи  счит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0" y="2133720"/>
            <a:ext cx="4191120" cy="297180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133720"/>
            <a:ext cx="3962160" cy="297180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немоник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думывание стихотворных, легко запоминающихся фраз, число букв, в каждом слове которых указывает соответствующую циф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бы нам не ошиб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о правильно проче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и, четырнадцать, пятн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вяносто два и  ш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жно только постар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запомнить все как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и, четырнадцать, пятн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вяносто два и ш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05604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"/>
          <p:cNvSpPr/>
          <p:nvPr/>
        </p:nvSpPr>
        <p:spPr>
          <a:xfrm>
            <a:off x="4267080" y="1447920"/>
            <a:ext cx="4267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амет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вола мамонтова дерева равен 10 м. Определить длину окружности ство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,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9T12:02:2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