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A1F-8A8E-49BC-9F66-D2E4B96C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B09-593E-4228-BC09-5F75329C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F7F-AED5-4752-8839-623596D4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6F0-554C-4E68-BDED-ED6B39DA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EFA-8EC1-484D-AF5E-4B1163F5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236-0218-4B90-8491-61C0118D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8BB-D738-47A4-B544-8A640883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664-8332-41ED-A704-B8CAB928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929-9458-45BB-A623-28A18A55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E2C-703C-4A1F-AFF3-5903460F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AC6-4B35-41DD-9436-D53275E3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EC2-B0E4-4A0F-B348-49180FF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7B6D-3649-45B6-94AD-B4EAD8F90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«Одноименные стихотворения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усских поэтов 20 века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Д.Б. Кедрина  и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А.А. Прокофьев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12000" y="4653000"/>
            <a:ext cx="255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литературы в 5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72 из 5852"/>
          <p:cNvPicPr/>
          <p:nvPr/>
        </p:nvPicPr>
        <p:blipFill>
          <a:blip r:embed="rId1"/>
          <a:stretch/>
        </p:blipFill>
        <p:spPr>
          <a:xfrm>
            <a:off x="179280" y="2852640"/>
            <a:ext cx="5077080" cy="38005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«Алёнушк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843280" y="1125000"/>
            <a:ext cx="584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ую картину вы видите в этом стихотвор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у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илая Алёнушк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укушка, солнце, тропинк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Картинка 1 из 1894"/>
          <p:cNvPicPr/>
          <p:nvPr/>
        </p:nvPicPr>
        <p:blipFill>
          <a:blip r:embed="rId1"/>
          <a:stretch/>
        </p:blipFill>
        <p:spPr>
          <a:xfrm>
            <a:off x="539640" y="1557360"/>
            <a:ext cx="2303640" cy="36003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07" name="Text Box 6"/>
          <p:cNvSpPr/>
          <p:nvPr/>
        </p:nvSpPr>
        <p:spPr>
          <a:xfrm>
            <a:off x="179280" y="5084640"/>
            <a:ext cx="396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. А. Прокофь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1900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643280" y="220500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«заглохший весь в зелёной ряске», «тростник качается», «мертва в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924360" y="422100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«прост венок», «красен от гвоздик, от лилий бел»; «платье синее»- «тополиный пу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771640" y="6308640"/>
            <a:ext cx="5832720" cy="4597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«щедро золотые обручи кладё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156360" y="189000"/>
            <a:ext cx="2735280" cy="155700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смысление картины Васнецова: оча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7524720" y="765000"/>
            <a:ext cx="1619280" cy="5904000"/>
          </a:xfrm>
          <a:custGeom>
            <a:avLst/>
            <a:gdLst>
              <a:gd name="textAreaLeft" fmla="*/ 0 w 1619280"/>
              <a:gd name="textAreaRight" fmla="*/ 584640 w 161928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равните картину Васнецова и стихотворение Прокофьева. Похожи ли они?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28080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Об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«пруд заглохший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« тростник качается»,  «мертва в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вет: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елёный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8000" y="1916280"/>
            <a:ext cx="4038480" cy="45259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Раз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«прост вено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«тополиный пух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«платье сине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сосна, тропинка солнечные лучи , отражающиеся в воде, золотые обр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Цвет: красный, 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синий, белый, золотой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1908000" y="1268280"/>
            <a:ext cx="648000" cy="72072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3851280" y="1341360"/>
            <a:ext cx="1441440" cy="50328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 rot="8769600">
            <a:off x="4140000" y="5877000"/>
            <a:ext cx="1225440" cy="72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50920" y="5373720"/>
            <a:ext cx="403380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Надежда на счас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автор сближает образ Родины со сказочными мотив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Эпитет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Олицетворен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Метафор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Сравн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Звукопись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Недосказанность, раздумь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916360" y="162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132000" y="1484280"/>
            <a:ext cx="51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«Родина неяркая». «Сила лихая». «Заглохший пру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067280" y="234936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«Ты вынесла». «Тропинка ведё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419640" y="2637000"/>
            <a:ext cx="54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«Вотчина ночного соловья». «Золотые обруч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564000" y="342900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«Как в сказке… Алёнушка сиди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276720" y="4005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«Кукушка на сосне куку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050920" y="5084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есенку Алёнушки поёш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5112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Можно ли считать стихотворения двух поэтов словесным пересказом картины В. Васнецова «Алёнушк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Близки по настроению, но разные по содерж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Д.Кедрин и А. Прокофьев выразили своё впечатление от картины, передав в своих стихотворениях любовь к родной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«Синквейн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Родна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Таинственная нетл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е умрёт вынесла  очаров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оэт надеется на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Картинка 1 из 114464"/>
          <p:cNvPicPr/>
          <p:nvPr/>
        </p:nvPicPr>
        <p:blipFill>
          <a:blip r:embed="rId1"/>
          <a:stretch/>
        </p:blipFill>
        <p:spPr>
          <a:xfrm>
            <a:off x="1332000" y="1773360"/>
            <a:ext cx="6192720" cy="40320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ыучить наизусть стихотворение на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Монгуш Е.М., учитель русского языка и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i?id=300963276-36-72"/>
          <p:cNvPicPr/>
          <p:nvPr/>
        </p:nvPicPr>
        <p:blipFill>
          <a:blip r:embed="rId1"/>
          <a:stretch/>
        </p:blipFill>
        <p:spPr>
          <a:xfrm>
            <a:off x="155520" y="4608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материа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рёмина О.А. Поурочное план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люстрации: ресурсы Интерн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учающа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навыки сравнительного анализа стихотво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ь связи литературы с другими видами искус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тить словарный запас пятикласс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Развивающ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в каждом ученике творческого читателя, тонкого ценителя искус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коммуникативную, речевую деятельность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оспитательн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ивать интерес к искус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чувство прекрас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ак вы понимаете тему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Стихотворение с одинаковым именем, наз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 из 4"/>
          <p:cNvPicPr/>
          <p:nvPr/>
        </p:nvPicPr>
        <p:blipFill>
          <a:blip r:embed="rId1"/>
          <a:stretch/>
        </p:blipFill>
        <p:spPr>
          <a:xfrm>
            <a:off x="539640" y="2637000"/>
            <a:ext cx="2476440" cy="38098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49" name="Picture 7" descr="Картинка 1 из 1894"/>
          <p:cNvPicPr/>
          <p:nvPr/>
        </p:nvPicPr>
        <p:blipFill>
          <a:blip r:embed="rId2"/>
          <a:stretch/>
        </p:blipFill>
        <p:spPr>
          <a:xfrm>
            <a:off x="4356000" y="2852640"/>
            <a:ext cx="2303640" cy="3600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250920" y="5877000"/>
            <a:ext cx="302400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Дмитрий Борисович Кедрин (1907-19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140360" y="6021360"/>
            <a:ext cx="345600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Александр Андреевич Прокофьев (1900-19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огадались, как называется стихотворение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м сказки бабушка читала                                            Про беззаботного Емел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ро Золушку прост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ро рыбку золот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И про бессмертного Каще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о лишь одна пришлась по серд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м эта сказка часто сн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ы очень любим слу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ак братика Ваню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пасает старшая сестриц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Картинка 1 из 741"/>
          <p:cNvPicPr/>
          <p:nvPr/>
        </p:nvPicPr>
        <p:blipFill>
          <a:blip r:embed="rId1"/>
          <a:stretch/>
        </p:blipFill>
        <p:spPr>
          <a:xfrm>
            <a:off x="539640" y="1484280"/>
            <a:ext cx="2762280" cy="380988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55" name="Picture 7" descr="i?id=51313740-49-72&amp;n=17"/>
          <p:cNvPicPr/>
          <p:nvPr/>
        </p:nvPicPr>
        <p:blipFill>
          <a:blip r:embed="rId2"/>
          <a:stretch/>
        </p:blipFill>
        <p:spPr>
          <a:xfrm>
            <a:off x="7380360" y="2492280"/>
            <a:ext cx="1238040" cy="14288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56" name="Picture 9" descr="i?id=327307075-35-72&amp;n=17"/>
          <p:cNvPicPr/>
          <p:nvPr/>
        </p:nvPicPr>
        <p:blipFill>
          <a:blip r:embed="rId3"/>
          <a:stretch/>
        </p:blipFill>
        <p:spPr>
          <a:xfrm>
            <a:off x="5219640" y="19162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i?id=321052092-51-72&amp;n=17"/>
          <p:cNvPicPr/>
          <p:nvPr/>
        </p:nvPicPr>
        <p:blipFill>
          <a:blip r:embed="rId4"/>
          <a:stretch/>
        </p:blipFill>
        <p:spPr>
          <a:xfrm>
            <a:off x="6804000" y="981000"/>
            <a:ext cx="1905120" cy="14288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58" name="Picture 13" descr="i?id=388822085-47-72&amp;n=17"/>
          <p:cNvPicPr/>
          <p:nvPr/>
        </p:nvPicPr>
        <p:blipFill>
          <a:blip r:embed="rId5"/>
          <a:stretch/>
        </p:blipFill>
        <p:spPr>
          <a:xfrm>
            <a:off x="2627280" y="5084640"/>
            <a:ext cx="1085760" cy="14288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59" name="Text Box 14"/>
          <p:cNvSpPr/>
          <p:nvPr/>
        </p:nvSpPr>
        <p:spPr>
          <a:xfrm>
            <a:off x="250920" y="5300640"/>
            <a:ext cx="252072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ртина «Алёнушка». В. Васнец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325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Картинка 1 из 4"/>
          <p:cNvPicPr/>
          <p:nvPr/>
        </p:nvPicPr>
        <p:blipFill>
          <a:blip r:embed="rId1"/>
          <a:stretch/>
        </p:blipFill>
        <p:spPr>
          <a:xfrm>
            <a:off x="468360" y="1341360"/>
            <a:ext cx="2666880" cy="4095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62" name="Rectangle 5"/>
          <p:cNvSpPr/>
          <p:nvPr/>
        </p:nvSpPr>
        <p:spPr>
          <a:xfrm>
            <a:off x="213480" y="5445000"/>
            <a:ext cx="340848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митрий Борисович Кед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907-1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189000"/>
            <a:ext cx="5545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Стойбищ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1. в Сибири: временная стоянка кочев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2. место отдыха животных, находящихся на пастбищ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Вотч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1. в России – родословное наследств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земельное влад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2. разговорное:  место, где кто – либо чувствует с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лновластным хозя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Нетленная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1.  не поверженная тлению, никогда не исчезающая, веч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Омут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-  1. глубокая яма на дне оз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867280" y="1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«Алёнуш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268360" y="2924280"/>
            <a:ext cx="2592720" cy="2305080"/>
          </a:xfrm>
          <a:custGeom>
            <a:avLst/>
            <a:gdLst>
              <a:gd name="textAreaLeft" fmla="*/ 591840 w 2592720"/>
              <a:gd name="textAreaRight" fmla="*/ 2000880 w 2592720"/>
              <a:gd name="textAreaTop" fmla="*/ 525960 h 2305080"/>
              <a:gd name="textAreaBottom" fmla="*/ 1779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о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5364000" y="981000"/>
            <a:ext cx="2880000" cy="273708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Цар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есмея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611280" y="1484280"/>
            <a:ext cx="3240000" cy="1440000"/>
          </a:xfrm>
          <a:prstGeom prst="cloudCallout">
            <a:avLst>
              <a:gd name="adj1" fmla="val -43875"/>
              <a:gd name="adj2" fmla="val 46032"/>
            </a:avLst>
          </a:prstGeom>
          <a:solidFill>
            <a:srgbClr val="bbe0e3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тойбище осеннего ту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932360" y="4076640"/>
            <a:ext cx="3743280" cy="2232000"/>
          </a:xfrm>
          <a:prstGeom prst="irregularSeal2">
            <a:avLst/>
          </a:prstGeom>
          <a:solidFill>
            <a:srgbClr val="99cc00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отчина ноч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ол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68360" y="260280"/>
            <a:ext cx="4824360" cy="947160"/>
          </a:xfrm>
          <a:prstGeom prst="rect">
            <a:avLst/>
          </a:prstGeom>
          <a:solidFill>
            <a:srgbClr val="ffcc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Метафоры. Мир особый, не познанный 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50920" y="4581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основные обр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Какую картину нарисовал авт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611280" y="1052640"/>
            <a:ext cx="3097080" cy="107928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Стойб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4572000" y="981000"/>
            <a:ext cx="3168720" cy="1008000"/>
          </a:xfrm>
          <a:prstGeom prst="ellipse">
            <a:avLst/>
          </a:prstGeom>
          <a:solidFill>
            <a:srgbClr val="99cc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от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9640" y="4076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684360" y="2205000"/>
            <a:ext cx="2592360" cy="1368360"/>
          </a:xfrm>
          <a:prstGeom prst="downArrowCallout">
            <a:avLst>
              <a:gd name="adj1" fmla="val 47367"/>
              <a:gd name="adj2" fmla="val 47363"/>
              <a:gd name="adj3" fmla="val 16667"/>
              <a:gd name="adj4" fmla="val 6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сравн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68360" y="3716280"/>
            <a:ext cx="2590920" cy="825480"/>
          </a:xfrm>
          <a:prstGeom prst="rect">
            <a:avLst/>
          </a:prstGeom>
          <a:solidFill>
            <a:srgbClr val="80808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очевники  на ночле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24000" y="5084640"/>
            <a:ext cx="597672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тумане видим странные фигуры, похожие на головы коней, на фигуры людей в необычных одеждах, на кибитки, крытые войло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0" y="0"/>
            <a:ext cx="468360" cy="6502320"/>
          </a:xfrm>
          <a:prstGeom prst="rect">
            <a:avLst/>
          </a:prstGeom>
          <a:solidFill>
            <a:srgbClr val="ffcc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аинст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4"/>
          <p:cNvSpPr txBox="1"/>
          <p:nvPr/>
        </p:nvSpPr>
        <p:spPr>
          <a:xfrm rot="5400000">
            <a:off x="2177280" y="2582640"/>
            <a:ext cx="35625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ременност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Line 16"/>
          <p:cNvSpPr/>
          <p:nvPr/>
        </p:nvSpPr>
        <p:spPr>
          <a:xfrm>
            <a:off x="5724360" y="1989000"/>
            <a:ext cx="360360" cy="576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5003640" y="2637000"/>
            <a:ext cx="2519640" cy="936360"/>
          </a:xfrm>
          <a:prstGeom prst="ellipse">
            <a:avLst/>
          </a:prstGeom>
          <a:solidFill>
            <a:srgbClr val="ff33cc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Песня сол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7380360" y="3213000"/>
            <a:ext cx="718920" cy="576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6443640" y="3807000"/>
            <a:ext cx="2484360" cy="3020040"/>
          </a:xfrm>
          <a:prstGeom prst="rect">
            <a:avLst/>
          </a:prstGeom>
          <a:solidFill>
            <a:srgbClr val="e6bcb8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есня любви, будет безраздельно владеть русской земле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1"/>
          <p:cNvSpPr txBox="1"/>
          <p:nvPr/>
        </p:nvSpPr>
        <p:spPr>
          <a:xfrm rot="5400000">
            <a:off x="6641640" y="2511360"/>
            <a:ext cx="41767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стоян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чему поэт Родину называет неяркой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Лихая сил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лухая околиц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ожичек сапож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етленная краса 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92360" y="112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разбой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059280" y="1773360"/>
            <a:ext cx="26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140360" y="162864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изгородь вокруг селения, никто не увид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932360" y="2349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ож за голени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643280" y="2924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расота, которая не истлевает, не умирает, вечная кра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684360" y="3500280"/>
            <a:ext cx="502920" cy="1441440"/>
          </a:xfrm>
          <a:custGeom>
            <a:avLst/>
            <a:gdLst>
              <a:gd name="textAreaLeft" fmla="*/ 67320 w 502920"/>
              <a:gd name="textAreaRight" fmla="*/ 435600 w 502920"/>
              <a:gd name="textAreaTop" fmla="*/ 252000 h 1441440"/>
              <a:gd name="textAreaBottom" fmla="*/ 104508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258920" y="4149720"/>
            <a:ext cx="7561080" cy="825480"/>
          </a:xfrm>
          <a:prstGeom prst="rect">
            <a:avLst/>
          </a:prstGeom>
          <a:solidFill>
            <a:srgbClr val="ffcc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одина не один раз подвергалась нападению, но «все вынесла» и снова поет песню Алён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250920" y="5445000"/>
            <a:ext cx="792000" cy="1008360"/>
          </a:xfrm>
          <a:custGeom>
            <a:avLst/>
            <a:gdLst>
              <a:gd name="textAreaLeft" fmla="*/ 105840 w 792000"/>
              <a:gd name="textAreaRight" fmla="*/ 686160 w 79200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1476360" y="5300640"/>
            <a:ext cx="7488360" cy="1297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Глядя на картину Васнецова, поэт не представляет себе конкретную девушку, а видит в героине картины образ Родин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Из истории написания стихотвор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тихотворение «Алёнушка» было написано Дмитрием Кедриным во время Великой Отечественной войны, когда Кедрин работал во фронтовой газете 6-й воздушной армии «Сокол Роди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Что добавляет этот факт к пониманию стихотворения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Знаю, что не раз лихая сила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У глухой околицы в лесу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ожичек сапожный заносила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а твою нетленную красу.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 rot="3551400">
            <a:off x="6848640" y="3869640"/>
            <a:ext cx="1943280" cy="2646360"/>
          </a:xfrm>
          <a:prstGeom prst="wedgeEllipseCallout">
            <a:avLst>
              <a:gd name="adj1" fmla="val -86763"/>
              <a:gd name="adj2" fmla="val 11301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 rot="20718600">
            <a:off x="6895800" y="4289760"/>
            <a:ext cx="2663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Воспоми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 сказочно -далё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дет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09:13:38Z</dcterms:created>
  <dc:creator>Монгуш Владимир</dc:creator>
  <dc:description/>
  <dc:language>en-US</dc:language>
  <cp:lastModifiedBy>shkola</cp:lastModifiedBy>
  <dcterms:modified xsi:type="dcterms:W3CDTF">2012-04-17T06:15:08Z</dcterms:modified>
  <cp:revision>7</cp:revision>
  <dc:subject/>
  <dc:title>«Одноименные стихотворения  русских поэтов 20 века Д.Б. Кедрина  и  А.А. Прокофьева».</dc:title>
</cp:coreProperties>
</file>