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3224-702F-4B40-9696-6DA996654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986A-28FE-44DF-B375-471F70F71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B40-EDC6-48EE-B129-5C9D678C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F1F-3D10-4D5B-8B86-94D878E6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674-AC2E-4974-8077-CC4BCAE2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669-E45E-4FD5-8D9E-1A537985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8A2-BB2C-4EE5-9C6F-DD85F216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D0E-2CCD-420F-807D-21D52CE1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414-0675-488A-ADFC-21F8796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175-FBA9-4639-85A0-EC93A94C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6B5-11CB-4273-AC26-3FD6F884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003-13D3-481D-9496-50EBDD43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66D-A0DC-44C6-8E97-A2626EAE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C70-EDE1-4150-A645-BFA3D13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1A9D-D9F3-4003-BC16-887D7C87D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468360" y="260280"/>
            <a:ext cx="806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33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З КОВРИГИ В РУССКОЙ ЛИРИКЕ НАЧАЛА ХХ ВЕКА</a:t>
            </a:r>
            <a:endParaRPr b="0" lang="en-US" sz="1800" spc="1" strike="noStrike">
              <a:ln w="19080">
                <a:solidFill>
                  <a:srgbClr val="cc33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cc33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341360"/>
            <a:ext cx="8501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НА МАТЕРИАЛЕ ПОЭТИЧЕСКИХ ТЕКСТОВ Н.КЛЮЕВА И С. ЕСЕНИНА)</a:t>
            </a:r>
            <a:endParaRPr b="0" lang="en-US" sz="2400" spc="1" strike="noStrike">
              <a:ln w="12600">
                <a:solidFill>
                  <a:srgbClr val="cc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8" descr="i[22]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42920" y="1928880"/>
            <a:ext cx="3744720" cy="2746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4716360" y="213372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 Box 10" descr=""/>
          <p:cNvPicPr/>
          <p:nvPr/>
        </p:nvPicPr>
        <p:blipFill>
          <a:blip r:embed="rId2"/>
          <a:stretch/>
        </p:blipFill>
        <p:spPr>
          <a:xfrm>
            <a:off x="3840120" y="4327560"/>
            <a:ext cx="4865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Цель работы: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ить художественный смысл образа ковриги в русской поэзии начала ХХ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ижение этой цели предполагает решение следующих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задач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обрать художественный и литературоведческий материал  по теме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исследовать семантику образа коври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изучить особенности репрезентации образа в поэтических текстах  Н. Клюева и С. Есе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бъект исследования: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еские произведения Н. Клюева и С. Есе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Предмет исследования: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дожественный смысл образа коври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ктуальность исследования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словлена недостаточной изученностью семантики образа, относящегося к системе образов, излучающих энергию ментального мирочувствования, а также необходимостью его популяризации в контексте патриотических тенденций, определяющих развитие современного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Методы исследования: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бор и анализ информации, представляемой различными источниками, обобщение, систематизация, сравнительный анализ, элементы мотивного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«ИСКОННЫЕ» ОБРАЗ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Diagram 5"/>
          <p:cNvGrpSpPr/>
          <p:nvPr/>
        </p:nvGrpSpPr>
        <p:grpSpPr>
          <a:xfrm>
            <a:off x="1059480" y="2245680"/>
            <a:ext cx="3168360" cy="2851920"/>
            <a:chOff x="1059480" y="2245680"/>
            <a:chExt cx="3168360" cy="2851920"/>
          </a:xfrm>
        </p:grpSpPr>
        <p:sp>
          <p:nvSpPr>
            <p:cNvPr id="56" name="_s1028"/>
            <p:cNvSpPr/>
            <p:nvPr/>
          </p:nvSpPr>
          <p:spPr>
            <a:xfrm flipH="1">
              <a:off x="1880280" y="4218840"/>
              <a:ext cx="38232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29"/>
            <p:cNvSpPr/>
            <p:nvPr/>
          </p:nvSpPr>
          <p:spPr>
            <a:xfrm>
              <a:off x="1059480" y="4220280"/>
              <a:ext cx="880560" cy="877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0"/>
            <p:cNvSpPr/>
            <p:nvPr/>
          </p:nvSpPr>
          <p:spPr>
            <a:xfrm>
              <a:off x="3022920" y="4218840"/>
              <a:ext cx="38232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1"/>
            <p:cNvSpPr/>
            <p:nvPr/>
          </p:nvSpPr>
          <p:spPr>
            <a:xfrm>
              <a:off x="3347280" y="4220280"/>
              <a:ext cx="880560" cy="877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Б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 flipV="1">
              <a:off x="2643120" y="3121560"/>
              <a:ext cx="0" cy="44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3"/>
            <p:cNvSpPr/>
            <p:nvPr/>
          </p:nvSpPr>
          <p:spPr>
            <a:xfrm>
              <a:off x="2203560" y="2245680"/>
              <a:ext cx="880560" cy="877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ЛЕ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4"/>
            <p:cNvSpPr/>
            <p:nvPr/>
          </p:nvSpPr>
          <p:spPr>
            <a:xfrm>
              <a:off x="2203560" y="3562560"/>
              <a:ext cx="880560" cy="877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«ИСКОННЫЕ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ра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292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ПОН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4643280" y="3714840"/>
            <a:ext cx="1643400" cy="1214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6"/>
          <p:cNvSpPr/>
          <p:nvPr/>
        </p:nvSpPr>
        <p:spPr>
          <a:xfrm>
            <a:off x="6786720" y="3714840"/>
            <a:ext cx="164304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Равно 7"/>
          <p:cNvSpPr/>
          <p:nvPr/>
        </p:nvSpPr>
        <p:spPr>
          <a:xfrm>
            <a:off x="6357960" y="4071960"/>
            <a:ext cx="428760" cy="4287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43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оври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цельный круглый хлеб ручной формовки, коровай, челпа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которых областях России и Белоруссии так называют круглый толстый ломоть хлеба, отрезанный "во всю ковригу", то есть по диамет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thumbnail"/>
          <p:cNvPicPr/>
          <p:nvPr/>
        </p:nvPicPr>
        <p:blipFill>
          <a:blip r:embed="rId1"/>
          <a:srcRect l="2386" t="7229" r="1181" b="8339"/>
          <a:stretch/>
        </p:blipFill>
        <p:spPr>
          <a:xfrm>
            <a:off x="5219640" y="3500280"/>
            <a:ext cx="338472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12"/>
          <p:cNvPicPr/>
          <p:nvPr/>
        </p:nvPicPr>
        <p:blipFill>
          <a:blip r:embed="rId2"/>
          <a:stretch/>
        </p:blipFill>
        <p:spPr>
          <a:xfrm>
            <a:off x="5219640" y="549360"/>
            <a:ext cx="3529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ХЛЕБОПАШ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0" y="1818720"/>
            <a:ext cx="439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Хлебопашество требовало от крестьянина огромных усилий, колоссального трудолюбия. Заонежские мужики выкорчевывали пни, выворачивали каменные глыбы, как это делает былинный богатырь Микула Селянинович, чтобы каменистую почву сделать плодородною…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humbnail"/>
          <p:cNvPicPr/>
          <p:nvPr/>
        </p:nvPicPr>
        <p:blipFill>
          <a:blip r:embed="rId1"/>
          <a:srcRect l="4913" t="7375" r="4913" b="-1741"/>
          <a:stretch/>
        </p:blipFill>
        <p:spPr>
          <a:xfrm>
            <a:off x="257040" y="1773360"/>
            <a:ext cx="4098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СБОРНИК Н. КЛЮЕ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«ИЗБЯНЫЕ ПЕС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4539-0-P1040549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180040" y="1700280"/>
            <a:ext cx="2644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3884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врига свежа и духмя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росная пожня в лес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ушист у кормилицы мяки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бел, как береста, исп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а – избяное свети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учистее детских кудр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чулан загляни ненарок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лицо тебе пахн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в час, когда сумерки вяжу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бабка, косматый чул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хочется маленькой Ма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ытового хлебца поесть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88000" y="1773000"/>
            <a:ext cx="3898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жаном золотистом сия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врига лежит на столе,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жу лепеча: «Я г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бя на закланье прине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сок у малютки в подол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затоне рыбачий карба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омана мачта, пуч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грызены днище и руль,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 светлая радость спасен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брежная тишь после бу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реют в ребяческих глаз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ведренный, синий ию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title"/>
          </p:nvPr>
        </p:nvSpPr>
        <p:spPr>
          <a:xfrm>
            <a:off x="755640" y="333360"/>
            <a:ext cx="7848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«Изба – святилище земли»,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а коврига – «избяное светил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85840" y="381600"/>
            <a:ext cx="83581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Таким образ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эты начала ХХ века – продолжатели традиции великих русских поэтов (Пушкин: «Дорого бы я дал за кусок русского черного хлеба». Н. Некрасов: «Велик сеятель. Никакая глыба золота не перевесит крошку хлеба») передают эстафету дальше (С. Залыгин: «…Я чувствую корни своей нации именно там – в деревне, в пашне, в хлебе самом насущном»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51:44Z</dcterms:created>
  <dc:creator>Маша</dc:creator>
  <dc:description/>
  <dc:language>en-US</dc:language>
  <cp:lastModifiedBy>Маша</cp:lastModifiedBy>
  <dcterms:modified xsi:type="dcterms:W3CDTF">2012-12-08T11:59:56Z</dcterms:modified>
  <cp:revision>13</cp:revision>
  <dc:subject/>
  <dc:title>Слайд 1</dc:title>
</cp:coreProperties>
</file>