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1C99-AC82-4D87-9218-8AE25A4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8DC9-379B-4B54-83BA-F96E8E7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2B9D-4146-410F-B313-95AE3B8B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2B24-AD65-44E9-BE2D-641E004D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9FC-CE83-43CB-A6B5-54C67158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358E-DE67-46C8-9BCE-B84A370C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2A7-B6BE-413C-8029-8979587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B3D0-3EF0-462E-9276-7A23369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1EA-EAE8-49F5-9162-3F24E68B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F81E-6299-4F74-8F0F-088DB78C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144E-6A9C-4D3E-A24A-FF32247D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51DC-D370-4F1D-8467-90FD9506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5DD9-ECCC-4F5B-B534-12B6914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264E-3B07-4DCF-82B4-421ECCE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5E57-A22A-4EA9-A97E-80DC137F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F98-AB2F-47D0-850C-4D128A6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FF23-F6B3-4CA2-A356-387B06A3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699F-BA04-47F8-9CA3-0B41D87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0FF5-BFB1-48CC-9B0A-D294C5FA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2442-C308-47BA-814A-58C2B3E4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A031-BCBD-4C07-8FB4-C3CF5AC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9A3A-C66B-4212-88CD-395DB3E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123A-F83D-4BAD-B5AF-A127D24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99AB-73DC-4F83-A5A2-EE416A34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2877-8EE1-4C5F-9335-28990ED76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32C-F8B4-4207-AA28-F1156B01F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Механические средства вычислен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16360" y="4076640"/>
            <a:ext cx="57909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аботу выполнила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ученица 5 в класса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ОУ СОШ № 410 г. Пушкина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ванькович Ксен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онтактная информа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ОУ СОШ № 410 г.Пушк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43196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054" t="572" r="69070" b="83578"/>
          <a:stretch/>
        </p:blipFill>
        <p:spPr>
          <a:xfrm>
            <a:off x="1258920" y="1916280"/>
            <a:ext cx="6553080" cy="39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479268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ходе изучения темы «Вычисления на микрокалькуляторе» по математике я задалась вопросом «А какие средства вычислений человек использовал раньше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11680" y="2398680"/>
            <a:ext cx="294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Для того, чтобы найти ответ на этот вопрос, я составила план своей работы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ить у родителей и у бабушки, чем пользовались люди для вычислений до появления калькулято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ходить в библиотеку и посмотреть литературу по эт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мотреть по Интернет, какие механические средства вычислений  люди использовали ран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4572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Бабушка мне рассказала, чт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ньше для счета предметов люди использовали счетные палочки, затем они изобрели счеты. В школе бабушка изучала и использовала для вычислений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огарифмическую линей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А на производстве в 60-70-е годы бухгалтера пользовались арифмомет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856908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зучив литературу по данной теме я узнала, что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ую «мыслящую машину» сделал в 17 веке Блез Паскаль. Его отец был сборщиком налогов и должен был делать сложные вычисления. В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машине Паскал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ередача чисел из одного разряда в другой осуществлялась  с помощью зубчатых колес. Эта машина складывала и вычитала многозначные чис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105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МАШИНА ПАСКАЛ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шина Паскаля не получила широкого распространения, слишком неточна она была, так как слаба была техническая база того времени. Лишь в 80-х годах 19 века начинается широкое производство машин для сложения и вычитания чисел 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уммирующие маши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Но эти машины не могли удовлетворить нужды людей: ведь им приходилось не только складывать и вычитать, но и умножать и де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з Интернета я узнала, чт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34920" y="1599840"/>
            <a:ext cx="5257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ую такую машину в 1673 году создал немецкий математик Готфрид Вильгельм Лейбниц. Машина называлась - арифмометр. Однако лишь после того, как живший в России инженер Однер придумал в конце 19 века зубчатое колесо с изменяющимся в ходе работы числом зубцов, удалось построить удачную модель арифмометра. Такая модель под названием «Феликс» выпускалась в Советском Союзе вплоть до конца 50-х годов прошлого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12732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5445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Арифмометр Одн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ходе проделанной работы я узнала, какими средствами вычислений люди пользовались в разное время, что служило базой для изобретения и создания этих устройств, какие ученые внесли наибольший вклад в развитие вычислительной тех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0"/>
            <a:ext cx="2411280" cy="1297080"/>
          </a:xfrm>
          <a:prstGeom prst="irregularSeal2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шины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0"/>
            <a:ext cx="2411280" cy="1297080"/>
          </a:xfrm>
          <a:prstGeom prst="irregularSeal2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шины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Я.Депман, Н.Я.Виленкин. «За страницами учебника математики». М., «Просвещение», 19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А.Апокин, Л.Е.Майстров. «История вычислительной техники». М., «Наука»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А.Апокин, Л.Е.Майстров. «Развитие вычислительных машин». М., «Наука», 197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/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anina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rod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2:57:53Z</dcterms:created>
  <dc:creator>7</dc:creator>
  <dc:description/>
  <dc:language>en-US</dc:language>
  <cp:lastModifiedBy>tanya</cp:lastModifiedBy>
  <dcterms:modified xsi:type="dcterms:W3CDTF">2010-01-09T12:56:23Z</dcterms:modified>
  <cp:revision>22</cp:revision>
  <dc:subject/>
  <dc:title>Слайд 1</dc:title>
</cp:coreProperties>
</file>