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468-7E90-4339-A946-86DDEAA7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BC6-6FDA-4A51-9982-E43EF04E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950-4DC5-4B71-8822-AB2BCE0F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2BB-423B-474F-B1F6-178F71C0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2D1-2D73-45FB-8C2C-D2D612C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096-920B-4755-B9A3-A62F6C4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1F5-2634-4CAE-BF1B-1AD1A3CE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658-386F-4CD7-BA7E-8B0AA2C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34C-A78D-43FF-BE53-94DCA8FC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15A-E360-4EC4-95FB-DEDF76B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EEF-2924-4C56-863E-51063CAC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89C-56EA-4ACA-89DD-114A5DF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D5E-DD19-46CC-A47C-A97AA1858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0:47:40Z</dcterms:created>
  <dc:creator>Admin</dc:creator>
  <dc:description/>
  <dc:language>en-US</dc:language>
  <cp:lastModifiedBy>Admin</cp:lastModifiedBy>
  <dcterms:modified xsi:type="dcterms:W3CDTF">2012-12-09T10:49:14Z</dcterms:modified>
  <cp:revision>1</cp:revision>
  <dc:subject/>
  <dc:title>Слайд 1</dc:title>
</cp:coreProperties>
</file>