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8CEA-BE16-43DC-A400-AED91AFF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95D-54FB-46B4-B1F0-51398C01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BB5-BC9A-4726-92A2-A7390CB4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BE6-AD02-4523-BE43-E44AF094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518-7D16-4C60-95EA-BAE410F3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210-898C-4A0A-8512-D46900F0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805-D4C4-4391-B7EE-C59F3D55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565-AE0A-4392-BA1C-1BB02E54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69C-719A-4F30-852A-54EC64D4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153-5225-4BB5-A128-2ED809B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E3C-8714-4F07-9F37-BCA76821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B83-44D6-4E0A-8E48-00DDF208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3153-110E-4711-86DF-A0B7C560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125360"/>
            <a:ext cx="7848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Monotype Corsiva"/>
              </a:rPr>
              <a:t>На поиски Аленького цветоч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32360" cy="381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27640" y="1557360"/>
            <a:ext cx="4319640" cy="4005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309564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033640"/>
            <a:ext cx="3311640" cy="482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59640" y="2825640"/>
            <a:ext cx="2484360" cy="403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564000" y="0"/>
            <a:ext cx="2520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5a71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otype Corsiva"/>
              </a:rPr>
              <a:t>В результате работы подтвердились следующие гипотез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40388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показан путь купца в путешествии за подар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определён вид чудесного раст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Показано, что сказки в большинстве своём заканчиваются хэппи – эн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Доказано, что география неразрывно связана с литературой и другими</a:t>
            </a:r>
            <a:r>
              <a:rPr b="0" lang="en-US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на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4671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45a71"/>
                </a:solidFill>
                <a:latin typeface="Monotype Corsiva"/>
              </a:rPr>
              <a:t>Цели и</a:t>
            </a:r>
            <a:r>
              <a:rPr b="0" i="1" lang="en-US" sz="4400" spc="-1" strike="noStrike">
                <a:solidFill>
                  <a:srgbClr val="e45a71"/>
                </a:solidFill>
                <a:latin typeface="Monotype Corsiva"/>
              </a:rPr>
              <a:t> </a:t>
            </a:r>
            <a:r>
              <a:rPr b="0" i="1" lang="en-US" sz="4400" spc="-1" strike="noStrike">
                <a:solidFill>
                  <a:srgbClr val="e45a71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Monotype Corsiva"/>
              </a:rPr>
              <a:t>Показать взаимосвязь предметов, изучаемых в школе, с литературными произвед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Monotype Corsiva"/>
              </a:rPr>
              <a:t>Составить план предполагаемого маршрута по сказке С.Т. Аксакова «Аленький цветоче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Monotype Corsiva"/>
              </a:rPr>
              <a:t>Выяснить место последнего пребывания куп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Monotype Corsiva"/>
              </a:rPr>
              <a:t>Определить вид (класс) замечательного аленького цве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Monotype Corsiva"/>
              </a:rPr>
              <a:t>Гипотез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Monotype Corsiva"/>
              </a:rPr>
              <a:t>Купец и его дочери жили в России или прилежащих к ней государствах СН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Monotype Corsiva"/>
              </a:rPr>
              <a:t>При путешествии главный герой использовал несколько видов транспор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Monotype Corsiva"/>
              </a:rPr>
              <a:t>Путь купца пролегал через территорию современной Турции(древняя территория Персии) , а также Аравийский полу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Monotype Corsiva"/>
              </a:rPr>
              <a:t>Сказочный дворец с замечательным садом , скорее всего, находится на одном из островов Океа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Monotype Corsiva"/>
              </a:rPr>
              <a:t>А вид растения, который автор назвал «аленьким цветочком» - это один из представителей класса орхи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00" y="260280"/>
            <a:ext cx="3419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Monotype Corsiva"/>
              </a:rPr>
              <a:t>Начало пу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6200000">
            <a:off x="3456000" y="1233360"/>
            <a:ext cx="217440" cy="144720"/>
          </a:xfrm>
          <a:prstGeom prst="leftArrow">
            <a:avLst>
              <a:gd name="adj1" fmla="val 47000"/>
              <a:gd name="adj2" fmla="val 337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99736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981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21337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8052200">
            <a:off x="3328920" y="1523880"/>
            <a:ext cx="287280" cy="103320"/>
          </a:xfrm>
          <a:prstGeom prst="leftArrow">
            <a:avLst>
              <a:gd name="adj1" fmla="val 47000"/>
              <a:gd name="adj2" fmla="val 624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1028000">
            <a:off x="3489120" y="2164680"/>
            <a:ext cx="647640" cy="142920"/>
          </a:xfrm>
          <a:prstGeom prst="leftArrow">
            <a:avLst>
              <a:gd name="adj1" fmla="val 47000"/>
              <a:gd name="adj2" fmla="val 1018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655400">
            <a:off x="4030560" y="2674800"/>
            <a:ext cx="385920" cy="166680"/>
          </a:xfrm>
          <a:prstGeom prst="leftArrow">
            <a:avLst>
              <a:gd name="adj1" fmla="val 47000"/>
              <a:gd name="adj2" fmla="val 520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32000" y="1773360"/>
            <a:ext cx="217800" cy="503280"/>
          </a:xfrm>
          <a:custGeom>
            <a:avLst/>
            <a:gdLst>
              <a:gd name="textAreaLeft" fmla="*/ 0 w 217800"/>
              <a:gd name="textAreaRight" fmla="*/ 218160 w 21780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363200">
            <a:off x="4284720" y="2205000"/>
            <a:ext cx="301680" cy="114480"/>
          </a:xfrm>
          <a:prstGeom prst="leftArrow">
            <a:avLst>
              <a:gd name="adj1" fmla="val 47000"/>
              <a:gd name="adj2" fmla="val 592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819200">
            <a:off x="4284720" y="2349000"/>
            <a:ext cx="358560" cy="114480"/>
          </a:xfrm>
          <a:prstGeom prst="leftArrow">
            <a:avLst>
              <a:gd name="adj1" fmla="val 47000"/>
              <a:gd name="adj2" fmla="val 703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3757800">
            <a:off x="3573000" y="2593440"/>
            <a:ext cx="601920" cy="144720"/>
          </a:xfrm>
          <a:prstGeom prst="leftArrow">
            <a:avLst>
              <a:gd name="adj1" fmla="val 47000"/>
              <a:gd name="adj2" fmla="val 934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">
            <a:off x="2700000" y="2204640"/>
            <a:ext cx="960480" cy="173160"/>
          </a:xfrm>
          <a:prstGeom prst="leftArrow">
            <a:avLst>
              <a:gd name="adj1" fmla="val 47000"/>
              <a:gd name="adj2" fmla="val 1246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832600">
            <a:off x="2301480" y="2025360"/>
            <a:ext cx="385560" cy="166680"/>
          </a:xfrm>
          <a:prstGeom prst="leftArrow">
            <a:avLst>
              <a:gd name="adj1" fmla="val 47000"/>
              <a:gd name="adj2" fmla="val 519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663400">
            <a:off x="1798560" y="1809720"/>
            <a:ext cx="385920" cy="166680"/>
          </a:xfrm>
          <a:prstGeom prst="leftArrow">
            <a:avLst>
              <a:gd name="adj1" fmla="val 47000"/>
              <a:gd name="adj2" fmla="val 520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263700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357336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3429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rot="17768400">
            <a:off x="178200" y="2277000"/>
            <a:ext cx="1297080" cy="431640"/>
          </a:xfrm>
          <a:custGeom>
            <a:avLst/>
            <a:gdLst>
              <a:gd name="textAreaLeft" fmla="*/ -360 w 1297080"/>
              <a:gd name="textAreaRight" fmla="*/ 1297080 w 1297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93" stAng="10800000" swAng="5400000"/>
                <a:lnTo>
                  <a:pt x="15122" y="4367"/>
                </a:lnTo>
                <a:lnTo>
                  <a:pt x="15122" y="0"/>
                </a:lnTo>
                <a:lnTo>
                  <a:pt x="21600" y="6079"/>
                </a:lnTo>
                <a:lnTo>
                  <a:pt x="15122" y="12158"/>
                </a:lnTo>
                <a:lnTo>
                  <a:pt x="15122" y="7791"/>
                </a:lnTo>
                <a:lnTo>
                  <a:pt x="12427" y="7791"/>
                </a:lnTo>
                <a:arcTo wR="9003" hR="4369" stAng="16200000" swAng="-5400000"/>
                <a:lnTo>
                  <a:pt x="3424" y="21600"/>
                </a:lnTo>
                <a:close/>
              </a:path>
            </a:pathLst>
          </a:cu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5919200">
            <a:off x="0" y="3573360"/>
            <a:ext cx="960480" cy="172800"/>
          </a:xfrm>
          <a:prstGeom prst="leftArrow">
            <a:avLst>
              <a:gd name="adj1" fmla="val 47000"/>
              <a:gd name="adj2" fmla="val 12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2390600">
            <a:off x="649080" y="4327200"/>
            <a:ext cx="960120" cy="173160"/>
          </a:xfrm>
          <a:prstGeom prst="leftArrow">
            <a:avLst>
              <a:gd name="adj1" fmla="val 47000"/>
              <a:gd name="adj2" fmla="val 1245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5919200">
            <a:off x="1441440" y="5117760"/>
            <a:ext cx="960480" cy="172800"/>
          </a:xfrm>
          <a:prstGeom prst="leftArrow">
            <a:avLst>
              <a:gd name="adj1" fmla="val 47000"/>
              <a:gd name="adj2" fmla="val 12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4607000">
            <a:off x="1946160" y="6291000"/>
            <a:ext cx="960480" cy="173160"/>
          </a:xfrm>
          <a:prstGeom prst="leftArrow">
            <a:avLst>
              <a:gd name="adj1" fmla="val 47000"/>
              <a:gd name="adj2" fmla="val 1246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6524640"/>
            <a:ext cx="1079280" cy="333360"/>
          </a:xfrm>
          <a:custGeom>
            <a:avLst/>
            <a:gdLst>
              <a:gd name="textAreaLeft" fmla="*/ 277560 w 1079280"/>
              <a:gd name="textAreaRight" fmla="*/ 836640 w 1079280"/>
              <a:gd name="textAreaTop" fmla="*/ 219240 h 333360"/>
              <a:gd name="textAreaBottom" fmla="*/ 258480 h 333360"/>
            </a:gdLst>
            <a:ahLst/>
            <a:rect l="textAreaLeft" t="textAreaTop" r="textAreaRight" b="textAreaBottom"/>
            <a:pathLst>
              <a:path w="21600" h="21600">
                <a:moveTo>
                  <a:pt x="0" y="19060"/>
                </a:moveTo>
                <a:lnTo>
                  <a:pt x="14200" y="19060"/>
                </a:lnTo>
                <a:lnTo>
                  <a:pt x="14200" y="5554"/>
                </a:lnTo>
                <a:lnTo>
                  <a:pt x="9340" y="5554"/>
                </a:lnTo>
                <a:lnTo>
                  <a:pt x="15470" y="0"/>
                </a:lnTo>
                <a:lnTo>
                  <a:pt x="21600" y="5554"/>
                </a:lnTo>
                <a:lnTo>
                  <a:pt x="16740" y="5554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6894000">
            <a:off x="3335040" y="5727600"/>
            <a:ext cx="1179720" cy="204480"/>
          </a:xfrm>
          <a:prstGeom prst="leftArrow">
            <a:avLst>
              <a:gd name="adj1" fmla="val 47000"/>
              <a:gd name="adj2" fmla="val 1296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6547800">
            <a:off x="4106880" y="4614480"/>
            <a:ext cx="960480" cy="172800"/>
          </a:xfrm>
          <a:prstGeom prst="leftArrow">
            <a:avLst>
              <a:gd name="adj1" fmla="val 47000"/>
              <a:gd name="adj2" fmla="val 12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769000">
            <a:off x="4538160" y="3822480"/>
            <a:ext cx="528480" cy="173160"/>
          </a:xfrm>
          <a:prstGeom prst="leftArrow">
            <a:avLst>
              <a:gd name="adj1" fmla="val 47000"/>
              <a:gd name="adj2" fmla="val 685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1144600">
            <a:off x="4211640" y="3573000"/>
            <a:ext cx="528480" cy="173160"/>
          </a:xfrm>
          <a:prstGeom prst="leftArrow">
            <a:avLst>
              <a:gd name="adj1" fmla="val 47000"/>
              <a:gd name="adj2" fmla="val 685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36450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51298" t="5609" r="6799" b="0"/>
          <a:stretch/>
        </p:blipFill>
        <p:spPr>
          <a:xfrm>
            <a:off x="5651640" y="981000"/>
            <a:ext cx="3492360" cy="5877000"/>
          </a:xfrm>
          <a:prstGeom prst="rect">
            <a:avLst/>
          </a:prstGeom>
          <a:ln w="9360">
            <a:solidFill>
              <a:srgbClr val="f7f78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77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Monotype Corsiva"/>
              </a:rPr>
              <a:t>Путешествие продолжае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7991280" cy="5472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11701200">
            <a:off x="1402920" y="3428640"/>
            <a:ext cx="960480" cy="173160"/>
          </a:xfrm>
          <a:prstGeom prst="leftArrow">
            <a:avLst>
              <a:gd name="adj1" fmla="val 47000"/>
              <a:gd name="adj2" fmla="val 1246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804000">
            <a:off x="2340000" y="3860280"/>
            <a:ext cx="960480" cy="173160"/>
          </a:xfrm>
          <a:prstGeom prst="leftArrow">
            <a:avLst>
              <a:gd name="adj1" fmla="val 47000"/>
              <a:gd name="adj2" fmla="val 1246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1836800">
            <a:off x="3276720" y="4365360"/>
            <a:ext cx="960480" cy="172800"/>
          </a:xfrm>
          <a:prstGeom prst="leftArrow">
            <a:avLst>
              <a:gd name="adj1" fmla="val 47000"/>
              <a:gd name="adj2" fmla="val 12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1526000">
            <a:off x="4284000" y="4652640"/>
            <a:ext cx="718920" cy="142920"/>
          </a:xfrm>
          <a:prstGeom prst="leftArrow">
            <a:avLst>
              <a:gd name="adj1" fmla="val 47000"/>
              <a:gd name="adj2" fmla="val 113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4797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Monotype Corsiva"/>
              </a:rPr>
              <a:t>Окончание пу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5640" y="400536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Monotype Corsiva"/>
              </a:rPr>
              <a:t>+19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19360" y="5084640"/>
            <a:ext cx="17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Monotype Corsiva"/>
              </a:rPr>
              <a:t>+ 39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08464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Monotype Corsiva"/>
              </a:rPr>
              <a:t>2000 – 3000 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7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1278000"/>
            <a:ext cx="932508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27:51Z</dcterms:created>
  <dc:creator>HONOLULU BEACH</dc:creator>
  <dc:description/>
  <dc:language>en-US</dc:language>
  <cp:lastModifiedBy>Your User Name</cp:lastModifiedBy>
  <dcterms:modified xsi:type="dcterms:W3CDTF">2009-09-15T05:38:09Z</dcterms:modified>
  <cp:revision>14</cp:revision>
  <dc:subject/>
  <dc:title>На поиски Аленького цветочка</dc:title>
</cp:coreProperties>
</file>