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ABB-D63F-48A4-A0D7-5736944E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0AE-DF70-4A36-B2F6-3F19D741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04F-7995-4611-852F-26D06608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333-E186-4B5E-8546-89BB67CC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FCE-EA16-4320-80B8-47D7CF01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833-9DD0-402E-813B-D46E4B67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C2D-6D61-435B-BD82-43B5ABD0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E19-B605-4BE2-AF4A-71A8A383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A40-FDF0-481E-83E0-F98386D3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04B-FC4C-4ED2-9CCF-DA19059D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A42-1321-4519-B4AF-4A504CB4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108-C427-4B22-BD3D-757257B2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571E-DC86-4CC8-AA35-5FCACCA0E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1020960" y="1500120"/>
            <a:ext cx="72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Обучение грамоте. Букв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3000240" y="457200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ркина Надежда Евген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МБОУ «СОШ № 1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.Новочебоксарска Чувашской 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D:\все поделки...666\картинки\test_vatslak_31.jpg"/>
          <p:cNvPicPr/>
          <p:nvPr/>
        </p:nvPicPr>
        <p:blipFill>
          <a:blip r:embed="rId2"/>
          <a:stretch/>
        </p:blipFill>
        <p:spPr>
          <a:xfrm>
            <a:off x="5286240" y="2786040"/>
            <a:ext cx="3643560" cy="3500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6"/>
          <p:cNvSpPr/>
          <p:nvPr/>
        </p:nvSpPr>
        <p:spPr>
          <a:xfrm>
            <a:off x="285840" y="1285920"/>
            <a:ext cx="5500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Круглое, румяное, </a:t>
            </a:r>
            <a:br>
              <a:rPr sz="4400"/>
            </a:b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Я расту на ветке; </a:t>
            </a:r>
            <a:br>
              <a:rPr sz="4400"/>
            </a:b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Любят меня взрослые </a:t>
            </a:r>
            <a:br>
              <a:rPr sz="4400"/>
            </a:b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И маленькие дет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363400" y="535788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БЛО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D:\все поделки...666\картинки\x_fbffa27a.jpg"/>
          <p:cNvPicPr/>
          <p:nvPr/>
        </p:nvPicPr>
        <p:blipFill>
          <a:blip r:embed="rId2"/>
          <a:stretch/>
        </p:blipFill>
        <p:spPr>
          <a:xfrm>
            <a:off x="214200" y="1071720"/>
            <a:ext cx="330516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3571920" y="1214280"/>
            <a:ext cx="5286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Комочек пуха, </a:t>
            </a:r>
            <a:br>
              <a:rPr sz="4800"/>
            </a:b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Длинное ухо, </a:t>
            </a:r>
            <a:br>
              <a:rPr sz="4800"/>
            </a:b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Прыгает ловко, </a:t>
            </a:r>
            <a:br>
              <a:rPr sz="4800"/>
            </a:b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Любит морковк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000840" y="478620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ЗА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все поделки...666\снежинки и новый год\jAkmAicRdX0.jpg"/>
          <p:cNvPicPr/>
          <p:nvPr/>
        </p:nvPicPr>
        <p:blipFill>
          <a:blip r:embed="rId2"/>
          <a:stretch/>
        </p:blipFill>
        <p:spPr>
          <a:xfrm>
            <a:off x="142920" y="1143000"/>
            <a:ext cx="4143240" cy="46623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4000680" y="1143000"/>
            <a:ext cx="50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Кто длиннее, чем чулок?</a:t>
            </a:r>
            <a:br>
              <a:rPr sz="4000"/>
            </a:b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У кого ни рук, ни ног?</a:t>
            </a:r>
            <a:br>
              <a:rPr sz="4000"/>
            </a:b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Кожа, словно чешуя.</a:t>
            </a:r>
            <a:br>
              <a:rPr sz="4000"/>
            </a:b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По земле ползет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5079960" y="4929120"/>
            <a:ext cx="140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ЗМЕ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357720" y="3500280"/>
            <a:ext cx="16491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 flipH="1" flipV="1">
            <a:off x="2571480" y="2500200"/>
            <a:ext cx="1214280" cy="164304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4"/>
          <p:cNvSpPr/>
          <p:nvPr/>
        </p:nvSpPr>
        <p:spPr>
          <a:xfrm flipV="1">
            <a:off x="4571280" y="2500200"/>
            <a:ext cx="1143000" cy="164304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2289960" y="1857240"/>
            <a:ext cx="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5290560" y="1571760"/>
            <a:ext cx="68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войные круглые скобки 17"/>
          <p:cNvSpPr/>
          <p:nvPr/>
        </p:nvSpPr>
        <p:spPr>
          <a:xfrm>
            <a:off x="2214720" y="19288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Двойные круглые скобки 18"/>
          <p:cNvSpPr/>
          <p:nvPr/>
        </p:nvSpPr>
        <p:spPr>
          <a:xfrm>
            <a:off x="5214960" y="185724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>
            <a:off x="1000080" y="71424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В   НАЧАЛЕ   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1571760" y="6000840"/>
            <a:ext cx="436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ОСЛЕ         ГЛАС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285840" y="1571760"/>
            <a:ext cx="857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а               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ов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142920" y="3143160"/>
            <a:ext cx="890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          зме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Зо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           Ра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357120" y="1428840"/>
            <a:ext cx="621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Calibri"/>
              </a:rPr>
              <a:t>в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libri"/>
              </a:rPr>
              <a:t>в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214720" y="1428840"/>
            <a:ext cx="171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Calibri"/>
              </a:rPr>
              <a:t>д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libri"/>
              </a:rPr>
              <a:t>д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4000680" y="1428840"/>
            <a:ext cx="171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Calibri"/>
              </a:rPr>
              <a:t>с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libri"/>
              </a:rPr>
              <a:t>с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5715000" y="1428840"/>
            <a:ext cx="150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Calibri"/>
              </a:rPr>
              <a:t>п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libri"/>
              </a:rPr>
              <a:t>п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7286760" y="142884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Calibri"/>
              </a:rPr>
              <a:t>м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libri"/>
              </a:rPr>
              <a:t>м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85840" y="3786120"/>
            <a:ext cx="871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м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л –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м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ял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р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д –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р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яд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зы -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в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яз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2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14200" y="1071720"/>
            <a:ext cx="2071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Ма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а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о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о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428920" y="1785960"/>
            <a:ext cx="192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Ан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000760" y="857160"/>
            <a:ext cx="33573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788800" y="3571920"/>
            <a:ext cx="79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725200" y="4929120"/>
            <a:ext cx="193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Вар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0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214200" y="1071720"/>
            <a:ext cx="207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428920" y="1785960"/>
            <a:ext cx="19288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000760" y="857160"/>
            <a:ext cx="33573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786720" y="3643200"/>
            <a:ext cx="183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714760" y="4929120"/>
            <a:ext cx="183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9" descr=""/>
          <p:cNvPicPr/>
          <p:nvPr/>
        </p:nvPicPr>
        <p:blipFill>
          <a:blip r:embed="rId2"/>
          <a:stretch/>
        </p:blipFill>
        <p:spPr>
          <a:xfrm>
            <a:off x="853920" y="1494000"/>
            <a:ext cx="7759800" cy="1663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D:\АБПрезентации\Всё для презентации11\картинки для презентаций32\cnfhf[1].gif"/>
          <p:cNvPicPr/>
          <p:nvPr/>
        </p:nvPicPr>
        <p:blipFill>
          <a:blip r:embed="rId3"/>
          <a:stretch/>
        </p:blipFill>
        <p:spPr>
          <a:xfrm>
            <a:off x="1643040" y="3071880"/>
            <a:ext cx="5857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9:05:15Z</dcterms:created>
  <dc:creator>Мама</dc:creator>
  <dc:description/>
  <dc:language>en-US</dc:language>
  <cp:lastModifiedBy>Мама</cp:lastModifiedBy>
  <dcterms:modified xsi:type="dcterms:W3CDTF">2012-12-09T15:32:02Z</dcterms:modified>
  <cp:revision>11</cp:revision>
  <dc:subject/>
  <dc:title>Слайд 1</dc:title>
</cp:coreProperties>
</file>