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847-FA45-4F6D-B9FA-7E9C300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2A4-BC23-4C02-88F5-CAE5203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B2F-D644-4F97-BFAA-0EAE947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399-3F19-4C94-BE86-75D3AB54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3432E-A535-49F6-86D4-4866B150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7B83-A2CC-473E-A5EF-F3AEE17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63FAC-FC9A-41D9-91AE-0779A0A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B4C53-BD6B-480F-A246-07B68989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A3CE-EA08-4EA7-B9AB-6B5F553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C2781-56A9-427F-A175-CAF85F4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D5790-43D8-4AA3-BB67-D7B575B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CBD-BAB4-482B-A8FE-7577910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13066-C1C7-422F-B984-E9EB10E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347E-C2E8-4291-A483-F6C8C46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E737-9361-42D2-8150-E885E50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9FD3-543F-4903-8F21-D6765E41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23F56-CA5B-497E-A4AC-D97803D8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AE3-6744-4A8D-8074-A4DFC97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44-B129-44E6-A55D-1E6A93C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EA7-7EEF-44E8-A414-825293E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3CE-4C2F-4F72-A3F0-DD0D783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CC1-3656-48EE-9A70-C5FF6E8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A69-D55C-4720-A8A0-76DF50F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45-2E3E-426F-BAB2-364B192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1155-90CC-4035-9B4F-350F88FB6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6A1-62A6-445C-A1E6-472D7E45A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342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Оценка одежды учащегося и экологический комфор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Мнение о зависимости      одежды и здоровь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39640" y="1844640"/>
          <a:ext cx="7993080" cy="475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844640"/>
                    <a:ext cx="7993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12D-ED3B-4750-A440-619F29DC6200}" type="slidenum">
              <a:t>10</a:t>
            </a:fld>
          </a:p>
        </p:txBody>
      </p:sp>
    </p:spTree>
  </p:cSld>
  <p:transition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Оценка субъективных ощущ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7559640" cy="49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755640" y="1125360"/>
          <a:ext cx="7848720" cy="501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125360"/>
                    <a:ext cx="78487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F02-FD3C-4045-AA80-7441E4CF8541}" type="slidenum">
              <a:t>11</a:t>
            </a:fld>
          </a:p>
        </p:txBody>
      </p:sp>
    </p:spTree>
  </p:cSld>
  <p:transition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4941720"/>
            <a:ext cx="81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ультаты опроса показали, что в целом одежда учащихся соответствует понятию экологической комфор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253-4F60-4911-9F2A-793B70D8184F}" type="slidenum">
              <a:t>12</a:t>
            </a:fld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50846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азалось, что одежда юношей более экологически комфортна, чем деву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0D6-3D4D-44B7-8238-E8245B091702}" type="slidenum">
              <a:t>13</a:t>
            </a:fld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качестве рекомендаций по выбору повседневной одежды можно предложить учащимс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раться чаще использовать для одежды натуральные тка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едует помнить, что лишь свободный покрой устранит дискомфорт от одеж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 всегда находить «золотую середину» между понятием «экологический комфорт» и модным направлением в одеж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967-239E-4B5C-B9E0-2E829E230D2E}" type="slidenum">
              <a:t>14</a:t>
            </a:fld>
          </a:p>
        </p:txBody>
      </p:sp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6086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71640" y="2637000"/>
            <a:ext cx="7561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18D-838E-4788-B77A-B828F7509BBB}" type="slidenum">
              <a:t>15</a:t>
            </a:fld>
          </a:p>
        </p:txBody>
      </p:sp>
    </p:spTree>
  </p:cSld>
  <p:transition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4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д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экологическим комфортом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мы понимаем условия жизни человека, обеспечивающие спокойствие, уют и  оказывающие благоприятное влияние на его здоровь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7FE-B440-4A87-90B8-B2BA1DF813B5}" type="slidenum">
              <a:t>2</a:t>
            </a:fld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Цель работы – оценить, насколько одежда учащихся   соответствует понятию "экологический комфорт"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) с помощью социологического опроса выяснить, насколько одежда учащихся соответствует данному понятию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) изменяется ли мнение учащихся в зависимости от пола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3) разработать рекомендации по выбору повседневной одеж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F4B-BF37-49BF-A67E-0E41DE94D023}" type="slidenum">
              <a:t>3</a:t>
            </a:fld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Оценка одежды учащегося  с точки          зрения экологической комфортности 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229-A7F9-423D-945A-5140CA2B451E}" type="slidenum">
              <a:t>4</a:t>
            </a:fld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49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 социологического опроса: выяснить, насколько одежда учащихся соответствует предложенным критериям оценивания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итерии оценив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1) полностью соответствует понятию экологической комфортности в одежде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в целом соответствуе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) соответствует частичн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не соответству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55897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просе участвовало 119 человек, из них 74 девушки и 45 юно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E76-9996-4CCF-AE48-78C2E2471372}" type="slidenum">
              <a:t>6</a:t>
            </a:fld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Экологический комфорт " в понятии учащих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776240"/>
          <a:ext cx="8353440" cy="446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6240"/>
                    <a:ext cx="835344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1903320"/>
          <a:ext cx="7993080" cy="4765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903320"/>
                    <a:ext cx="7993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223-F6CC-4E5A-B188-55FB01187B36}" type="slidenum">
              <a:t>7</a:t>
            </a:fld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ыбор приоритетов в одеж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506600"/>
          <a:ext cx="7777080" cy="51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506600"/>
                    <a:ext cx="77770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1838160"/>
            <a:ext cx="8424720" cy="47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588-DC92-4E21-AA30-F91707304DB5}" type="slidenum">
              <a:t>8</a:t>
            </a:fld>
          </a:p>
        </p:txBody>
      </p: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950760"/>
            <a:ext cx="6119640" cy="405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551664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5300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вушки любят больше выделяться с помощью одежды, чем юноши и считают, что их одежда передаёт настро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A0-9B9C-405C-971D-A3D7938CF744}" type="slidenum">
              <a:t>9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1:05:53Z</dcterms:created>
  <dc:creator>User</dc:creator>
  <dc:description/>
  <dc:language>en-US</dc:language>
  <cp:lastModifiedBy>school48</cp:lastModifiedBy>
  <dcterms:modified xsi:type="dcterms:W3CDTF">2009-01-09T18:49:54Z</dcterms:modified>
  <cp:revision>26</cp:revision>
  <dc:subject/>
  <dc:title>Оценка одежды лицеиста и экологический комфорт.</dc:title>
</cp:coreProperties>
</file>