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DCEC-0CD7-4E9D-926F-041347F6BE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28EC-9307-46D8-AC95-FDE7D101D9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25B0-703E-4853-8EF6-524B9EB0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D1D9-4AF4-4F58-8175-60BE273C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91A3-1B5C-4813-8BBF-4117E3B9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ABAA-832B-46DF-B837-6CB2817A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6B7D-548E-440D-B4FE-E3FCBD48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D16-7294-4FD6-B160-76080EAC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CC6F-8173-42DB-8E22-39A9A822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F84-D80C-4E7F-8B3D-E1F4DC49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3236-D0D2-4351-8970-A01548D4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5EB-12B3-44F4-97AB-8B190B68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59F-9500-46C2-B581-B09D684F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CB5-C0FC-4652-AE59-49BBC0B1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F0FF-F74D-4EEF-A524-82CAAAA3D8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detsad-kitty.ru/uploads/posts/2009-05/1243666290_tramvaj.png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971800" y="3962520"/>
            <a:ext cx="556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ающий мир 3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Голдырева Наталья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Петропавло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914400" y="1295280"/>
            <a:ext cx="7772400" cy="14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пасные мес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457200" y="33264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льзя свешиваться через перила, устраивать на балконе разные подвижны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сиди и не лежи на подоконнике, не вставай на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04920" y="214668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 тем как войти в лифт, посмотри под ноги, тут ли каб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огда не входи в лифт с незнакомым человеком. Не прыгай и не играй в кабине лифта, от этого лифт может останов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ользуйся лифтом во время пожара, он может внезапно остановиться и наполниться удушающим дымом. При пожаре спускайся только по лестн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09480" y="54907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играй на стройплощадках. Глубокие ямы, бетонные плиты, кирпичи, трубы, различные строительные материалы таят в себе 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380880" y="5536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заглядывай в трансформаторную будку.  Там очень высокое напряжение, оно может быть смертельно опа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457200" y="2747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дь осторожен в парке, на пустыре, в лесу: не ходи в такие места один. Здесь тебя могут подстерегать преступ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33520" y="4728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ез сопровождения взрослых не выходи на лед. Это опасно!  Будь осторожен на обледеневшем тротуаре. С ледяной горки не катайся на нога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" descr="Фото-0401"/>
          <p:cNvPicPr/>
          <p:nvPr/>
        </p:nvPicPr>
        <p:blipFill>
          <a:blip r:embed="rId1"/>
          <a:stretch/>
        </p:blipFill>
        <p:spPr>
          <a:xfrm>
            <a:off x="609480" y="838080"/>
            <a:ext cx="7391520" cy="554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Фото-0384"/>
          <p:cNvPicPr/>
          <p:nvPr/>
        </p:nvPicPr>
        <p:blipFill>
          <a:blip r:embed="rId2"/>
          <a:srcRect l="18839" t="16512" r="27142" b="36354"/>
          <a:stretch/>
        </p:blipFill>
        <p:spPr>
          <a:xfrm>
            <a:off x="762120" y="1219320"/>
            <a:ext cx="7086600" cy="4649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Фото-0372"/>
          <p:cNvPicPr/>
          <p:nvPr/>
        </p:nvPicPr>
        <p:blipFill>
          <a:blip r:embed="rId3"/>
          <a:stretch/>
        </p:blipFill>
        <p:spPr>
          <a:xfrm>
            <a:off x="685800" y="838080"/>
            <a:ext cx="7315200" cy="548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Фото-0378"/>
          <p:cNvPicPr/>
          <p:nvPr/>
        </p:nvPicPr>
        <p:blipFill>
          <a:blip r:embed="rId4"/>
          <a:stretch/>
        </p:blipFill>
        <p:spPr>
          <a:xfrm>
            <a:off x="609480" y="762120"/>
            <a:ext cx="7391520" cy="554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Фото-0388"/>
          <p:cNvPicPr/>
          <p:nvPr/>
        </p:nvPicPr>
        <p:blipFill>
          <a:blip r:embed="rId5"/>
          <a:stretch/>
        </p:blipFill>
        <p:spPr>
          <a:xfrm>
            <a:off x="609480" y="762120"/>
            <a:ext cx="7391520" cy="5543280"/>
          </a:xfrm>
          <a:prstGeom prst="rect">
            <a:avLst/>
          </a:prstGeom>
          <a:ln w="0">
            <a:noFill/>
          </a:ln>
        </p:spPr>
      </p:pic>
      <p:sp>
        <p:nvSpPr>
          <p:cNvPr id="99" name="WordArt 16"/>
          <p:cNvSpPr txBox="1"/>
          <p:nvPr/>
        </p:nvSpPr>
        <p:spPr>
          <a:xfrm>
            <a:off x="2514600" y="1295280"/>
            <a:ext cx="44006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знай и назови место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пасно ли оно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" descr="Фото-0375"/>
          <p:cNvPicPr/>
          <p:nvPr/>
        </p:nvPicPr>
        <p:blipFill>
          <a:blip r:embed="rId1"/>
          <a:stretch/>
        </p:blipFill>
        <p:spPr>
          <a:xfrm>
            <a:off x="4572000" y="228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Фото-0382"/>
          <p:cNvPicPr/>
          <p:nvPr/>
        </p:nvPicPr>
        <p:blipFill>
          <a:blip r:embed="rId2"/>
          <a:stretch/>
        </p:blipFill>
        <p:spPr>
          <a:xfrm>
            <a:off x="4572000" y="35053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untitledкенг"/>
          <p:cNvPicPr/>
          <p:nvPr/>
        </p:nvPicPr>
        <p:blipFill>
          <a:blip r:embed="rId3"/>
          <a:stretch/>
        </p:blipFill>
        <p:spPr>
          <a:xfrm>
            <a:off x="457200" y="609480"/>
            <a:ext cx="3022560" cy="5486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17"/>
          <p:cNvSpPr txBox="1"/>
          <p:nvPr/>
        </p:nvSpPr>
        <p:spPr>
          <a:xfrm>
            <a:off x="1600200" y="2514600"/>
            <a:ext cx="6600960" cy="15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ие правила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зопасности 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рушили дети?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457200" y="274680"/>
            <a:ext cx="815328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 дорожные знаки делятся на группы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. предупреждающие знаки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. запрещающие знаки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. предписывающие знаки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. информационно-указатель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ки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. знаки серви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упрежд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2590920" y="44197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2819520" cy="2503440"/>
          </a:xfrm>
          <a:prstGeom prst="rect">
            <a:avLst/>
          </a:prstGeom>
          <a:ln w="0">
            <a:noFill/>
          </a:ln>
        </p:spPr>
      </p:pic>
      <p:sp>
        <p:nvSpPr>
          <p:cNvPr id="55" name="WordArt 13"/>
          <p:cNvSpPr txBox="1"/>
          <p:nvPr/>
        </p:nvSpPr>
        <p:spPr>
          <a:xfrm>
            <a:off x="3048120" y="533412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лый треуголь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красной кайм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6" name="Содержимое 6" descr="6y.gif"/>
          <p:cNvPicPr/>
          <p:nvPr/>
        </p:nvPicPr>
        <p:blipFill>
          <a:blip r:embed="rId2"/>
          <a:stretch/>
        </p:blipFill>
        <p:spPr>
          <a:xfrm>
            <a:off x="0" y="1600200"/>
            <a:ext cx="289548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"/>
          <p:cNvPicPr/>
          <p:nvPr/>
        </p:nvPicPr>
        <p:blipFill>
          <a:blip r:embed="rId3"/>
          <a:stretch/>
        </p:blipFill>
        <p:spPr>
          <a:xfrm>
            <a:off x="3048120" y="1600200"/>
            <a:ext cx="31240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2209680" y="304920"/>
            <a:ext cx="5334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ещ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2666880" y="4191120"/>
            <a:ext cx="4648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2895480" y="5105520"/>
            <a:ext cx="4267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лые  кру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красной кайм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6248520" y="1295280"/>
            <a:ext cx="2590560" cy="2543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"/>
          <p:cNvPicPr/>
          <p:nvPr/>
        </p:nvPicPr>
        <p:blipFill>
          <a:blip r:embed="rId3"/>
          <a:stretch/>
        </p:blipFill>
        <p:spPr>
          <a:xfrm>
            <a:off x="228600" y="1371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905120" y="380880"/>
            <a:ext cx="6019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писыв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3429000" y="1219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3"/>
          <a:stretch/>
        </p:blipFill>
        <p:spPr>
          <a:xfrm>
            <a:off x="6477120" y="1219320"/>
            <a:ext cx="2355840" cy="2355840"/>
          </a:xfrm>
          <a:prstGeom prst="rect">
            <a:avLst/>
          </a:prstGeom>
          <a:ln w="0">
            <a:noFill/>
          </a:ln>
        </p:spPr>
      </p:pic>
      <p:sp>
        <p:nvSpPr>
          <p:cNvPr id="68" name="WordArt 8"/>
          <p:cNvSpPr txBox="1"/>
          <p:nvPr/>
        </p:nvSpPr>
        <p:spPr>
          <a:xfrm>
            <a:off x="2666880" y="4267080"/>
            <a:ext cx="4343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WordArt 9"/>
          <p:cNvSpPr txBox="1"/>
          <p:nvPr/>
        </p:nvSpPr>
        <p:spPr>
          <a:xfrm>
            <a:off x="3429000" y="5029200"/>
            <a:ext cx="29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ие круг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белым рисунк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1828800" y="304920"/>
            <a:ext cx="5715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онно-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казательны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1" name="Рисунок 5" descr="CG33.png"/>
          <p:cNvPicPr/>
          <p:nvPr/>
        </p:nvPicPr>
        <p:blipFill>
          <a:blip r:embed="rId1"/>
          <a:stretch/>
        </p:blipFill>
        <p:spPr>
          <a:xfrm>
            <a:off x="380880" y="1600200"/>
            <a:ext cx="2743200" cy="2716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4038480" y="1600200"/>
            <a:ext cx="2000520" cy="2819520"/>
          </a:xfrm>
          <a:prstGeom prst="rect">
            <a:avLst/>
          </a:prstGeom>
          <a:ln w="0">
            <a:noFill/>
          </a:ln>
        </p:spPr>
      </p:pic>
      <p:sp>
        <p:nvSpPr>
          <p:cNvPr id="73" name="WordArt 7"/>
          <p:cNvSpPr txBox="1"/>
          <p:nvPr/>
        </p:nvSpPr>
        <p:spPr>
          <a:xfrm>
            <a:off x="2666880" y="4495680"/>
            <a:ext cx="4114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WordArt 8"/>
          <p:cNvSpPr txBox="1"/>
          <p:nvPr/>
        </p:nvSpPr>
        <p:spPr>
          <a:xfrm>
            <a:off x="2050920" y="5373720"/>
            <a:ext cx="547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ольшинство - синий прямоуголь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ли квадрат с рисунк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5" name="Picture 10" descr="Картинка 74 из 34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1371600"/>
            <a:ext cx="1920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7"/>
          <p:cNvSpPr txBox="1"/>
          <p:nvPr/>
        </p:nvSpPr>
        <p:spPr>
          <a:xfrm>
            <a:off x="1447920" y="5181480"/>
            <a:ext cx="36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ий прямоугольник 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унк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" name="WordArt 8"/>
          <p:cNvSpPr txBox="1"/>
          <p:nvPr/>
        </p:nvSpPr>
        <p:spPr>
          <a:xfrm>
            <a:off x="1371600" y="4267080"/>
            <a:ext cx="43099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WordArt 9"/>
          <p:cNvSpPr txBox="1"/>
          <p:nvPr/>
        </p:nvSpPr>
        <p:spPr>
          <a:xfrm>
            <a:off x="2209680" y="304920"/>
            <a:ext cx="5181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ки сервиса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9" name="Picture 10" descr="Картинка 32 из 3402"/>
          <p:cNvPicPr/>
          <p:nvPr/>
        </p:nvPicPr>
        <p:blipFill>
          <a:blip r:embed="rId1"/>
          <a:stretch/>
        </p:blipFill>
        <p:spPr>
          <a:xfrm>
            <a:off x="3505320" y="1143000"/>
            <a:ext cx="1933560" cy="274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Картинка 74 из 3402"/>
          <p:cNvPicPr/>
          <p:nvPr/>
        </p:nvPicPr>
        <p:blipFill>
          <a:blip r:embed="rId2"/>
          <a:stretch/>
        </p:blipFill>
        <p:spPr>
          <a:xfrm>
            <a:off x="6654960" y="1143000"/>
            <a:ext cx="1911240" cy="2819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Картинка 402 из 3402"/>
          <p:cNvPicPr/>
          <p:nvPr/>
        </p:nvPicPr>
        <p:blipFill>
          <a:blip r:embed="rId3"/>
          <a:stretch/>
        </p:blipFill>
        <p:spPr>
          <a:xfrm>
            <a:off x="533520" y="1143000"/>
            <a:ext cx="1933560" cy="2743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Graphic003"/>
          <p:cNvPicPr/>
          <p:nvPr/>
        </p:nvPicPr>
        <p:blipFill>
          <a:blip r:embed="rId4"/>
          <a:stretch/>
        </p:blipFill>
        <p:spPr>
          <a:xfrm>
            <a:off x="6696000" y="4114800"/>
            <a:ext cx="1828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Нарушения5"/>
          <p:cNvPicPr/>
          <p:nvPr/>
        </p:nvPicPr>
        <p:blipFill>
          <a:blip r:embed="rId1"/>
          <a:stretch/>
        </p:blipFill>
        <p:spPr>
          <a:xfrm>
            <a:off x="395280" y="1158840"/>
            <a:ext cx="8327880" cy="5699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2608200" y="569880"/>
            <a:ext cx="462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1332000" y="404640"/>
            <a:ext cx="6410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ие правила нарушили дети?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d-st8-3"/>
          <p:cNvPicPr/>
          <p:nvPr/>
        </p:nvPicPr>
        <p:blipFill>
          <a:blip r:embed="rId1"/>
          <a:srcRect l="3723" t="6138" r="3099" b="7940"/>
          <a:stretch/>
        </p:blipFill>
        <p:spPr>
          <a:xfrm>
            <a:off x="1371600" y="1125360"/>
            <a:ext cx="6248520" cy="57326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152280" y="152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Назовите номера тех пешеходов, которые нарушают правила дорожного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ait</cp:lastModifiedBy>
  <dcterms:modified xsi:type="dcterms:W3CDTF">2012-12-09T17:32:23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