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3875-C3CA-4EFC-97D7-22B15B51F1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еобладающая тематика сюжетно-ролевых игр у девочек – «Семья», «Больница», «Магазин» и т.п. , то у мальчиков  доминируют игры  военно – героической 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CC3-1783-47B5-AD42-C78044FD90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7B3-9C38-4FAE-B69C-BB4F3FE1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CEB-58B4-4054-86D6-E5D23A3F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C837A-180E-4E17-8467-8E7140B4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9937E-90B5-42CA-B884-172D5803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CD845-90DA-4F2E-99E3-D93CCEE0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2DE4F-0C1F-4946-829C-EC01D32C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3C945-5FFF-4218-9A2E-1CFD283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EE264-D11C-4D94-9609-23FCE9B1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92629-B30F-49E7-A6E3-166921A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65A1C-797A-4237-8524-0A604AD1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AAEAE-CCB9-406E-BD38-66590176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9A331-C766-4EC7-833C-7ACA13E7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BD6-BC5B-4659-95A3-FE94D9A3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1A216-82B3-44D9-A0B1-7ECD0454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178E0-3B66-42B3-B7B2-28C8D097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1A173-0725-4D4F-A629-65D8FEF6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35D92-13E2-431C-A183-D6710CC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E1CF0-B397-4078-AA5B-29866B2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532C2-CDB9-4551-9C8B-3AA1F18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053C3-6E8A-4237-8572-35DC5CBE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F884E-2BFB-41CF-BB94-52776844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C0DD3-18FE-40D1-B18B-F0A91313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6FD5A-60F0-424A-B1B6-3D85B078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6F1-3516-44DA-90A8-51228F72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2CD0B-8ABD-447F-B084-C3777E9E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4B13C-320B-4EA7-AFF8-596E9CA7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B595A-86D8-42CD-AAC4-60828D0D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69227-6D58-4BD5-9184-CDD6319D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CCAC8-5D66-4709-8716-7188950D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8FA18-4A73-4938-B084-D2DC67A0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EBF0F-D611-4497-AB4C-5F3ED4E0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4C374-0089-4224-934E-08F87906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71EF7-A632-46BF-91EF-5196D06F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E0F87-B172-4539-A3DE-0323E9A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FB25-10B9-4AB9-949B-0F0063C8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A6665-CF1C-41CF-BC2A-37BA5B38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C3205-421F-4DE9-8D2D-04B6BB77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A5BAA-C78A-4ADB-8AEF-D2F33E34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E28A3-9285-4694-9210-E66A8E93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7FC89-677D-4200-BCFF-049F86A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D26E7-F508-4841-85CF-FAB1F11B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8F711-8F0F-48A7-82E4-93CE09A4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CCF01-B537-4FCD-AEC8-C2B628B5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F9C6A-60D1-4AAA-A2E6-EC9B742C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0C1A8-5EE9-4A5C-B33D-A583C1A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A16A-33D3-47C5-BF28-A1590ACC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9A537-FD55-4A17-B4CD-1A1A205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7551A-B281-42C8-864B-B9AB6BDA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2CEA6-411B-4538-85D9-ED074D03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02051-2BBD-449F-BC0E-93F1F36D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C8059-F376-4A88-9CF5-65E71BFF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0ED0-FE97-4663-B2DE-E0E0E9C2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4ED3-9984-4E21-8B50-F5E0CF7F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B616-E6C7-4220-84A2-B5B22B24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E0B9-83EC-48AD-800F-102E5CC0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2560-21AB-4719-BA5B-A6057DF5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82F-BA9E-4EEC-886B-0B32AC39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7763-042C-47C4-A32E-20FFF49A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928E-18F8-4F48-BD9B-D78418A0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045C-4623-4681-8F74-CD57EEBB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9308-BF4D-4C02-98BE-58C68B1B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F91F-408A-4A40-BDDA-36B1CD1A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622E-A234-448E-92AC-278D9E8D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9756E-E35B-4BFD-A394-9D72FC1A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D87A-9195-421D-BE2E-55D6B666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C968-17B6-4BDD-AF90-340E434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96AB-BDB0-4708-B497-C23F2E78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3CE-BB26-4C59-9068-1490E3A4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15E3-FA59-4307-BE82-BF700A40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C3F1-FDBB-4F95-B76B-F14B86B5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CE0D-586C-468D-A39C-83703D5F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435F-B57D-4B2F-A936-BEA07EE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0739-5C91-4484-A768-95A7B5B4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81F4-1728-4DB6-BB60-9BA750B8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493E-61E9-44EA-82EB-B234770E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3DB1-BA46-4C19-B50A-1D3B13FD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9AFE-47AF-409A-8C76-F0E4C551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8062-8379-404A-B981-176D041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006-A72D-4281-81F1-8FA57E5F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ACEC-8D25-4F24-B498-763EB0B0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8C1E-28CE-49A1-9425-994C926B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6D7B-7269-4276-9CCC-8B627192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3D9EC-5453-41E8-8369-165CF2BC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3D6A3-8C33-4136-AEA8-1E17A8F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8F9F2-7F42-48F4-BEA3-21200AB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8807-C9C7-452B-99B1-58A92C64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3B55-E142-4578-9AE2-1CE212F7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4289D-70A3-4732-B06F-1E19AC4D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10DB-2EDA-47D4-AD2C-03273F83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A4F-6148-44E5-975E-06788129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5CA2-358D-43C6-9FE4-598C89C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7B4B-8D1F-4516-A899-3F34FD27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8633-6AD8-4952-AAC4-98A97C13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1352-FD9E-4228-A284-3C454DC5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5BE9E-0084-40DF-AF15-10E5327A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8043F-188E-40EC-9077-4B0CCDF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DDE1A-068E-486C-8F3A-0F3FCF16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388CC-A14F-4ADD-8566-FAB84F03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89EDD-271F-4F95-A0E4-1B65F940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E29B-CEF9-493C-9BD8-B11B97B6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9F9-1FC8-4D90-93DD-435DE660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859A4-F94B-4995-963A-8E0F517F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1DDB-2DD7-446B-BB55-F1B99529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55E58-EE51-44FA-A0B8-E761441F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5375C-695F-4403-BA00-7FF8263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161B-EEB3-4CDE-B741-C9B0C2C7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365A8-CDD6-4554-844D-E56A8D12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6B3C4-8BB5-49B9-A6A3-BB291C71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D092A-5E97-4157-9350-422E2A2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38A91-8FCC-4297-B39C-D516F09C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FDD4-55EB-4F49-8B6E-773346F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E8F-A475-4B25-AC7D-401A7F3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52F3-C90A-47FC-BFCD-5990DAB3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9B34-8D26-4A48-8AC4-7ADC0F13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94B8-D728-4362-AD1C-57B4690C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13548-AA41-4A54-A8CB-F4D251B1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491D7-6EBE-4EDB-9269-E09B762E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081D0-C277-4D4E-AEFE-FCE5EB19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F59D6-EE5B-430C-A4CC-94828605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98407-226A-48D8-8CEA-3C6F0E77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5A38C-9C29-4F82-90C2-DF75252E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15662-A364-4FF7-97FE-2B3D2E6D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C82-0518-4DB6-997A-1271DB12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DB048-60DF-4BBA-90DB-099D85C3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A5A82-1558-4889-BE8D-D8793AB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38BC3-A844-4EE0-9585-38C2D430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7DE09-1F5F-489F-B381-D01DC9D1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3D58-2931-49C7-A950-4B5A7051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48448-67AF-4DCC-B375-DB1194B2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109B-F0A4-4869-926E-58DA0CCC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1D87A-7673-4197-AE16-5A982662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24005-55F7-4D81-B919-80A26FFF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26073-53D2-43BC-86D6-C83A5A06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1FB-1F49-46D1-B512-0069C12B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50BBD-BA03-4E01-905C-AE86CFAB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A0D41-7AED-4FA6-93A8-BBB844EC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24DA9-1B72-42B6-8801-D9B7A643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D4267-97A5-4847-9CFF-EE19574D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B0923-0E96-4AC0-A202-77E1877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8149-F040-4D6B-836F-1DF10A9A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2D282-84A3-4CE9-A528-6BBE795F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A21B3-B8C0-45AB-B693-27C374D8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6A6AD-940D-47EC-9BB3-4058CC0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057E9-FDEE-437B-80CF-50B475E3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8A6-611C-4D27-A94A-1D345876989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7FA8-E658-401E-96B3-B6B13F7A69B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3DBD-D794-4D1F-B360-61994BC8259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85E-E542-4E49-BF68-44E52248ECF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E394-F05A-4DF8-B4E5-CDA6E5F1348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A90D-FC56-4A94-BD07-92F3EE1C394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DCE-B48B-4C99-9B6C-D7F92E3C5BA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DA7F-41BC-4B9B-B476-B776CE0250F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2032-A567-4B77-BD8D-A3E94CB632C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0A57-CB13-4798-95CA-A662829FC1D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52EE-6E81-4610-AE9D-3F9DFEBCA069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252A-711C-4312-8BD8-D8DCC1824EF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МАНОВА О.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сти восприятия социальной действительности мальчиками и девочками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2" descr="C:\Users\Papik\Pictures\i.jpg"/>
          <p:cNvPicPr/>
          <p:nvPr/>
        </p:nvPicPr>
        <p:blipFill>
          <a:blip r:embed="rId1"/>
          <a:stretch/>
        </p:blipFill>
        <p:spPr>
          <a:xfrm>
            <a:off x="1571760" y="3286080"/>
            <a:ext cx="2143080" cy="23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дошкольном возрасте достаточно четко проявляется различие интересов и предпочтений мальчиков и девоче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Рисунок 3" descr="45.jpg"/>
          <p:cNvPicPr/>
          <p:nvPr/>
        </p:nvPicPr>
        <p:blipFill>
          <a:blip r:embed="rId1"/>
          <a:stretch/>
        </p:blipFill>
        <p:spPr>
          <a:xfrm>
            <a:off x="2571840" y="3286080"/>
            <a:ext cx="1590480" cy="242892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" descr="46.jpg"/>
          <p:cNvPicPr/>
          <p:nvPr/>
        </p:nvPicPr>
        <p:blipFill>
          <a:blip r:embed="rId2"/>
          <a:stretch/>
        </p:blipFill>
        <p:spPr>
          <a:xfrm>
            <a:off x="5214960" y="3286080"/>
            <a:ext cx="15717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7b9899"/>
                </a:solidFill>
                <a:latin typeface="Georgia"/>
              </a:rPr>
              <a:t>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7b9899"/>
                </a:solidFill>
                <a:latin typeface="Georgia"/>
              </a:rPr>
              <a:t>Уже в младшей группе детского сада происходит половая консолидация — девочки предпочитают играть с девочками, а мальчики — с мальчиками.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Содержимое 3" descr="2.jpg"/>
          <p:cNvPicPr/>
          <p:nvPr/>
        </p:nvPicPr>
        <p:blipFill>
          <a:blip r:embed="rId1"/>
          <a:stretch/>
        </p:blipFill>
        <p:spPr>
          <a:xfrm>
            <a:off x="2428920" y="385776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4" descr="17.jpg"/>
          <p:cNvPicPr/>
          <p:nvPr/>
        </p:nvPicPr>
        <p:blipFill>
          <a:blip r:embed="rId2"/>
          <a:stretch/>
        </p:blipFill>
        <p:spPr>
          <a:xfrm>
            <a:off x="4714920" y="3786120"/>
            <a:ext cx="1895400" cy="178596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5" descr="29.jpg"/>
          <p:cNvPicPr/>
          <p:nvPr/>
        </p:nvPicPr>
        <p:blipFill>
          <a:blip r:embed="rId3"/>
          <a:stretch/>
        </p:blipFill>
        <p:spPr>
          <a:xfrm>
            <a:off x="285840" y="3500280"/>
            <a:ext cx="1904760" cy="207180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7" descr="61.jpg"/>
          <p:cNvPicPr/>
          <p:nvPr/>
        </p:nvPicPr>
        <p:blipFill>
          <a:blip r:embed="rId4"/>
          <a:stretch/>
        </p:blipFill>
        <p:spPr>
          <a:xfrm>
            <a:off x="6929280" y="3571920"/>
            <a:ext cx="1905120" cy="207180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9" descr="63.jpg"/>
          <p:cNvPicPr/>
          <p:nvPr/>
        </p:nvPicPr>
        <p:blipFill>
          <a:blip r:embed="rId5"/>
          <a:stretch/>
        </p:blipFill>
        <p:spPr>
          <a:xfrm>
            <a:off x="2143080" y="1571760"/>
            <a:ext cx="2114640" cy="171432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10" descr="64.jpg"/>
          <p:cNvPicPr/>
          <p:nvPr/>
        </p:nvPicPr>
        <p:blipFill>
          <a:blip r:embed="rId6"/>
          <a:stretch/>
        </p:blipFill>
        <p:spPr>
          <a:xfrm>
            <a:off x="5572080" y="1571760"/>
            <a:ext cx="190512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Игровая деятельност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преобладающая тематика сюжетно-ролевых игр у девочек – «Семья», «Больница», «Магазин» и т.п. , то у мальчиков  доминируют игры  военно – героической тематики, игры с конструктором и машин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10" descr="C:\Users\Papik\Pictures\12.jpg"/>
          <p:cNvPicPr/>
          <p:nvPr/>
        </p:nvPicPr>
        <p:blipFill>
          <a:blip r:embed="rId1"/>
          <a:stretch/>
        </p:blipFill>
        <p:spPr>
          <a:xfrm rot="340200">
            <a:off x="1143000" y="2714760"/>
            <a:ext cx="2103480" cy="13572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C:\Users\Papik\Pictures\16.jpg"/>
          <p:cNvPicPr/>
          <p:nvPr/>
        </p:nvPicPr>
        <p:blipFill>
          <a:blip r:embed="rId2"/>
          <a:stretch/>
        </p:blipFill>
        <p:spPr>
          <a:xfrm rot="20864400">
            <a:off x="1785960" y="435744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2" descr="C:\Users\Papik\Pictures\28.jpg"/>
          <p:cNvPicPr/>
          <p:nvPr/>
        </p:nvPicPr>
        <p:blipFill>
          <a:blip r:embed="rId3"/>
          <a:stretch/>
        </p:blipFill>
        <p:spPr>
          <a:xfrm rot="20805600">
            <a:off x="6572160" y="2357280"/>
            <a:ext cx="1790640" cy="19288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3" descr="C:\Users\Papik\Pictures\30.jpg"/>
          <p:cNvPicPr/>
          <p:nvPr/>
        </p:nvPicPr>
        <p:blipFill>
          <a:blip r:embed="rId4"/>
          <a:stretch/>
        </p:blipFill>
        <p:spPr>
          <a:xfrm rot="1651200">
            <a:off x="5286240" y="4428720"/>
            <a:ext cx="228600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Изобразительная деятельность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2" descr="C:\Users\Papik\Pictures\10.jpg"/>
          <p:cNvPicPr/>
          <p:nvPr/>
        </p:nvPicPr>
        <p:blipFill>
          <a:blip r:embed="rId1"/>
          <a:stretch/>
        </p:blipFill>
        <p:spPr>
          <a:xfrm>
            <a:off x="1714680" y="4786200"/>
            <a:ext cx="2047680" cy="14288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C:\Users\Papik\Pictures\26.jpg"/>
          <p:cNvPicPr/>
          <p:nvPr/>
        </p:nvPicPr>
        <p:blipFill>
          <a:blip r:embed="rId2"/>
          <a:stretch/>
        </p:blipFill>
        <p:spPr>
          <a:xfrm rot="20250000">
            <a:off x="531720" y="3015720"/>
            <a:ext cx="2610000" cy="14288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C:\Users\Papik\Pictures\14.jpg"/>
          <p:cNvPicPr/>
          <p:nvPr/>
        </p:nvPicPr>
        <p:blipFill>
          <a:blip r:embed="rId3"/>
          <a:stretch/>
        </p:blipFill>
        <p:spPr>
          <a:xfrm>
            <a:off x="4429080" y="464328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C:\Users\Papik\Pictures\15.jpg"/>
          <p:cNvPicPr/>
          <p:nvPr/>
        </p:nvPicPr>
        <p:blipFill>
          <a:blip r:embed="rId4"/>
          <a:stretch/>
        </p:blipFill>
        <p:spPr>
          <a:xfrm rot="1213800">
            <a:off x="6399000" y="2662200"/>
            <a:ext cx="2019240" cy="14288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C:\Users\Papik\Pictures\13.jpg"/>
          <p:cNvPicPr/>
          <p:nvPr/>
        </p:nvPicPr>
        <p:blipFill>
          <a:blip r:embed="rId5"/>
          <a:stretch/>
        </p:blipFill>
        <p:spPr>
          <a:xfrm>
            <a:off x="6572160" y="4429080"/>
            <a:ext cx="2362320" cy="2000160"/>
          </a:xfrm>
          <a:prstGeom prst="rect">
            <a:avLst/>
          </a:prstGeom>
          <a:ln w="0">
            <a:noFill/>
          </a:ln>
        </p:spPr>
      </p:pic>
      <p:sp>
        <p:nvSpPr>
          <p:cNvPr id="639" name="Прямоугольник 8"/>
          <p:cNvSpPr/>
          <p:nvPr/>
        </p:nvSpPr>
        <p:spPr>
          <a:xfrm>
            <a:off x="714240" y="15717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рисунках мальчиков преобладает военно-индустриальная тематика. Девочки чаще изображают людей, природу, прин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7" descr="C:\Users\Papik\Pictures\9.jpg"/>
          <p:cNvPicPr/>
          <p:nvPr/>
        </p:nvPicPr>
        <p:blipFill>
          <a:blip r:embed="rId6"/>
          <a:stretch/>
        </p:blipFill>
        <p:spPr>
          <a:xfrm rot="881400">
            <a:off x="3936960" y="25750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вижные иг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Содержимое 4" descr="44.jpg"/>
          <p:cNvPicPr/>
          <p:nvPr/>
        </p:nvPicPr>
        <p:blipFill>
          <a:blip r:embed="rId1"/>
          <a:stretch/>
        </p:blipFill>
        <p:spPr>
          <a:xfrm rot="21151800">
            <a:off x="1304640" y="4915080"/>
            <a:ext cx="2071440" cy="152388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5" descr="48.jpg"/>
          <p:cNvPicPr/>
          <p:nvPr/>
        </p:nvPicPr>
        <p:blipFill>
          <a:blip r:embed="rId2"/>
          <a:stretch/>
        </p:blipFill>
        <p:spPr>
          <a:xfrm>
            <a:off x="357120" y="307188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6" descr="47.jpg"/>
          <p:cNvPicPr/>
          <p:nvPr/>
        </p:nvPicPr>
        <p:blipFill>
          <a:blip r:embed="rId3"/>
          <a:stretch/>
        </p:blipFill>
        <p:spPr>
          <a:xfrm rot="20328000">
            <a:off x="4328640" y="3978000"/>
            <a:ext cx="2124360" cy="142884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7" descr="50.jpg"/>
          <p:cNvPicPr/>
          <p:nvPr/>
        </p:nvPicPr>
        <p:blipFill>
          <a:blip r:embed="rId4"/>
          <a:stretch/>
        </p:blipFill>
        <p:spPr>
          <a:xfrm>
            <a:off x="6357960" y="2357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8" descr="49.jpg"/>
          <p:cNvPicPr/>
          <p:nvPr/>
        </p:nvPicPr>
        <p:blipFill>
          <a:blip r:embed="rId5"/>
          <a:stretch/>
        </p:blipFill>
        <p:spPr>
          <a:xfrm rot="1198200">
            <a:off x="6831000" y="47116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9" descr="51.jpg"/>
          <p:cNvPicPr/>
          <p:nvPr/>
        </p:nvPicPr>
        <p:blipFill>
          <a:blip r:embed="rId6"/>
          <a:stretch/>
        </p:blipFill>
        <p:spPr>
          <a:xfrm rot="594600">
            <a:off x="2320920" y="231588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10"/>
          <p:cNvSpPr/>
          <p:nvPr/>
        </p:nvSpPr>
        <p:spPr>
          <a:xfrm>
            <a:off x="500040" y="15001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альчиков игры подвижные — с непрерывным бегом, прыжками, ездой на велосипеде, у девочек — более спокой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амостоятельная деятельность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2" descr="C:\Users\Papik\Pictures\32.jpg"/>
          <p:cNvPicPr/>
          <p:nvPr/>
        </p:nvPicPr>
        <p:blipFill>
          <a:blip r:embed="rId1"/>
          <a:stretch/>
        </p:blipFill>
        <p:spPr>
          <a:xfrm>
            <a:off x="3643200" y="3929040"/>
            <a:ext cx="2019240" cy="14288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" descr="C:\Users\Papik\Pictures\21.jpg"/>
          <p:cNvPicPr/>
          <p:nvPr/>
        </p:nvPicPr>
        <p:blipFill>
          <a:blip r:embed="rId2"/>
          <a:stretch/>
        </p:blipFill>
        <p:spPr>
          <a:xfrm rot="977400">
            <a:off x="6372000" y="4770360"/>
            <a:ext cx="2133360" cy="1428840"/>
          </a:xfrm>
          <a:prstGeom prst="rect">
            <a:avLst/>
          </a:prstGeom>
          <a:ln w="0">
            <a:noFill/>
          </a:ln>
        </p:spPr>
      </p:pic>
      <p:pic>
        <p:nvPicPr>
          <p:cNvPr id="652" name="Рисунок 6" descr="35.jpg"/>
          <p:cNvPicPr/>
          <p:nvPr/>
        </p:nvPicPr>
        <p:blipFill>
          <a:blip r:embed="rId3"/>
          <a:stretch/>
        </p:blipFill>
        <p:spPr>
          <a:xfrm rot="20989800">
            <a:off x="610920" y="27284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653" name="Рисунок 7" descr="40.jpg"/>
          <p:cNvPicPr/>
          <p:nvPr/>
        </p:nvPicPr>
        <p:blipFill>
          <a:blip r:embed="rId4"/>
          <a:stretch/>
        </p:blipFill>
        <p:spPr>
          <a:xfrm rot="20697600">
            <a:off x="857160" y="471456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654" name="Рисунок 8" descr="39.jpg"/>
          <p:cNvPicPr/>
          <p:nvPr/>
        </p:nvPicPr>
        <p:blipFill>
          <a:blip r:embed="rId5"/>
          <a:stretch/>
        </p:blipFill>
        <p:spPr>
          <a:xfrm rot="1471200">
            <a:off x="6640200" y="275904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7"/>
          <p:cNvSpPr/>
          <p:nvPr/>
        </p:nvSpPr>
        <p:spPr>
          <a:xfrm>
            <a:off x="642960" y="144468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шем дошкольном возрасте активно протекает процесс поло-ролевой социализации, ярко проявляются психологические особенности девочек и мальчиков, формируются свойственные полу интересы и склонност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Трудовая деятельност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Picture 2" descr="C:\Users\Оксана\Pictures\Новая папка\228_0504\IMG_2790.JPG"/>
          <p:cNvPicPr/>
          <p:nvPr/>
        </p:nvPicPr>
        <p:blipFill>
          <a:blip r:embed="rId1"/>
          <a:stretch/>
        </p:blipFill>
        <p:spPr>
          <a:xfrm>
            <a:off x="2500200" y="4357800"/>
            <a:ext cx="1781280" cy="1714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C:\Users\Оксана\Pictures\Новая папка\221_2403\IMG_2570.JPG"/>
          <p:cNvPicPr/>
          <p:nvPr/>
        </p:nvPicPr>
        <p:blipFill>
          <a:blip r:embed="rId2"/>
          <a:stretch/>
        </p:blipFill>
        <p:spPr>
          <a:xfrm>
            <a:off x="5643720" y="4357800"/>
            <a:ext cx="1571400" cy="1738080"/>
          </a:xfrm>
          <a:prstGeom prst="rect">
            <a:avLst/>
          </a:prstGeom>
          <a:ln w="0">
            <a:noFill/>
          </a:ln>
        </p:spPr>
      </p:pic>
      <p:pic>
        <p:nvPicPr>
          <p:cNvPr id="659" name="Содержимое 8" descr="IMG_2576.JPG"/>
          <p:cNvPicPr/>
          <p:nvPr/>
        </p:nvPicPr>
        <p:blipFill>
          <a:blip r:embed="rId3"/>
          <a:stretch/>
        </p:blipFill>
        <p:spPr>
          <a:xfrm>
            <a:off x="642960" y="2500200"/>
            <a:ext cx="1714320" cy="1928880"/>
          </a:xfrm>
          <a:prstGeom prst="rect">
            <a:avLst/>
          </a:prstGeom>
          <a:ln w="0">
            <a:noFill/>
          </a:ln>
        </p:spPr>
      </p:pic>
      <p:pic>
        <p:nvPicPr>
          <p:cNvPr id="660" name="Рисунок 9" descr="IMG_0811.JPG"/>
          <p:cNvPicPr/>
          <p:nvPr/>
        </p:nvPicPr>
        <p:blipFill>
          <a:blip r:embed="rId4"/>
          <a:stretch/>
        </p:blipFill>
        <p:spPr>
          <a:xfrm>
            <a:off x="7143840" y="2571840"/>
            <a:ext cx="1747800" cy="1785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C:\Users\Papik\Pictures\33.jpg"/>
          <p:cNvPicPr/>
          <p:nvPr/>
        </p:nvPicPr>
        <p:blipFill>
          <a:blip r:embed="rId5"/>
          <a:stretch/>
        </p:blipFill>
        <p:spPr>
          <a:xfrm>
            <a:off x="4500720" y="2571840"/>
            <a:ext cx="1285560" cy="1714320"/>
          </a:xfrm>
          <a:prstGeom prst="rect">
            <a:avLst/>
          </a:prstGeom>
          <a:ln w="0">
            <a:noFill/>
          </a:ln>
        </p:spPr>
      </p:pic>
      <p:sp>
        <p:nvSpPr>
          <p:cNvPr id="662" name="Прямоугольник 7"/>
          <p:cNvSpPr/>
          <p:nvPr/>
        </p:nvSpPr>
        <p:spPr>
          <a:xfrm>
            <a:off x="785880" y="157176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удовой деятельности мы видим, что мальчики занимаются более тяжелой работой, а девочки лег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2:59:01Z</dcterms:created>
  <dc:creator>Papik</dc:creator>
  <dc:description/>
  <dc:language>en-US</dc:language>
  <cp:lastModifiedBy>Papik</cp:lastModifiedBy>
  <dcterms:modified xsi:type="dcterms:W3CDTF">2012-12-09T10:57:54Z</dcterms:modified>
  <cp:revision>31</cp:revision>
  <dc:subject/>
  <dc:title>Особенности восприятия социальной действительности мальчиками и девочками</dc:title>
</cp:coreProperties>
</file>