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8A5-6833-476F-9229-758FF3D6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9EC-679E-42C8-BF11-B2E3869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7DE10-70BB-4FC2-A3A6-F7BA540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C47A6-AE2D-4EEC-8F02-AD7BFFE3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E15FD-115C-4501-9D5A-D0C35A8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7EE2-6D83-4287-86BE-2A2C54F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32BD-5116-44CF-AB2F-7A86F5F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7B20-EA0F-4246-B62C-DB254F4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01523-A933-4ECC-87EA-FE80B3F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7AE0D-AAF9-4689-BBBB-1FFB9D13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BCB8A-4995-466F-9B9F-9390E97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EB7A-AA57-4B31-BE72-FF06F87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B50-2E5C-4689-9179-F2CCF583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E4FD-4086-4163-A71B-5EFCE59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DBBD8-EB65-4B5B-90EC-7D15BE72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1A3CF-DC30-4EA3-9BD8-62943B0C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CD9BD-738B-4073-9936-779E2E5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1F895-EFB4-4477-B5AF-A6B0D27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3258D-86EE-43FC-9B70-859A743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90A3F-B9DD-4578-A16E-62BDAAE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01849-A2F0-434C-8D02-0C8701D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701BA-4099-4056-A0CA-E00A6B4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D52CC-FF21-4224-A035-339E6FE9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F9E-620D-44F7-8E59-058B3C20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945A9-F19F-413C-A2CB-5273D19C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9F962-8823-46D3-B1F8-1D0777E9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8896-5E17-490B-BF39-08CB165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7E8D-87AD-4C21-9E6A-FF92225B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C7015-8FFF-4F39-A767-786F18E7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5861A-7490-4641-9693-FAD6872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70B96-A9BA-4D32-8DAE-B99B894C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B79DD-FCB7-4F4C-A0FD-36F1E6D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72F7A-6148-4BA9-8153-0B8071F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1F1D4-36BA-4BEE-975E-AF79C2E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333-3D70-4F7C-BF38-2713A7DE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30AAC-5B50-4964-8D0A-BD0288B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92C4A-B908-4427-9318-19DE280B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ED625-0B5D-4B91-8187-911EB5B6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A97E0-2660-4DE8-85DE-1189B2A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41151-9DB8-4D5C-8FBA-6010E82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8B0BC-234A-4293-A72B-831E957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CD8C-F237-4769-93B1-B889FFB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F19A1-D9CE-46D9-B7F3-3694320E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95F73-45EF-485C-8A85-C668712A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89FAE-E8F7-4CF0-A216-46E4C47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6431-6614-41A2-B6B5-BC1444C5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42009-2853-44AB-99D9-4EEDEA81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542AF-6D8D-4788-8D99-1EBECCD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02827-20ED-4AB6-96DC-FF644DE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19ECD-DC97-4938-A5B2-94FF6705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554F-CD88-4487-B774-3CB531A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D401-A3D5-469B-B9DA-0F9579DD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9C6-DA27-48E3-8246-85DCEDF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C47B-6E73-40A8-9C1F-30E8354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BD0-817D-47EC-B415-8FEC75BD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516-DB14-4C0B-A95A-0CA73CD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451-D3A6-4321-BEC7-2F1254E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093-732D-4222-97F8-CD20A56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9EBB-7875-418A-9259-A2D7524A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DA8-3490-40BD-9051-7A0EA16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714-377F-43D3-96F9-1B4A3D0A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461-DB34-44A9-B550-4DAFC17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8291-4B65-4512-9648-31FF9024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98D9-BC79-4B4F-8224-2CF20E8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1FF7-D4AA-4F39-85B5-C65EB2E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E11F-071B-46F2-9CA8-75C1A451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8C1E-F5A8-4D7A-BAAD-8EAF9FD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41C-3F2F-48B6-9506-D6A462E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4E26-2960-4C06-9D7B-FAAC771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55FE-5A9F-4971-A6DA-D50600D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8B09-5D72-4CBB-897F-865BB46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5783-00BA-45ED-98A3-FC0E2AE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2226-BC08-4E4B-803F-E3B086E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BC97-3B63-4618-AF30-20D0A525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E6AF-D92C-4BFD-A7E3-5069E4EC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0B14-8E88-4421-BB01-88F3C34F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4BF9-F8F8-4310-A48B-34147F40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3178-DA6F-4F4D-87AC-10AD2BCA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A7F-23DE-4520-84E5-903F6F7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6817-42CE-43C2-8FC3-336E980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409E-00FB-469E-8963-2A21EBB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A625-BB3F-49BC-ABEB-633B95F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A22C-6102-45DE-9FF8-1E7D2F3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7CB5-BD90-4BC5-A08A-9D83B0E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1937-C2CE-4B05-B59A-19FE017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06FF-7D89-4187-BE43-7BBBA47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0CD3-FEC7-4481-8361-AD31BD70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786A-4843-4A06-BDF2-BAAA4DE3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0620F-6864-4E33-9008-CA2F5889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460-3F1E-4639-B52C-78A3199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A56E-8BFB-41B5-931A-0A685807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DAF5-54CB-4DCA-A952-CD2F6E1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2B0A-B71B-4182-8D7C-94A5BA49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9873-9BE7-4C25-B409-92A7A2C5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81CB-F6E5-409E-931D-47CFD4EC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E4B3-056A-4F2D-882D-B1FAC87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13A2-1077-4691-982C-BE55D21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5B87-3D65-4966-B11A-75E4450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1404-BC45-4AC6-BC92-4D7AEB03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8E75-937F-4873-9C22-3D1BFA4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FF1-681E-4230-85BD-EA78A969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8286-8E19-40CA-B841-27272AA9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13DE-065A-4E28-BE54-51B416EF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312F-8B99-4D92-BED9-14E70F6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F3A8-9E47-4AA0-97EE-7D335A3D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6346-D129-4FE4-9E29-C1369417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E135-07C6-4D61-8F47-0235EEAA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041A-0595-4D5F-B33B-1981040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E94C-89C5-45B7-8C9A-3DC2027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9AE7-35ED-4F77-B0FC-C70C123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872D-679B-45EF-9993-ED354D9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38E-2D68-4F79-8543-4C226CB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AF1F-9DF0-40EA-A5E2-899DBFF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92F6-24C8-4ACF-8FC1-763AB328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567B-FD1D-472B-8751-5A09C789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1DD6-7612-4C44-930E-9A0F6A0E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5323C-3B43-4929-934E-7EFF18FC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54DE-FD26-456E-943F-D1F0D3F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5EF7-E64B-423C-B766-9D9C5E6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22EA-78AF-46DC-9D96-B3B03CD5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CFA2-EA1B-46A6-B988-2039F1D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7F78-BC44-4D27-BF9F-CC1196E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2E1-8B28-49EF-8E48-DE79F22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5732-6E19-4486-B153-F348655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5F599-8EC6-4A93-9E1D-1B6EB91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0F7E-A9A0-49ED-A8BB-C0760960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F26B-1F76-452B-9F7E-26010A73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8B7E-A133-451C-9755-05F87F2D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55BA3-9BAC-4184-BDAB-DFFA3DE8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D71A-D223-4E46-810E-206FDFD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BD60-2AA5-4467-A589-510637DB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86958-0E11-4011-B1E6-DE5DD6EB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E271-6FDD-409C-931E-0ACF1E3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342-5D53-4D54-A335-438FBA4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8FB8-FE3F-4BEA-8439-817814F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70F6-44C9-4889-957C-58DAFD6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2033-FF44-4AE8-9B79-3B7A394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16F7-BD24-4705-868B-EA69C39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B813-3C67-417C-8B67-41065CB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F657-A5FF-4CA2-BCDF-5D2B1774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1D87-3015-4A39-BAE8-D41078BE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C4E2B-26C4-46A3-9807-A300B649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519B7-C1BC-40FF-AA76-93577844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9E522-7824-4612-9B98-724DC9D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6DB3-8725-4796-90FB-8E6A15579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A63-02A3-4994-B545-B56BF9CB4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5DB-4784-4ED3-9196-9952F3F7AA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34CD-A64E-4DFF-81E9-65089BB05E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2B1-BFC5-47C3-98C9-4FD91F6C78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2186-6EAB-4E03-B2BA-1FFD80502C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1B3-489E-4101-9776-9CC671C7A4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DCA3-7709-4BC4-BAF9-80CD5B51E6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D32B-D626-4F06-A97F-5EDD9C95D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DFE-D20A-4E56-A8F8-D23739040A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CA2-A83D-45A7-AFE0-D357737A3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CA7-09B4-455D-89EF-B0D24753CF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әхетле 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(В.Осееваның “Уллар” хикәясе буенч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2" name="Содержимое 3" descr="0008-008-Slovo-sinkvejn-prishlo-k-nam-iz-frantsuzskogo-jazyka-i-perevoditsja-kak.jpg"/>
          <p:cNvPicPr/>
          <p:nvPr/>
        </p:nvPicPr>
        <p:blipFill>
          <a:blip r:embed="rId1"/>
          <a:stretch/>
        </p:blipFill>
        <p:spPr>
          <a:xfrm>
            <a:off x="428760" y="500040"/>
            <a:ext cx="8072280" cy="60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Синквейн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Ә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әхетле, бәхетс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улыша, кайгыра, үстерә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Әнигә һәрвакыт булышырга кирә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дәнбер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12"/>
          <p:cNvPicPr/>
          <p:nvPr/>
        </p:nvPicPr>
        <p:blipFill>
          <a:blip r:embed="rId1"/>
          <a:stretch/>
        </p:blipFill>
        <p:spPr>
          <a:xfrm>
            <a:off x="115920" y="303120"/>
            <a:ext cx="8893080" cy="60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1680" y="713880"/>
            <a:ext cx="85406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tt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ни” сүз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Әни» диеп язып куйды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ңа яуган ак кар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птамагыз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ич ярам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Әни» сүзен таптар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әкия Туфай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01680" y="-17640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ир...к, кил..., к...чле, к...бек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итт..., кин...т, м...т...лчек ат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ч...к, к...р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0" name="Содержимое 3" descr="S5022918"/>
          <p:cNvPicPr/>
          <p:nvPr/>
        </p:nvPicPr>
        <p:blipFill>
          <a:blip r:embed="rId1"/>
          <a:stretch/>
        </p:blipFill>
        <p:spPr>
          <a:xfrm>
            <a:off x="1622520" y="1676520"/>
            <a:ext cx="5898960" cy="442260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4" descr="S5022918"/>
          <p:cNvPicPr/>
          <p:nvPr/>
        </p:nvPicPr>
        <p:blipFill>
          <a:blip r:embed="rId2"/>
          <a:stretch/>
        </p:blipFill>
        <p:spPr>
          <a:xfrm>
            <a:off x="179280" y="81000"/>
            <a:ext cx="8640720" cy="66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3" name="Содержимое 3" descr="S5022920"/>
          <p:cNvPicPr/>
          <p:nvPr/>
        </p:nvPicPr>
        <p:blipFill>
          <a:blip r:embed="rId1"/>
          <a:srcRect l="0" t="9998" r="0" b="1718"/>
          <a:stretch/>
        </p:blipFill>
        <p:spPr>
          <a:xfrm>
            <a:off x="179280" y="115920"/>
            <a:ext cx="8785440" cy="62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Сүзлек өстендә эш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Җитез – ловкий, быст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скитәрлек берни дә – ничего особе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тәлчек ата – кувырк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ерегезнең генә – только у 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нди?  - көчле , игътибарлы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җитез, эшчән, ялкау, ярдәмчел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тырыш, яхшы, нач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әмле сүзлә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ң якы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өек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дер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ур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ң изге ке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шы күңел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әрхәмәт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әфкать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үзем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бы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үзә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йгыртуч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дәнбер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22:08Z</dcterms:created>
  <dc:creator>Ришат</dc:creator>
  <dc:description/>
  <dc:language>en-US</dc:language>
  <cp:lastModifiedBy>Гадения</cp:lastModifiedBy>
  <dcterms:modified xsi:type="dcterms:W3CDTF">2012-03-15T08:48:20Z</dcterms:modified>
  <cp:revision>35</cp:revision>
  <dc:subject/>
  <dc:title>Зәкия Туфайлова</dc:title>
</cp:coreProperties>
</file>