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D42-5BD8-4B70-B3AB-B703C798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27A-BD06-48E8-9799-908FE734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D4E1B-263C-4A5D-8A39-E40662A1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4B7FD-6625-4898-8DD6-9713862A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8E9A6-1014-417C-8359-8D16003A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E5FC0-BA31-4B71-AA25-5D423AC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8E62E-2072-4FE0-A001-F10A980F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5187B-A09A-456E-8E98-CEE7DF18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4710F-2D17-49D9-97DD-37712ADE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3F311-D8EF-4628-9A4B-63369EE2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6E8E5-20F2-452F-A59F-5E7610CD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C0424-3BAA-4F68-9A39-C738A4EB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40C-3E32-46B8-87FE-68068934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F0DA5-31F4-4A08-B76C-B3578578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55178-22D9-4FF8-B759-FA944D76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35A26-7BD3-41E0-AB28-5C4BB20C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FB8EC-C995-462E-B057-A0683AF8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0F3CF-9D5A-4E76-9CAE-2A631A06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5E9B1-ECDA-4B15-9183-2466C46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20700-0840-4931-BF30-927FF25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341CD-57D4-4014-BB5F-E12A4F97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C6239-D2BD-4975-BE5C-D2AC87C1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D588D-F970-4D07-80E9-24DD9CE1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D9A-3B4E-4E8F-8779-AB65EBC2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C8E7A-3F31-4BE7-8C59-042CDBC3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6A246-9210-4E13-9D18-50C52DA7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E521C-6DA8-4243-AB45-17749EFB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36C17-C033-4EF1-B8CC-F9320D8C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9009A-F3BD-41A8-B88E-828796B2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F582C-2697-4791-BDD8-E1DDA451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37B20-36CE-4970-88FA-69468F70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BF36A-3B84-4F94-9D3C-2579415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78869-C431-4B78-A87B-A370DD8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FFC39-4D1F-4ED7-9E24-6BC62FA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E139-721B-444C-BC0C-C8604723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2D4C5-CD72-419C-BCB0-F1EB7053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AE31D-E21E-4171-BC56-D0E713B2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58E3A-0B13-4D4F-A0C8-9332464C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05AAC-BD06-4A69-A0D2-08FA3ECA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3CEA0-BFAB-4E1B-BEE0-C29A0C91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97719-419C-4651-A6DE-84A1AF50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1C383-D5A8-42B2-B567-3D4A8961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44358-F211-4449-B91F-E9BA97AD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7112C-546C-4A56-A2B2-8F63610E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D9845-A01A-4BE3-BF87-A6E4B60B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DB6C-1E41-4D26-8584-9B00C1CF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9394B-B26E-4C20-806D-C251AA50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D5131-F46A-42BC-A878-2D011186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8BAC7-EE35-4961-9E5C-CC490D91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9D16F-D922-41F4-9C81-10C9595E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13FAC-4DFB-4158-BD8C-D5DB3F9B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D010-3E40-41AF-A8C4-DCFF0124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BBF3-21A7-4A51-83CC-C3439A30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DB32-AB90-45E9-B884-563DEFD6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1C63-B821-4EB4-AC11-238FD13C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3566-9898-4BB2-859B-8F0D19A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DDC-B326-4B66-8AB1-35AB14F4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3104-AACF-4183-B048-A534CD1D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30AC-7B6E-4BA6-8923-5E309F0E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298F-0DDB-43C1-8194-387550A0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FE4C-2420-4D21-95F7-5F0C5D05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B5F9-B336-4087-B859-04B285BF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AF0E-5C65-410A-A692-7C813B08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C636-AA35-4EBE-B914-8226D152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2D479-CA72-4CAC-A5FF-284CD0E0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3CB7-691F-4F45-9E6C-5CBE7D45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4C82-CF4B-4E38-B71A-819176CE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1C0-9FD2-4CCA-A738-FA0FDC30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5665-B697-492D-8D3B-C8B6A09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5968-B4C3-4248-A26E-B34E3093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0EC8-A87E-428D-8EB6-5377101E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8D5C-7183-43D8-994C-9882CB8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6C65-8C9F-4870-8B52-4D9E1014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09DC-9EEB-4558-AD34-8F328A29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D32C-4A11-4976-A23B-6411A98A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104B-3F2D-4C4D-9C9B-6DECAAFD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AAE0-401D-4E75-A97C-B67A9DE3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5D08-E332-40EF-AB87-9F9D200E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49F-903C-464D-8E7D-B03E8BD1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6EB9-1E13-421A-8CF8-CDAA116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1EF2-1C27-4B6B-AB55-A89FA5AD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C916-4E1C-4BD0-BF49-42C1A3F9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F361-12F3-4D7E-8824-EE4B8E3B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AFF1-9C2C-49E8-BB13-E611E623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DCF58-3419-4658-B8C3-0DFDA6D6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C77B-45F6-4A25-8184-9D9EF27A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621F-711E-4018-8CF9-BE22E205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5A1A-DDA3-46B4-9132-854AD14E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2B9DF-3965-4D4F-B71C-2F15AF27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6F4-DC84-4051-8810-999150A3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A6B6E-23E7-4DF1-8468-19DFF6C3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00D11-CE5D-42BA-B44B-10E5AFA3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B5097-5BB0-43DD-86A2-83E5D49F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F9D1C-06BB-4880-A316-D6A93A8B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AD8FD-1E9E-4437-8F58-E4CE7752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81D2-8C8D-45B3-ACCC-5B87A957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F4A0-C664-4F74-A457-F0E70854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E851D-3CB7-4D73-B83B-0752544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10A2B-608D-43F4-8A74-A5B70856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4A6D8-128C-4DAE-8C8B-322ABE6D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D28-DF8C-457C-BE77-5E6FB4CF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9CDB1-76AD-495E-B0F1-C2CD463D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3BFC6-34EE-4345-8A17-5F9BC047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85096-B442-46C9-B9C0-6AEEF02F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3E59-8C88-4551-A15A-0187E414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4DB04-45C7-4A45-B848-075C491C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B7D63-370A-4FF7-A4F5-B2752A28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19C7-9AB5-42E8-B821-736E4270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0ADF-8EE4-4AF8-BCC2-63F128E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F81E2-9E75-417E-9100-044BDCE1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FC340-6183-4C0D-8D40-E90E193D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C1A-223A-4F7E-A678-9CF75311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0B561-8FB1-4CFF-A2C2-5CAEC4C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DDFB6-2DD2-42C7-8341-2BA74988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2796-2F93-40C5-90CA-93D61F7F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0EF05-EB7A-4F14-8D21-8C39DAF5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66107-6E73-4C8C-B022-4A760CC2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3F417-BE92-4B0A-B21B-FFDD6AB9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A8D66-F5A4-465F-B6CE-DD86D6D5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C8C99-1581-433F-BCF3-8D3A588C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5464-B187-4AD5-8FB1-4ADF34C6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6F3E5-C27B-4A19-B24A-A8C9642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CE0-E346-4056-A7D4-411D933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89142-843B-4605-A835-4055F7C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50635-72D6-455C-BCAA-5003800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2F81E-15A2-4F2E-AC80-FE678DA8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2A805-BF52-435F-AFAB-CF9AA926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7C1FE-FDE8-4282-82F5-C6499BA7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93A0E-7EF5-4E45-AE2E-0C4AAA43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CE8F-2300-4DC5-91DB-8F74C437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0B41D-ADC1-4B1D-A61E-13F4AA9E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9873B-415E-49FB-9142-D6DC42A2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3A638-8FF1-4FAF-99F1-92EF76A8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63D-62C4-4327-95F5-597259B0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ACC51-A1C4-4C99-A55E-21F4E7CC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9838B-2BE5-4891-8E55-F6DAF34D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66DC5-3A73-4D7B-8667-1C0483C1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10DA-D352-48AC-A5B4-0BE34684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2450-9AA4-4F45-8F74-AE187D3C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84F71-4A05-47A0-A9E3-9DD6297A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7ED5D-C8D1-4D57-808C-B93048EA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03D01-477E-46F8-9D1F-B5E59BC2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8BE14-B87F-42E4-AD2A-70A76BC8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D7758-56AA-4897-A120-7080137D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9BDB-C0BC-49BB-AE8A-754D35833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A05E-1D2B-4E4D-B452-443CD5DB4B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CC2D-6BD6-4716-9465-719984C866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C18F-C638-4368-90EC-94CDDBFDFB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AC27-963C-42FE-AB9B-6E9FA40C95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227F-6B9E-4218-9E77-4091F2E0D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6F6F-A194-4DBA-9DDD-8B1ECC04E2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FDD0-E38D-4680-A2D3-8DB3A97EC5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5A28-6287-433B-9A4B-8F83FB7FAC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C586-58ED-40BC-B3C2-5AC4712629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11E4-0E49-428E-BEB4-F618984F7C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AC7E-8E49-4629-AC85-7573949522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әхетле 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(В.Осееваның “Уллар” хикәясе буенч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2" name="Содержимое 3" descr="0008-008-Slovo-sinkvejn-prishlo-k-nam-iz-frantsuzskogo-jazyka-i-perevoditsja-kak.jpg"/>
          <p:cNvPicPr/>
          <p:nvPr/>
        </p:nvPicPr>
        <p:blipFill>
          <a:blip r:embed="rId1"/>
          <a:stretch/>
        </p:blipFill>
        <p:spPr>
          <a:xfrm>
            <a:off x="428760" y="500040"/>
            <a:ext cx="8072280" cy="60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Синквейн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Ә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әхетле, бәхетс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улыша, кайгыра, үстерә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Әнигә һәрвакыт булышырга кирә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ердәнбере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4" descr="12"/>
          <p:cNvPicPr/>
          <p:nvPr/>
        </p:nvPicPr>
        <p:blipFill>
          <a:blip r:embed="rId1"/>
          <a:stretch/>
        </p:blipFill>
        <p:spPr>
          <a:xfrm>
            <a:off x="115920" y="303120"/>
            <a:ext cx="8893080" cy="60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1680" y="713880"/>
            <a:ext cx="85406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tt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ни” сүз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Әни» диеп язып куйды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ңа яуган ак карг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птамагыз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ич ярам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Әни» сүзен таптарг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әкия Туфай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301680" y="-176400"/>
            <a:ext cx="8510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Кир...к, кил..., к...чле, к...бек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китт..., кин...т, м...т...лчек ат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нич...к, к...р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0" name="Содержимое 3" descr="S5022918"/>
          <p:cNvPicPr/>
          <p:nvPr/>
        </p:nvPicPr>
        <p:blipFill>
          <a:blip r:embed="rId1"/>
          <a:stretch/>
        </p:blipFill>
        <p:spPr>
          <a:xfrm>
            <a:off x="1622520" y="1676520"/>
            <a:ext cx="5898960" cy="442260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4" descr="S5022918"/>
          <p:cNvPicPr/>
          <p:nvPr/>
        </p:nvPicPr>
        <p:blipFill>
          <a:blip r:embed="rId2"/>
          <a:stretch/>
        </p:blipFill>
        <p:spPr>
          <a:xfrm>
            <a:off x="179280" y="81000"/>
            <a:ext cx="8640720" cy="66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3" name="Содержимое 3" descr="S5022920"/>
          <p:cNvPicPr/>
          <p:nvPr/>
        </p:nvPicPr>
        <p:blipFill>
          <a:blip r:embed="rId1"/>
          <a:srcRect l="0" t="9998" r="0" b="1718"/>
          <a:stretch/>
        </p:blipFill>
        <p:spPr>
          <a:xfrm>
            <a:off x="179280" y="115920"/>
            <a:ext cx="8785440" cy="62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Сүзлек өстендә эш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Җитез – ловкий, быстр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Искитәрлек берни дә – ничего особен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Мәтәлчек ата – кувырк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ерегезнең генә – только у од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Нинди?  - көчле , игътибарлы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җитез, эшчән, ялкау, ярдәмчел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тырыш, яхшы, нача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Тәмле сүзләр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ң якы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өек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дер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ур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ң изге ке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хшы күңел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әрхәмәт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әфкатьл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үзем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бы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үзә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йгыртуч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дәнбер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22:08Z</dcterms:created>
  <dc:creator>Ришат</dc:creator>
  <dc:description/>
  <dc:language>en-US</dc:language>
  <cp:lastModifiedBy>Гадения</cp:lastModifiedBy>
  <dcterms:modified xsi:type="dcterms:W3CDTF">2012-03-15T08:48:20Z</dcterms:modified>
  <cp:revision>35</cp:revision>
  <dc:subject/>
  <dc:title>Зәкия Туфайлова</dc:title>
</cp:coreProperties>
</file>