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4F6-463F-4B60-805E-78102AB2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D04-2081-486C-8B03-7699E805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209-F5B5-49A6-BEF9-7401121B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9DE-2987-47F4-A97B-D9E05FEC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654A-918A-4FC2-94EF-22FAED3B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FBFB-5FAC-405C-881F-1F749395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EE27-FCE3-45CC-AD19-9CAAB6D7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ED8B-C5D9-48D5-A2DF-D6F0F438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DAB2-F5D5-455A-B744-135D59A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6488-B196-4119-B9FE-F3FD62C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F349-6077-45F6-BBE2-1BA0F064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C2D-8DD8-4DC2-B054-C30E2276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229A-F406-478D-820E-419EA663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EF99-5887-42EA-864D-FD3CCED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7FC7-C919-4C2C-8207-05E5A62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43B6-010F-4193-BD71-AFF79BC3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46E-E4A1-4663-BCF1-E6D24861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6EE-029D-4648-A25E-DB5BAFB1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79B-92A2-4D45-B11B-4AB38863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938-F8FD-43B2-A17B-B4B0567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56C-E348-4C71-B684-E03B947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B6B-2A6F-4F1B-A365-EF9A6D2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E54-F0DD-4263-BB09-5EEFB92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773-2CCD-4F8E-B660-B8EAD069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8F36-043A-4049-AD81-4379CBECB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405-807E-495B-91C1-C143FD618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cocollaps.ru/wp-content/uploads/2011/06/583838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entaregion.ru/wp-content/uploads/2011/05/pojar..jpg" TargetMode="External"/><Relationship Id="rId3" Type="http://schemas.openxmlformats.org/officeDocument/2006/relationships/hyperlink" Target="http://lentaregion.ru/wp-content/uploads/2011/05/pojar.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9400"/>
            <a:ext cx="777240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Пожар в лесу.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м страшен пожар в лесу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0"/>
          <a:ext cx="6657840" cy="4267080"/>
        </p:xfrm>
        <a:graphic>
          <a:graphicData uri="http://schemas.openxmlformats.org/drawingml/2006/table">
            <a:tbl>
              <a:tblPr/>
              <a:tblGrid>
                <a:gridCol w="600984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Картинка 2 из 152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700280"/>
            <a:ext cx="777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жар уничтожает всё на своём пут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6654960" cy="4251240"/>
        </p:xfrm>
        <a:graphic>
          <a:graphicData uri="http://schemas.openxmlformats.org/drawingml/2006/table">
            <a:tbl>
              <a:tblPr/>
              <a:tblGrid>
                <a:gridCol w="600696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Картинка 6 из 152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1989000"/>
            <a:ext cx="7417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гонь не щадит никого и ничег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0"/>
          <a:ext cx="6559560" cy="3840120"/>
        </p:xfrm>
        <a:graphic>
          <a:graphicData uri="http://schemas.openxmlformats.org/drawingml/2006/table">
            <a:tbl>
              <a:tblPr/>
              <a:tblGrid>
                <a:gridCol w="591156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Картинка 23 из 15239"/>
          <p:cNvPicPr/>
          <p:nvPr/>
        </p:nvPicPr>
        <p:blipFill>
          <a:blip r:embed="rId2"/>
          <a:stretch/>
        </p:blipFill>
        <p:spPr>
          <a:xfrm>
            <a:off x="826920" y="1628640"/>
            <a:ext cx="7490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лени спасаются от пожа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6504120" cy="3597120"/>
        </p:xfrm>
        <a:graphic>
          <a:graphicData uri="http://schemas.openxmlformats.org/drawingml/2006/table">
            <a:tbl>
              <a:tblPr/>
              <a:tblGrid>
                <a:gridCol w="585612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Картинка 9 из 3648"/>
          <p:cNvPicPr/>
          <p:nvPr/>
        </p:nvPicPr>
        <p:blipFill>
          <a:blip r:embed="rId2"/>
          <a:stretch/>
        </p:blipFill>
        <p:spPr>
          <a:xfrm>
            <a:off x="900000" y="1628640"/>
            <a:ext cx="7201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6654960" cy="4251240"/>
        </p:xfrm>
        <a:graphic>
          <a:graphicData uri="http://schemas.openxmlformats.org/drawingml/2006/table">
            <a:tbl>
              <a:tblPr/>
              <a:tblGrid>
                <a:gridCol w="600696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Картинка 50 из 3648"/>
          <p:cNvPicPr/>
          <p:nvPr/>
        </p:nvPicPr>
        <p:blipFill>
          <a:blip r:embed="rId2"/>
          <a:stretch/>
        </p:blipFill>
        <p:spPr>
          <a:xfrm>
            <a:off x="826920" y="112536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Как спасаются от    пожара зайцы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8:14:18Z</dcterms:created>
  <dc:creator>user</dc:creator>
  <dc:description/>
  <dc:language>en-US</dc:language>
  <cp:lastModifiedBy>user</cp:lastModifiedBy>
  <dcterms:modified xsi:type="dcterms:W3CDTF">2012-12-09T17:56:42Z</dcterms:modified>
  <cp:revision>3</cp:revision>
  <dc:subject/>
  <dc:title>Пожар в лесу.</dc:title>
</cp:coreProperties>
</file>