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CAD-3633-4CE5-B0F2-9A7726DD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53E-B505-4EBD-8C44-8150CBE9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CDD-9FF0-4DE7-9317-49182056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CB0-6F1E-4795-9F5E-85A56330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C7FB8-3E32-4DF8-AAA0-603DCE4F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E8FCE-20F9-4668-9592-84DC3E88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275A4-3C98-44DC-AA78-FAA4242E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297EB-1F73-49B4-A83E-BB37B914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E3DC7-DCA6-4C55-898A-D3637117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27445-A7CA-4E6C-9E2B-86C6644B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488A5-8211-4766-94CC-71BA5FB1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7A7-26C7-4AC3-9BBA-186A432A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621A4-87E9-44B5-9C62-F921D5A5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C8CC3-8F78-4567-AEF1-55A2D9EB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B951E-5105-495E-93B6-170404C4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3EB52-C26F-45FC-97C7-04CD5712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AEF20-5786-4399-8B97-3A965101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EC8-DE66-4663-A4D5-3CA401FD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B6C-99A4-4939-B863-74385510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A2F-4BE5-45CE-B96A-0B9CDA28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611-04B7-4298-AD78-46322743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1A4-621E-47CC-8308-2F6FA4BE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4BC-606E-4623-8ADB-6900DC1D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9EB-67E1-4300-BE13-EB7BBEC9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9956-BDD8-4B67-843B-A3E54601C0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6F0F-A26A-4047-A1F5-EB1ED12B49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4360" y="333360"/>
            <a:ext cx="74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 Valentine was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989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) A teac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04000" y="21337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) A sold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9640" y="27813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) A pri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2982960" cy="2443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 flipH="1">
            <a:off x="6907320" y="2708280"/>
            <a:ext cx="2862000" cy="3911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492360" y="3645000"/>
            <a:ext cx="23972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4360" y="333360"/>
            <a:ext cx="74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 Valentine lived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285264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) In Gree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4000" y="1989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) In R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9162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) In Great Bri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00360" y="3716280"/>
            <a:ext cx="4103640" cy="2752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962360" cy="3040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50920" y="3141720"/>
            <a:ext cx="19825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4360" y="333360"/>
            <a:ext cx="74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 Valentine 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s beheaded because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1989000"/>
            <a:ext cx="34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) He secretly married young cou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98900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) He ran away with the Emperor’s daugh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551664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) He was always in love with some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4365720"/>
            <a:ext cx="1598400" cy="2192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020000" y="4508640"/>
            <a:ext cx="1913040" cy="1952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203640" y="2997360"/>
            <a:ext cx="291312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72240" cy="6553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76360" y="1413000"/>
            <a:ext cx="259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en St. Valentine was in prison, who did he fall in love wi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1640" y="404640"/>
            <a:ext cx="31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) His prisoner’s daug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96000" y="2565360"/>
            <a:ext cx="30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b) His prisoner’s w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479736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) His prisoner’s s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72240" cy="655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4130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girl St. Valentine was in love wi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404640"/>
            <a:ext cx="31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) couldn’t hear (she was dea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2349360"/>
            <a:ext cx="30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b) couldn’t see (she was bli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458136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) couldn’t see and hear (blind and dea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333360"/>
            <a:ext cx="74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ich God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s the symbol of St. Valentine's Day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43280" y="2133720"/>
            <a:ext cx="3489120" cy="2935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0920" y="2852640"/>
            <a:ext cx="266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A) Ero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2852640"/>
            <a:ext cx="291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onotype Corsiva"/>
              </a:rPr>
              <a:t>B) Cupi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5589720"/>
            <a:ext cx="2808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onotype Corsiva"/>
              </a:rPr>
              <a:t>c) Apoll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4360" y="333360"/>
            <a:ext cx="74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are the flowers 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f St. Valentine's Day?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06064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Monotype Corsiva"/>
              </a:rPr>
              <a:t>A) Tulip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2060640"/>
            <a:ext cx="23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B) Ros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5300640"/>
            <a:ext cx="352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Monotype Corsiva"/>
              </a:rPr>
              <a:t>c) Sunflowe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659640" y="2997360"/>
            <a:ext cx="2324160" cy="2935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9640" y="3141720"/>
            <a:ext cx="1839960" cy="325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843280" y="1989000"/>
            <a:ext cx="38862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6:41:35Z</dcterms:created>
  <dc:creator>Ольга</dc:creator>
  <dc:description/>
  <dc:language>en-US</dc:language>
  <cp:lastModifiedBy>Ольга</cp:lastModifiedBy>
  <dcterms:modified xsi:type="dcterms:W3CDTF">2008-02-10T18:19:12Z</dcterms:modified>
  <cp:revision>5</cp:revision>
  <dc:subject/>
  <dc:title>Слайд 1</dc:title>
</cp:coreProperties>
</file>