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BA87-B847-4C7F-9780-40CBF9B6BD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1AB7-1453-4EE6-B2BC-6C40920EB9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35C5-0B27-4DB2-B963-C372BE1A48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5B20-474C-4A04-8898-3CCADBE42A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5DE5-1545-41CB-8BC3-616F361066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9CC9-46F5-4BC6-BB36-9CBD9BBD66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4BF-4C3A-49FE-8C68-2E075F9C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EB6-1B2C-49C5-967E-0BB8598E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FDE-983E-4C06-A574-A1CC5013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135-0865-4F70-9D93-F49B9150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062-E34E-4C40-BB89-A0A8390D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301-FE85-4B8C-B55B-EF30E3C6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547-487D-4A65-B9FA-C11F8C23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E0E-8E19-410C-8E8E-FEE221AB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224-A11D-4989-A83D-5B12128A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79E-FD7F-4AB1-902D-7B7B7FB5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C6E-FFFE-4371-87B7-162C7028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5A2-F729-411A-81D6-780DFA13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5C97-FEC7-421E-B57E-F32BE310C37D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7AE0-35BD-43F9-9535-A08C13B1A66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6" name="Group 22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" name="Picture 24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Freeform 25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26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27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Group 28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13" name="Rectangle 29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30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31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32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33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34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26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1027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28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029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030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031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032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33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4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035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036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03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038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039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040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7"/>
          <p:cNvSpPr/>
          <p:nvPr/>
        </p:nvSpPr>
        <p:spPr>
          <a:xfrm>
            <a:off x="0" y="3422520"/>
            <a:ext cx="9144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0" y="527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23"/>
          <p:cNvSpPr txBox="1"/>
          <p:nvPr/>
        </p:nvSpPr>
        <p:spPr>
          <a:xfrm>
            <a:off x="1676520" y="838080"/>
            <a:ext cx="6162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Наш край - Югра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Picture 25" descr=""/>
          <p:cNvPicPr/>
          <p:nvPr/>
        </p:nvPicPr>
        <p:blipFill>
          <a:blip r:embed="rId3"/>
          <a:srcRect l="0" t="0" r="3317" b="0"/>
          <a:stretch/>
        </p:blipFill>
        <p:spPr>
          <a:xfrm>
            <a:off x="3683160" y="3284640"/>
            <a:ext cx="283032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6330-17C0-4E52-A472-AC4513208C57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D550-0DD4-4EE9-B31B-0DAACA795E7B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1440" y="304560"/>
            <a:ext cx="756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Monotype Corsiva"/>
              </a:rPr>
              <a:t>Родной край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14Zima"/>
          <p:cNvPicPr/>
          <p:nvPr/>
        </p:nvPicPr>
        <p:blipFill>
          <a:blip r:embed="rId1"/>
          <a:stretch/>
        </p:blipFill>
        <p:spPr>
          <a:xfrm>
            <a:off x="1187280" y="155736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17Vesna"/>
          <p:cNvPicPr/>
          <p:nvPr/>
        </p:nvPicPr>
        <p:blipFill>
          <a:blip r:embed="rId2"/>
          <a:stretch/>
        </p:blipFill>
        <p:spPr>
          <a:xfrm>
            <a:off x="5076720" y="1557360"/>
            <a:ext cx="3810240" cy="2685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LetReka="/>
          <p:cNvPicPr/>
          <p:nvPr/>
        </p:nvPicPr>
        <p:blipFill>
          <a:blip r:embed="rId3"/>
          <a:stretch/>
        </p:blipFill>
        <p:spPr>
          <a:xfrm>
            <a:off x="4859280" y="4160880"/>
            <a:ext cx="4033800" cy="269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Ch_Osen"/>
          <p:cNvPicPr/>
          <p:nvPr/>
        </p:nvPicPr>
        <p:blipFill>
          <a:blip r:embed="rId4"/>
          <a:stretch/>
        </p:blipFill>
        <p:spPr>
          <a:xfrm>
            <a:off x="1187280" y="4157640"/>
            <a:ext cx="3816360" cy="2700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3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1343-40B0-4573-8B08-0126140CD0D7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омер слайда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9124-9331-46FA-88FE-C76D402714D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Monotype Corsiva"/>
              </a:rPr>
              <a:t>Животный мир Югры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BBEAR.AVI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3886200" cy="2571840"/>
          </a:xfrm>
          <a:prstGeom prst="rect">
            <a:avLst/>
          </a:prstGeom>
          <a:ln w="0">
            <a:noFill/>
          </a:ln>
        </p:spPr>
      </p:pic>
      <p:pic>
        <p:nvPicPr>
          <p:cNvPr id="132" name="FOX.AVI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733920" cy="2571840"/>
          </a:xfrm>
          <a:prstGeom prst="rect">
            <a:avLst/>
          </a:prstGeom>
          <a:ln w="0">
            <a:noFill/>
          </a:ln>
        </p:spPr>
      </p:pic>
      <p:pic>
        <p:nvPicPr>
          <p:cNvPr id="133" name="Sev._oleni.avi" descr=""/>
          <p:cNvPicPr/>
          <p:nvPr/>
        </p:nvPicPr>
        <p:blipFill>
          <a:blip r:embed="rId3"/>
          <a:stretch/>
        </p:blipFill>
        <p:spPr>
          <a:xfrm>
            <a:off x="3429000" y="4343400"/>
            <a:ext cx="3581280" cy="2514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640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4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79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5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94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4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72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DE04-E142-42C3-84F7-866564B50380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61E5-9EE3-4D07-A539-77DE67684D7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Monotype Corsiva"/>
              </a:rPr>
              <a:t>А знаете ли вы?…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 лося называют лесным великаном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Вес его достигает 400 кг. За сутки лось может съесть больше 17оо веточек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й наземный хищник самый крупный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Бурый медведь. Его вес 750кг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Monotype Corsiva"/>
              </a:rPr>
              <a:t>Растительный мир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00200" y="12189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 ле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осны до небес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Берёзы и дуб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Ягоды, грибы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вериные тропин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Пригорки и низин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Мягкая трава, на суку со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андыш серебрист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Воздух чистый – чистый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И родник с живой Ключевой водой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NA01441_"/>
          <p:cNvPicPr/>
          <p:nvPr/>
        </p:nvPicPr>
        <p:blipFill>
          <a:blip r:embed="rId1"/>
          <a:stretch/>
        </p:blipFill>
        <p:spPr>
          <a:xfrm>
            <a:off x="5943600" y="1219320"/>
            <a:ext cx="2819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98EF-2B5A-45A8-8B2D-B847FF66AD5C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омер слайда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EF85-C0F8-464C-B0EB-C28B41E157FC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80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Monotype Corsiva"/>
              </a:rPr>
              <a:t>Растительный мир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56_ShipPlod"/>
          <p:cNvPicPr/>
          <p:nvPr/>
        </p:nvPicPr>
        <p:blipFill>
          <a:blip r:embed="rId1"/>
          <a:stretch/>
        </p:blipFill>
        <p:spPr>
          <a:xfrm>
            <a:off x="0" y="1219320"/>
            <a:ext cx="2646360" cy="5257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7_Brusn"/>
          <p:cNvPicPr/>
          <p:nvPr/>
        </p:nvPicPr>
        <p:blipFill>
          <a:blip r:embed="rId2"/>
          <a:stretch/>
        </p:blipFill>
        <p:spPr>
          <a:xfrm>
            <a:off x="2666880" y="12193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ChernikaPl"/>
          <p:cNvPicPr/>
          <p:nvPr/>
        </p:nvPicPr>
        <p:blipFill>
          <a:blip r:embed="rId3"/>
          <a:stretch/>
        </p:blipFill>
        <p:spPr>
          <a:xfrm>
            <a:off x="2666880" y="419112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морошка"/>
          <p:cNvPicPr/>
          <p:nvPr/>
        </p:nvPicPr>
        <p:blipFill>
          <a:blip r:embed="rId4"/>
          <a:stretch/>
        </p:blipFill>
        <p:spPr>
          <a:xfrm>
            <a:off x="6629400" y="121932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103Kedrov="/>
          <p:cNvPicPr/>
          <p:nvPr/>
        </p:nvPicPr>
        <p:blipFill>
          <a:blip r:embed="rId5"/>
          <a:stretch/>
        </p:blipFill>
        <p:spPr>
          <a:xfrm>
            <a:off x="6629400" y="3352680"/>
            <a:ext cx="2514600" cy="3124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311-7E35-4D51-AAB3-C8D6986EFAC1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F335-4D32-4A3D-A59B-023B7E9F441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Monotype Corsiva"/>
              </a:rPr>
              <a:t>Это интересно</a:t>
            </a:r>
            <a:r>
              <a:rPr b="0" i="1" lang="ru-RU" sz="6000" spc="-1" strike="noStrike">
                <a:solidFill>
                  <a:srgbClr val="996633"/>
                </a:solidFill>
                <a:latin typeface="Monotype Corsiva"/>
              </a:rPr>
              <a:t>…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8284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aettenschweiler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Monotype Corsiva"/>
              </a:rPr>
              <a:t>Рекордсмены Югорского леса:</a:t>
            </a: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высокое дерево нашего края – кедр. Он живет до 856 лет. 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  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прочное дерево – лиственница, живет до 900 лет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  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иды наших мхов и лишайников живут более 1000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иповник и черная смородина – чемпионы по витамин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талий</dc:creator>
  <dc:description/>
  <dc:language>en-US</dc:language>
  <cp:lastModifiedBy>Виталий</cp:lastModifiedBy>
  <dcterms:modified xsi:type="dcterms:W3CDTF">2012-12-09T09:29:44Z</dcterms:modified>
  <cp:revision>53</cp:revision>
  <dc:subject/>
  <dc:title>Презентация PowerPoint</dc:title>
</cp:coreProperties>
</file>