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77C-1AE5-4DE8-BFD0-EE5510CC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AAA-BDD2-4D6F-8839-FCC9C90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9B4-BF21-4098-8005-AF5987CE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7FE-FD89-4E0B-89E8-27A3B3D2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5B78-B6E5-4CF5-833E-9236E584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0457-0F9D-4F4E-A392-A734D3F6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B8E-01E8-4972-AC4B-F9BA1D6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E4FC-6767-4FE9-A28C-83EFC3EE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B38-59AA-4F17-95FC-C8F7B28B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63F-BE7A-41AC-87C9-D778B16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C9B9-756D-4347-ACE5-F910A32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D09-02BB-41B0-BA84-17ED8DC1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3FA9-CE83-4067-B9C8-67E8685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96A-C738-4B50-BB7A-6B1FA4D5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A09-13FA-4F70-8A73-F2B0D650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5A95-ADE2-4E7E-92E9-E46E34DE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BAA6-9286-4455-897F-258CDD8B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F8EF-538D-4613-B99E-1D3CB7FA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EF88-8E19-4020-A57E-E0C14F6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227E-02F6-4BBB-AEA8-8208510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C048-C7E8-496A-9EB8-222C1D46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6507-A890-4241-ACA2-2E216BD3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152-1555-4A6B-AF4E-A25E555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7419-B3F7-411D-B7FC-7668C3A1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42B5-E39C-4DFB-979B-8C60DD4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B076-D196-43C9-AB7C-12F6104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AF18-BC10-4279-959F-04E4DCA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A29A-D515-49BD-B96B-E31CE34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0B9B-1F19-4011-8FA8-CEF32299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5A93-97A3-4BBE-BEB0-818C2AEB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940AE-9EFB-43CC-8169-733290B2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94E17-D6C2-4F62-963A-A7C79879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FA173-69E4-4CE0-80D2-1C0951D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4E3-0317-45CD-9D05-01EB790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F8C1E-676C-4C66-AE85-A34305F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6185E-3D09-4929-B160-CC1A0450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F5DAC-0B34-440C-A358-2CE9AF09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2CC9C-6E45-40FA-8C66-6D86B3E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29697-BB32-4B62-B6B8-5607241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61531-2535-457D-955B-4E9FD26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BA368-BC3E-4CB9-8F18-29F70F5D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E56D8-2EDC-402D-BD26-DEBABD77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CBB79-734B-45B8-A19B-05F18B1B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3F9F-4C35-4AC4-A0AB-622725F2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1B8-43B2-49EF-AE70-4CAFB7A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F713-416D-40E2-AC2F-3C34B1E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77FD-F653-4FD5-A2D0-770E505B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8823-57DF-4E2A-B110-E14B43C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4F6B-ACD0-48D8-9A98-29D94C5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1E67-FB2C-4E0C-8167-2D41D06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AD51E-E799-47DD-885C-C0DA8C0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694C-16DC-4C79-9B4E-7DDC81D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EB93-4C94-4F12-A8CA-B1EC8F2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2FBD-A3F1-47AD-B6EB-8A52F3A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94F12-00AB-4A8B-89A7-ACB453C3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66E-D261-4049-A380-777E82F7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84F9-A833-460E-A091-0AA50E60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C4B-1FD5-4F2F-93B3-BE7D53F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167-30C2-496A-BA2D-3790F27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27C-CA11-41FC-993B-791608CB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FF24-0F75-449D-A08E-E848CB7E4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64E9-4B4B-4A30-B99C-5636357B74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7942-3D01-406D-85CF-8143232E1B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951C-5D0A-4D4A-8962-7AAB110496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7863-8EE6-453D-B3D3-C451901BF4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44480" y="47628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Презентация к уроку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«Половое размножение. Оплодотворение, его значение»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10 класс 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(программа В.В. Пасечника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Ливенская СОШ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городская обл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ИЛИНИН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501480" y="981000"/>
            <a:ext cx="864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ровень 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Развитие мужских гамет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Развитие женских гамет….. 3.Последовательность фаз гаметогенеза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Способ деления клеток в фазе размножения…название первичных половых клеток а) при сперматогенезе… б) при овогенезе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.Что крупнее, ооцит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орядка или сперматоцит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орядка.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.Какой способ деления клеток происходит в фазе созрев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.В результате сперматогенеза образуется……сперматозо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8.В результате овогенеза образуется …..набор хромосом и количество ДНК в гаметах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WordArt 10"/>
          <p:cNvSpPr txBox="1"/>
          <p:nvPr/>
        </p:nvSpPr>
        <p:spPr>
          <a:xfrm>
            <a:off x="719280" y="0"/>
            <a:ext cx="842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ботайте и скорректируйте понятия по теме                 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0000"/>
                </a:solidFill>
                <a:uFillTx/>
                <a:latin typeface="Times New Roman"/>
              </a:rPr>
              <a:t>Уровень 2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1. Задание на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Фазы гаметогене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 – период размножения   Б – период  ро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  - период созревания       Г – период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 -сперматогонии                          6- яйце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 -сперматоцит 2 порядка            7- овог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 -сперматозоид                            8- ово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-сперматоцит 1 порядка            9- овоцит 1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-сперматиды                               10- овоцит 2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2.Задание на выявление общих закономер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тоз – мейо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вогенез – сперматоген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аза, метафаза, анафаза, телофа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0000"/>
                </a:solidFill>
                <a:uFillTx/>
                <a:latin typeface="Times New Roman"/>
              </a:rPr>
              <a:t>Уровень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ставьте, что гаметы  диплоидны. Каковы возможные последств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Одинаков ли генетический состав двух хроматид одной  и той же хромосомы? Почему Вы так счит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Одинаков ли генный состав хромосом одной пары? Докажите свою точку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берите домашнее задание в зависимости от того, как успешно вы работали на уроке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)Проработаю материал ещё раз по учеб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) Воспроизведу графически схему гаметогенеза и дам   краткую характерис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)Если получили оценку «5» можете выбрать творческо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дготовьте информационную справк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 клонировании как одном из способов размножения (укажите к какому  - бесполому или половому способу размножения оно относитс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ED00019_"/>
          <p:cNvPicPr/>
          <p:nvPr/>
        </p:nvPicPr>
        <p:blipFill>
          <a:blip r:embed="rId1"/>
          <a:stretch/>
        </p:blipFill>
        <p:spPr>
          <a:xfrm>
            <a:off x="179280" y="189000"/>
            <a:ext cx="2411640" cy="1754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2556000" y="333360"/>
            <a:ext cx="622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10199"/>
                </a:solidFill>
                <a:latin typeface="Arial"/>
              </a:rPr>
              <a:t>Рассказывают, что однажды ученики древнегреческого философа Зенона обратились к нему с вопросом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10199"/>
                </a:solidFill>
                <a:latin typeface="Arial"/>
              </a:rPr>
              <a:t>« Учитель, ты, обладающий знаниями во много раз большими, чем мы, всегда сомневаешься в правильности ответов на вопросы, которые нам кажутся очевидными и ясными. Почему?»</a:t>
            </a:r>
            <a:br>
              <a:rPr sz="1600"/>
            </a:br>
            <a:r>
              <a:rPr b="1" i="1" lang="ru-RU" sz="1600" spc="-1" strike="noStrike">
                <a:solidFill>
                  <a:srgbClr val="010199"/>
                </a:solidFill>
                <a:latin typeface="Arial"/>
              </a:rPr>
              <a:t> Начертив посохом  на песке два круга, большой и малый, Зенон ответил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 rot="21083400">
            <a:off x="324000" y="2565360"/>
            <a:ext cx="2881080" cy="2335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0"/>
          <p:cNvSpPr/>
          <p:nvPr/>
        </p:nvSpPr>
        <p:spPr>
          <a:xfrm rot="21083400">
            <a:off x="971640" y="2997000"/>
            <a:ext cx="1601640" cy="143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4067280" y="2492280"/>
            <a:ext cx="12967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2987280" y="2637000"/>
            <a:ext cx="223380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2268360" y="3141720"/>
            <a:ext cx="3167280" cy="5745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5219640" y="2421000"/>
            <a:ext cx="3414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Площадь большого круга</a:t>
            </a:r>
            <a:r>
              <a:rPr b="1" lang="ru-RU" sz="1800" spc="-1" strike="noStrike">
                <a:solidFill>
                  <a:srgbClr val="000099"/>
                </a:solidFill>
                <a:latin typeface="Arial Narrow"/>
              </a:rPr>
              <a:t> – это познанное мною, а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площадь малого круга</a:t>
            </a:r>
            <a:r>
              <a:rPr b="1" lang="ru-RU" sz="1800" spc="-1" strike="noStrike">
                <a:solidFill>
                  <a:srgbClr val="000099"/>
                </a:solidFill>
                <a:latin typeface="Arial Narrow"/>
              </a:rPr>
              <a:t> -  - познанное вами.  Как видите, знаний у меня действительно больше, чем у вас. Но всё вне кругов  - это непознанное ни вами, ни мной, а следовательно, граница моих знаний с непознанным больше, чем у вас. Вот почему у меня больше сомнени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539640" y="5661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 Narrow"/>
              </a:rPr>
              <a:t>Так, что чем глубже мы изучаем предмет, тем больше у на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 Narrow"/>
              </a:rPr>
              <a:t>сомнений, больше возникает вопро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 Narrow"/>
              </a:rPr>
              <a:t>На сегодняшнем занятии постараемся снять часть из 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1187280" y="836640"/>
            <a:ext cx="6913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метогенез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1476360" y="4581360"/>
            <a:ext cx="358920" cy="360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5724360" y="3716280"/>
            <a:ext cx="358920" cy="360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5724360" y="620640"/>
            <a:ext cx="358920" cy="360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3564000" y="4653000"/>
            <a:ext cx="358560" cy="360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1763640" y="4149360"/>
            <a:ext cx="433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3708360" y="5013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 flipV="1">
            <a:off x="6084720" y="3644640"/>
            <a:ext cx="576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5867280" y="981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3564000" y="51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5724360" y="11970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3a339"/>
                </a:solidFill>
                <a:latin typeface="Times New Roman"/>
              </a:rPr>
              <a:t>Интегрирующая цель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ираясь на знания, полученные в 9 классе, проработав презентацию «Гаметогенез» и материал учебника, вы  получите четкое представ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) о стадиях гаметогене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) о процессах происходящих на каждой из н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)научитесь объяснять, почему половые клетки  имеют гаплоидный, а не диплоидный  набор хромос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3348000" y="1413000"/>
            <a:ext cx="19432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мн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24000" y="260280"/>
            <a:ext cx="252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рматоген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50920" y="270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900000" y="1484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9"/>
          <p:cNvSpPr/>
          <p:nvPr/>
        </p:nvSpPr>
        <p:spPr>
          <a:xfrm>
            <a:off x="1314360" y="285768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0"/>
          <p:cNvSpPr/>
          <p:nvPr/>
        </p:nvSpPr>
        <p:spPr>
          <a:xfrm>
            <a:off x="1314360" y="285768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3"/>
          <p:cNvSpPr/>
          <p:nvPr/>
        </p:nvSpPr>
        <p:spPr>
          <a:xfrm>
            <a:off x="2652840" y="28576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1314360" y="285768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90"/>
          <p:cNvSpPr/>
          <p:nvPr/>
        </p:nvSpPr>
        <p:spPr>
          <a:xfrm>
            <a:off x="2411280" y="270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91"/>
          <p:cNvSpPr/>
          <p:nvPr/>
        </p:nvSpPr>
        <p:spPr>
          <a:xfrm>
            <a:off x="1116000" y="400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92"/>
          <p:cNvSpPr/>
          <p:nvPr/>
        </p:nvSpPr>
        <p:spPr>
          <a:xfrm>
            <a:off x="179280" y="400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93"/>
          <p:cNvSpPr/>
          <p:nvPr/>
        </p:nvSpPr>
        <p:spPr>
          <a:xfrm>
            <a:off x="2268360" y="400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94"/>
          <p:cNvSpPr/>
          <p:nvPr/>
        </p:nvSpPr>
        <p:spPr>
          <a:xfrm>
            <a:off x="3276720" y="400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5"/>
          <p:cNvSpPr/>
          <p:nvPr/>
        </p:nvSpPr>
        <p:spPr>
          <a:xfrm>
            <a:off x="6084720" y="333360"/>
            <a:ext cx="273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вогене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97"/>
          <p:cNvSpPr/>
          <p:nvPr/>
        </p:nvSpPr>
        <p:spPr>
          <a:xfrm>
            <a:off x="7020000" y="155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5867280" y="2781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99"/>
          <p:cNvSpPr/>
          <p:nvPr/>
        </p:nvSpPr>
        <p:spPr>
          <a:xfrm>
            <a:off x="7885080" y="2781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100"/>
          <p:cNvSpPr/>
          <p:nvPr/>
        </p:nvSpPr>
        <p:spPr>
          <a:xfrm>
            <a:off x="478800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01"/>
          <p:cNvSpPr/>
          <p:nvPr/>
        </p:nvSpPr>
        <p:spPr>
          <a:xfrm>
            <a:off x="586728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102"/>
          <p:cNvSpPr/>
          <p:nvPr/>
        </p:nvSpPr>
        <p:spPr>
          <a:xfrm>
            <a:off x="694836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103"/>
          <p:cNvSpPr/>
          <p:nvPr/>
        </p:nvSpPr>
        <p:spPr>
          <a:xfrm>
            <a:off x="802800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10"/>
          <p:cNvSpPr/>
          <p:nvPr/>
        </p:nvSpPr>
        <p:spPr>
          <a:xfrm>
            <a:off x="26272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11"/>
          <p:cNvSpPr/>
          <p:nvPr/>
        </p:nvSpPr>
        <p:spPr>
          <a:xfrm>
            <a:off x="435600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8" name="AutoShape 118"/>
          <p:cNvCxnSpPr>
            <a:stCxn id="247" idx="7"/>
            <a:endCxn id="248" idx="4"/>
          </p:cNvCxnSpPr>
          <p:nvPr/>
        </p:nvCxnSpPr>
        <p:spPr>
          <a:xfrm flipV="1">
            <a:off x="1031760" y="2398320"/>
            <a:ext cx="3261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" name="AutoShape 119"/>
          <p:cNvCxnSpPr/>
          <p:nvPr/>
        </p:nvCxnSpPr>
        <p:spPr>
          <a:xfrm flipH="1" flipV="1">
            <a:off x="1402920" y="2420640"/>
            <a:ext cx="1008720" cy="81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AutoShape 120"/>
          <p:cNvCxnSpPr>
            <a:stCxn id="255" idx="1"/>
            <a:endCxn id="247" idx="4"/>
          </p:cNvCxnSpPr>
          <p:nvPr/>
        </p:nvCxnSpPr>
        <p:spPr>
          <a:xfrm flipV="1">
            <a:off x="312840" y="3621960"/>
            <a:ext cx="39600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AutoShape 121"/>
          <p:cNvCxnSpPr>
            <a:stCxn id="254" idx="1"/>
            <a:endCxn id="247" idx="4"/>
          </p:cNvCxnSpPr>
          <p:nvPr/>
        </p:nvCxnSpPr>
        <p:spPr>
          <a:xfrm flipH="1" flipV="1">
            <a:off x="707400" y="3621960"/>
            <a:ext cx="54180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AutoShape 122"/>
          <p:cNvCxnSpPr/>
          <p:nvPr/>
        </p:nvCxnSpPr>
        <p:spPr>
          <a:xfrm flipV="1">
            <a:off x="2627280" y="3572640"/>
            <a:ext cx="32616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AutoShape 123"/>
          <p:cNvCxnSpPr>
            <a:stCxn id="257" idx="1"/>
          </p:cNvCxnSpPr>
          <p:nvPr/>
        </p:nvCxnSpPr>
        <p:spPr>
          <a:xfrm flipH="1" flipV="1">
            <a:off x="2915640" y="3573000"/>
            <a:ext cx="49428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AutoShape 124"/>
          <p:cNvCxnSpPr>
            <a:stCxn id="260" idx="6"/>
          </p:cNvCxnSpPr>
          <p:nvPr/>
        </p:nvCxnSpPr>
        <p:spPr>
          <a:xfrm flipV="1">
            <a:off x="6781680" y="2420280"/>
            <a:ext cx="64836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AutoShape 125"/>
          <p:cNvCxnSpPr>
            <a:stCxn id="261" idx="1"/>
          </p:cNvCxnSpPr>
          <p:nvPr/>
        </p:nvCxnSpPr>
        <p:spPr>
          <a:xfrm flipH="1" flipV="1">
            <a:off x="7450920" y="2420280"/>
            <a:ext cx="56772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AutoShape 126"/>
          <p:cNvCxnSpPr>
            <a:stCxn id="264" idx="7"/>
          </p:cNvCxnSpPr>
          <p:nvPr/>
        </p:nvCxnSpPr>
        <p:spPr>
          <a:xfrm flipV="1">
            <a:off x="7729200" y="3645000"/>
            <a:ext cx="70884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AutoShape 127"/>
          <p:cNvCxnSpPr>
            <a:stCxn id="263" idx="0"/>
          </p:cNvCxnSpPr>
          <p:nvPr/>
        </p:nvCxnSpPr>
        <p:spPr>
          <a:xfrm flipH="1" flipV="1">
            <a:off x="6265080" y="3644640"/>
            <a:ext cx="594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AutoShape 128"/>
          <p:cNvCxnSpPr>
            <a:stCxn id="262" idx="7"/>
          </p:cNvCxnSpPr>
          <p:nvPr/>
        </p:nvCxnSpPr>
        <p:spPr>
          <a:xfrm flipV="1">
            <a:off x="5568840" y="3645000"/>
            <a:ext cx="69768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AutoShape 129"/>
          <p:cNvCxnSpPr>
            <a:stCxn id="265" idx="0"/>
          </p:cNvCxnSpPr>
          <p:nvPr/>
        </p:nvCxnSpPr>
        <p:spPr>
          <a:xfrm flipH="1" flipV="1">
            <a:off x="8425800" y="3715920"/>
            <a:ext cx="5940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0" name="Rectangle 130"/>
          <p:cNvSpPr/>
          <p:nvPr/>
        </p:nvSpPr>
        <p:spPr>
          <a:xfrm>
            <a:off x="826920" y="5661000"/>
            <a:ext cx="2521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рматог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31"/>
          <p:cNvSpPr/>
          <p:nvPr/>
        </p:nvSpPr>
        <p:spPr>
          <a:xfrm>
            <a:off x="5651640" y="5734080"/>
            <a:ext cx="26654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вог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4"/>
          <p:cNvSpPr txBox="1"/>
          <p:nvPr/>
        </p:nvSpPr>
        <p:spPr>
          <a:xfrm rot="5400000">
            <a:off x="1376640" y="302328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ериод рост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116000" y="112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6588000" y="692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324000" y="4724280"/>
            <a:ext cx="3095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рматоци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5364000" y="4797360"/>
            <a:ext cx="3095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воци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971640" y="220500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4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5796000" y="177336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4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13"/>
          <p:cNvSpPr/>
          <p:nvPr/>
        </p:nvSpPr>
        <p:spPr>
          <a:xfrm>
            <a:off x="611280" y="189000"/>
            <a:ext cx="2160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14"/>
          <p:cNvSpPr/>
          <p:nvPr/>
        </p:nvSpPr>
        <p:spPr>
          <a:xfrm>
            <a:off x="5292720" y="189000"/>
            <a:ext cx="3851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РМАТОГЕНЕЗ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ВОГЕН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 rot="5400000">
            <a:off x="1520280" y="3166920"/>
            <a:ext cx="63374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ериод созревания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1476360" y="112536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4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68360" y="234936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2411280" y="234936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0" y="407664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971640" y="407664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2195640" y="4005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203640" y="407664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5940360" y="981000"/>
            <a:ext cx="194472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п4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5435640" y="2781360"/>
            <a:ext cx="151272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5148360" y="4581360"/>
            <a:ext cx="1584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16"/>
          <p:cNvSpPr/>
          <p:nvPr/>
        </p:nvSpPr>
        <p:spPr>
          <a:xfrm>
            <a:off x="7740720" y="314172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2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2"/>
          <p:cNvSpPr/>
          <p:nvPr/>
        </p:nvSpPr>
        <p:spPr>
          <a:xfrm>
            <a:off x="8244000" y="4941720"/>
            <a:ext cx="684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7524720" y="4941720"/>
            <a:ext cx="684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6732720" y="4941720"/>
            <a:ext cx="684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5"/>
          <p:cNvSpPr/>
          <p:nvPr/>
        </p:nvSpPr>
        <p:spPr>
          <a:xfrm>
            <a:off x="468360" y="6237360"/>
            <a:ext cx="81579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рматиды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овоти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395280" y="3645000"/>
            <a:ext cx="3600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рматоц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рядк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5292720" y="4365720"/>
            <a:ext cx="3600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воцицит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рядка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 flipH="1">
            <a:off x="1258560" y="2060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>
            <a:off x="2340000" y="2133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6"/>
          <p:cNvSpPr/>
          <p:nvPr/>
        </p:nvSpPr>
        <p:spPr>
          <a:xfrm flipH="1">
            <a:off x="684360" y="342900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7"/>
          <p:cNvSpPr/>
          <p:nvPr/>
        </p:nvSpPr>
        <p:spPr>
          <a:xfrm>
            <a:off x="1044720" y="3429000"/>
            <a:ext cx="2142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8"/>
          <p:cNvSpPr/>
          <p:nvPr/>
        </p:nvSpPr>
        <p:spPr>
          <a:xfrm>
            <a:off x="2987640" y="342900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9"/>
          <p:cNvSpPr/>
          <p:nvPr/>
        </p:nvSpPr>
        <p:spPr>
          <a:xfrm flipH="1">
            <a:off x="2842920" y="342900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40"/>
          <p:cNvSpPr/>
          <p:nvPr/>
        </p:nvSpPr>
        <p:spPr>
          <a:xfrm>
            <a:off x="694836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1"/>
          <p:cNvSpPr/>
          <p:nvPr/>
        </p:nvSpPr>
        <p:spPr>
          <a:xfrm flipH="1">
            <a:off x="6877080" y="2852640"/>
            <a:ext cx="71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42"/>
          <p:cNvSpPr/>
          <p:nvPr/>
        </p:nvSpPr>
        <p:spPr>
          <a:xfrm flipH="1">
            <a:off x="6084360" y="4221000"/>
            <a:ext cx="7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43"/>
          <p:cNvSpPr/>
          <p:nvPr/>
        </p:nvSpPr>
        <p:spPr>
          <a:xfrm>
            <a:off x="6156360" y="4221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44"/>
          <p:cNvSpPr/>
          <p:nvPr/>
        </p:nvSpPr>
        <p:spPr>
          <a:xfrm flipH="1">
            <a:off x="7956360" y="3789360"/>
            <a:ext cx="144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5"/>
          <p:cNvSpPr/>
          <p:nvPr/>
        </p:nvSpPr>
        <p:spPr>
          <a:xfrm>
            <a:off x="8101080" y="3789360"/>
            <a:ext cx="360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395280" y="3645000"/>
            <a:ext cx="3600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рматоц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рядк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5"/>
          <p:cNvSpPr txBox="1"/>
          <p:nvPr/>
        </p:nvSpPr>
        <p:spPr>
          <a:xfrm rot="5400000">
            <a:off x="900000" y="2636640"/>
            <a:ext cx="6767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ериод формировани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395280" y="1557360"/>
            <a:ext cx="503280" cy="15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10"/>
          <p:cNvSpPr/>
          <p:nvPr/>
        </p:nvSpPr>
        <p:spPr>
          <a:xfrm>
            <a:off x="539640" y="3068640"/>
            <a:ext cx="50652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1258920" y="1557360"/>
            <a:ext cx="503280" cy="15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12"/>
          <p:cNvSpPr/>
          <p:nvPr/>
        </p:nvSpPr>
        <p:spPr>
          <a:xfrm>
            <a:off x="2050920" y="1484280"/>
            <a:ext cx="50328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2771640" y="1557360"/>
            <a:ext cx="503280" cy="15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14"/>
          <p:cNvSpPr/>
          <p:nvPr/>
        </p:nvSpPr>
        <p:spPr>
          <a:xfrm>
            <a:off x="2916360" y="3068640"/>
            <a:ext cx="50616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2195640" y="2997360"/>
            <a:ext cx="506160" cy="64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reeform 16"/>
          <p:cNvSpPr/>
          <p:nvPr/>
        </p:nvSpPr>
        <p:spPr>
          <a:xfrm>
            <a:off x="1403280" y="3068640"/>
            <a:ext cx="50652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17"/>
          <p:cNvSpPr/>
          <p:nvPr/>
        </p:nvSpPr>
        <p:spPr>
          <a:xfrm>
            <a:off x="5580000" y="981000"/>
            <a:ext cx="2952720" cy="30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Freeform 20"/>
          <p:cNvSpPr/>
          <p:nvPr/>
        </p:nvSpPr>
        <p:spPr>
          <a:xfrm>
            <a:off x="5392800" y="795240"/>
            <a:ext cx="3327480" cy="346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468360" y="4797360"/>
            <a:ext cx="8157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рматозоиды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ЯЙЦЕКЛЕ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487480" y="2507400"/>
            <a:ext cx="1986120" cy="215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п1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"/>
          <p:cNvSpPr/>
          <p:nvPr/>
        </p:nvSpPr>
        <p:spPr>
          <a:xfrm>
            <a:off x="4788000" y="1844640"/>
            <a:ext cx="3327480" cy="346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3059280" y="4292640"/>
            <a:ext cx="57600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7"/>
          <p:cNvSpPr/>
          <p:nvPr/>
        </p:nvSpPr>
        <p:spPr>
          <a:xfrm>
            <a:off x="1258920" y="3213000"/>
            <a:ext cx="50652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>
            <a:off x="5003640" y="4437000"/>
            <a:ext cx="50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3203640" y="2205000"/>
            <a:ext cx="1728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>
            <a:off x="1332000" y="2852640"/>
            <a:ext cx="1728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п1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1"/>
          <p:cNvSpPr/>
          <p:nvPr/>
        </p:nvSpPr>
        <p:spPr>
          <a:xfrm>
            <a:off x="2987640" y="3716280"/>
            <a:ext cx="50652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2"/>
          <p:cNvSpPr/>
          <p:nvPr/>
        </p:nvSpPr>
        <p:spPr>
          <a:xfrm>
            <a:off x="3059280" y="2565360"/>
            <a:ext cx="50616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13"/>
          <p:cNvSpPr/>
          <p:nvPr/>
        </p:nvSpPr>
        <p:spPr>
          <a:xfrm>
            <a:off x="5148360" y="6021360"/>
            <a:ext cx="50616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4:09:09Z</dcterms:created>
  <dc:creator>Ольга Васильевна</dc:creator>
  <dc:description/>
  <dc:language>en-US</dc:language>
  <cp:lastModifiedBy>Пользователь</cp:lastModifiedBy>
  <dcterms:modified xsi:type="dcterms:W3CDTF">2012-12-09T12:08:18Z</dcterms:modified>
  <cp:revision>25</cp:revision>
  <dc:subject/>
  <dc:title>Слайд 1</dc:title>
</cp:coreProperties>
</file>