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159-573B-4393-8A04-C62F74F8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556-2024-4F92-B5E5-0FEF7DC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BC1-4D55-425D-990A-33539E82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5D8-6B75-4F2F-8765-65E337A8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212-54AE-4424-B9F7-7BAA530B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CB4-0214-4920-AD99-3997BA4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305-9CF4-4BC4-9BBA-61361052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AC38-9E76-4B23-BFAA-164C9C7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1B0-E363-43DE-ADA6-D96F61AE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B3BC-C796-466E-BE3A-EBD0D1F6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6D8A-0586-48C7-8DDB-F314411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DF-E3E5-4DC0-A430-DCBB628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F0C-F11C-494A-862C-70FD516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3BF-1127-416D-96C1-A809C24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BD1E-A7D3-4AAE-B301-51FCBA82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B528-52B7-4B79-9643-66B5DD90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6E0-BB4B-4155-934A-4E7262D8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1B0-040C-4579-8237-4936B3D5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9FF-D689-40AB-BF8A-FB5643D8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AEF-C34E-4DE3-B53D-F1B3ECB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323-1A09-4F3B-80D2-E696A0C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AC4-D653-405B-BBF7-54FD2B0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DCC-A0AE-444F-9990-6B79D8D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EFD-0849-4C94-84C9-B909F99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A66-59CA-4851-A2CD-21656572E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0FF-519B-4517-A694-B084C97A8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log.kukharchuk.com/wp-content/uploads/2010/01/rojdestvo20101.gif" TargetMode="External"/><Relationship Id="rId2" Type="http://schemas.openxmlformats.org/officeDocument/2006/relationships/hyperlink" Target="http://blog.kukharchuk.com/wp-content/uploads/2010/01/rojdestvo20101.gif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img1.liveinternet.ru/images/attach/c/0/37/181/37181203_fb15b1bb6deb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zazell.com/wp-content/uploads/2010/03/23559517_0_9f02_cbc124f3_xl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happy-school.ru/_ph/23/307436178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ile.mobilmusic.ru/fe/45/d8/589377.gif" TargetMode="External"/><Relationship Id="rId2" Type="http://schemas.openxmlformats.org/officeDocument/2006/relationships/image" Target="../media/image18.gif"/><Relationship Id="rId3" Type="http://schemas.openxmlformats.org/officeDocument/2006/relationships/hyperlink" Target="http://www.xrest.ru/images/collection/00394/087/preview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01/novprospekt.e/0_5af64_d477dbe4_XL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rukomeslo.com/poleznoe/images/image27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72;&#1074;&#1086;&#1089;&#1083;&#1072;&#1074;&#1085;&#1099;&#1077;%20&#1087;&#1088;&#1072;&#1079;&#1076;&#1085;&#1080;&#1082;&#1080;&amp;img_url=images.cards.mail.ru%2F9c%2Ff0%2F3866813e65bf8ff57bbfec74f960f09c.jpg&amp;pos=21&amp;rpt=simage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text=&#1087;&#1088;&#1072;&#1074;&#1086;&#1089;&#1083;&#1072;&#1074;&#1085;&#1099;&#1077;%20&#1087;&#1088;&#1072;&#1079;&#1076;&#1085;&#1080;&#1082;&#1080;&amp;img_url=s09.radikal.ru%2Fi182%2F1001%2F21%2F53d5288e5ff1.jpg&amp;pos=40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ru/yandsearch?text=&#1087;&#1088;&#1072;&#1074;&#1086;&#1089;&#1083;&#1072;&#1074;&#1085;&#1099;&#1077;%20&#1087;&#1088;&#1072;&#1079;&#1076;&#1085;&#1080;&#1082;&#1080;&amp;img_url=s57.radikal.ru%2Fi158%2F1008%2F1f%2F992f1f206ed0.jpg&amp;pos=46&amp;rpt=simage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оект занятия по теме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«Православный календарь. Праздники»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одуль «Основы православной культуры»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уч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ьных классов М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ОШ №3 р.п.Озин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евянова Т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442800" y="692280"/>
            <a:ext cx="8208360" cy="5384520"/>
            <a:chOff x="442800" y="692280"/>
            <a:chExt cx="8208360" cy="5384520"/>
          </a:xfrm>
        </p:grpSpPr>
        <p:cxnSp>
          <p:nvCxnSpPr>
            <p:cNvPr id="128" name="_s12302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44640" y="1947240"/>
              <a:ext cx="1077480" cy="287352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2301"/>
            <p:cNvCxnSpPr>
              <a:stCxn id="132" idx="0"/>
              <a:endCxn id="130" idx="2"/>
            </p:cNvCxnSpPr>
            <p:nvPr/>
          </p:nvCxnSpPr>
          <p:spPr>
            <a:xfrm flipV="1">
              <a:off x="4547160" y="2845440"/>
              <a:ext cx="3600" cy="107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230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571840" y="1947600"/>
              <a:ext cx="1077480" cy="287352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2296"/>
            <p:cNvSpPr/>
            <p:nvPr/>
          </p:nvSpPr>
          <p:spPr>
            <a:xfrm>
              <a:off x="3315600" y="692280"/>
              <a:ext cx="2462400" cy="2153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авослав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аздник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2297"/>
            <p:cNvSpPr/>
            <p:nvPr/>
          </p:nvSpPr>
          <p:spPr>
            <a:xfrm>
              <a:off x="442800" y="3922920"/>
              <a:ext cx="2462400" cy="2153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асх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3315600" y="3922920"/>
              <a:ext cx="2462400" cy="2153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еликие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непереходящ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ереходящ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2299"/>
            <p:cNvSpPr/>
            <p:nvPr/>
          </p:nvSpPr>
          <p:spPr>
            <a:xfrm>
              <a:off x="6188760" y="3922920"/>
              <a:ext cx="2462400" cy="2153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Дни памяти Святы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Чудотворных ико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С благовещенья медведь встает из сугро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дет Свято – Духов день- будет на дворе, как на пе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всё коту Масленица, будет и Великий п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48320" y="4292640"/>
          <a:ext cx="4038480" cy="22525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празд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, вре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му событию посвящ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волы тради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0"/>
          <a:ext cx="4816440" cy="4267080"/>
        </p:xfrm>
        <a:graphic>
          <a:graphicData uri="http://schemas.openxmlformats.org/drawingml/2006/table">
            <a:tbl>
              <a:tblPr/>
              <a:tblGrid>
                <a:gridCol w="416844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Картинка 22 из 54065"/>
          <p:cNvPicPr/>
          <p:nvPr/>
        </p:nvPicPr>
        <p:blipFill>
          <a:blip r:embed="rId1"/>
          <a:stretch/>
        </p:blipFill>
        <p:spPr>
          <a:xfrm>
            <a:off x="4427640" y="260280"/>
            <a:ext cx="3200400" cy="3810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2665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ославные праздн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ждество Христово- 7 янва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щение Господне -19 янва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с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аговещение – 7 апр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о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ображение господне – 19 авгу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ров Пресвятой Богородицы – 14 октябр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ждество Христов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 январ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т день в небольшом городке Вифлееме произошло небывалое событие – родился в мир Богомладенец, Сын Божий, Иисус Христос родился сверхъестественным образом от Девы Марии, Богород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6654960" cy="517680"/>
        </p:xfrm>
        <a:graphic>
          <a:graphicData uri="http://schemas.openxmlformats.org/drawingml/2006/table">
            <a:tbl>
              <a:tblPr/>
              <a:tblGrid>
                <a:gridCol w="6654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571760" y="1571760"/>
          <a:ext cx="6002280" cy="3627360"/>
        </p:xfrm>
        <a:graphic>
          <a:graphicData uri="http://schemas.openxmlformats.org/drawingml/2006/table">
            <a:tbl>
              <a:tblPr/>
              <a:tblGrid>
                <a:gridCol w="535428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Картинка 27 из 151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628640"/>
            <a:ext cx="4562640" cy="31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576520" y="1243080"/>
          <a:ext cx="3990960" cy="4267080"/>
        </p:xfrm>
        <a:graphic>
          <a:graphicData uri="http://schemas.openxmlformats.org/drawingml/2006/table">
            <a:tbl>
              <a:tblPr/>
              <a:tblGrid>
                <a:gridCol w="33429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" descr="Картинка 60 из 1230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404640"/>
            <a:ext cx="2867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лаговещение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 апре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аздника Благовещения передает главный смысл его: возвещение Деве Ма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й вести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ат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рождении Е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гомладен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Открытки картинки Благовещение Пресвятой Богородицы"/>
          <p:cNvPicPr/>
          <p:nvPr/>
        </p:nvPicPr>
        <p:blipFill>
          <a:blip r:embed="rId1"/>
          <a:stretch/>
        </p:blipFill>
        <p:spPr>
          <a:xfrm>
            <a:off x="4643280" y="3290760"/>
            <a:ext cx="36910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Работа в группах.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Пасха – самый торжественный православный праздни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а «Отгадай пословиц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лово учителя о Пас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Работа с отрывками из текста И.Шмелё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Лето Господне» Ключевое слово – радость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оставление цветовой радуги в форме корзины с пасхальными яй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Игра «Угадай символы Пасхи» - творческая работа «Пасхальные тради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Чтение стихотворения «Христос Воскрес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сха – Воскресение Христо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ытие Воскресения Христова- величайший христианский праздник. Это есть праздников праздник и Торжество из торжеств, знамение победы на грехом и смертью и начало бытия мира, искупленного и священного Господом Иисусом Христом. Праздник называется Пасхою- праздник победы спасителя над злом, жизни над грехом и смер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ушевная рад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крашение я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крашение ст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колокольный зв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христо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0"/>
          <a:ext cx="6654960" cy="4251240"/>
        </p:xfrm>
        <a:graphic>
          <a:graphicData uri="http://schemas.openxmlformats.org/drawingml/2006/table">
            <a:tbl>
              <a:tblPr/>
              <a:tblGrid>
                <a:gridCol w="60069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Картинка 6 из 1646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125360"/>
            <a:ext cx="3708360" cy="279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0" y="0"/>
          <a:ext cx="6489720" cy="3535200"/>
        </p:xfrm>
        <a:graphic>
          <a:graphicData uri="http://schemas.openxmlformats.org/drawingml/2006/table">
            <a:tbl>
              <a:tblPr/>
              <a:tblGrid>
                <a:gridCol w="584172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Картинка 16 из 1646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809880"/>
            <a:ext cx="507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4498920" cy="4267080"/>
        </p:xfrm>
        <a:graphic>
          <a:graphicData uri="http://schemas.openxmlformats.org/drawingml/2006/table">
            <a:tbl>
              <a:tblPr/>
              <a:tblGrid>
                <a:gridCol w="385092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" descr="Картинка 20 из 1646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628640"/>
            <a:ext cx="28573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0"/>
          <a:ext cx="4816440" cy="4267080"/>
        </p:xfrm>
        <a:graphic>
          <a:graphicData uri="http://schemas.openxmlformats.org/drawingml/2006/table">
            <a:tbl>
              <a:tblPr/>
              <a:tblGrid>
                <a:gridCol w="416844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Картинка 69 из 1670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105264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ннотация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 «Православный календарь. Праздники» выбрана с целью формирования целостного представления о культуре православного праздника в русской националь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д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386080" y="1243080"/>
          <a:ext cx="4371840" cy="4267080"/>
        </p:xfrm>
        <a:graphic>
          <a:graphicData uri="http://schemas.openxmlformats.org/drawingml/2006/table">
            <a:tbl>
              <a:tblPr/>
              <a:tblGrid>
                <a:gridCol w="3637080"/>
                <a:gridCol w="30312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Картинка 16 из 177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3360"/>
            <a:ext cx="2232000" cy="30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671920" y="1243080"/>
          <a:ext cx="3800160" cy="4267080"/>
        </p:xfrm>
        <a:graphic>
          <a:graphicData uri="http://schemas.openxmlformats.org/drawingml/2006/table">
            <a:tbl>
              <a:tblPr/>
              <a:tblGrid>
                <a:gridCol w="3152160"/>
                <a:gridCol w="216000"/>
                <a:gridCol w="216000"/>
                <a:gridCol w="2160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46 из 178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852640"/>
            <a:ext cx="2209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Итог зан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чем же особенность православных празд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душа раду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 Рефлек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 создание альбома «Наши православные праздн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я узнал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расскажу родителям новог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ние уважительного отношения к культуре, традициям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у ребёнка понимания духовно – нравственных цен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чувства сопричастности с русской культ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детей с особенностями православных празд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общать учащихся к историческому культурному наследию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готовительн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щет информацию по теме занятия, готовит презентацию, раздаточн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яют творческое задание- интервью с членами семьи «Какой день считается праздником в вашей семье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занят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дия вызова. Что такое праздни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а урока «Православный календарь. Праздни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а в группах. Пасха – самый главный православный празд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ги занятия. Духовно – нравственный смысл православных праздников и их связь с культурой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флексия. Мой подаро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ашнее задание. Создание альбома «Наши православные праздни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од занят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Стадия вызо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Что такое празд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суждение домашнего задания (интервью с членами семьи «Какой день считается праздником в вашей семье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чтение отрывка из романа И. Шмелева «Лето Господ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новка проблемного вопр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Тема «Православный календарь. Праздники.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3493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00360" y="414972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59280" y="414972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7093080" y="206064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804000" y="407664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Осмысление темы. Знакомство с православным календар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ение детей на группы (собрать картинки с символами православных праздни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о учителя об особенностях православного календ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таблицы «Православные праздники» совместно с учащимися (использование  схем, слайдов презентации, русских пословиц, личного опыта учащих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3:07:43Z</dcterms:created>
  <dc:creator>user</dc:creator>
  <dc:description/>
  <dc:language>en-US</dc:language>
  <cp:lastModifiedBy>user</cp:lastModifiedBy>
  <dcterms:modified xsi:type="dcterms:W3CDTF">2012-05-29T15:12:06Z</dcterms:modified>
  <cp:revision>2</cp:revision>
  <dc:subject/>
  <dc:title>Проект занятия по теме «Православный календарь. Праздники.» Модуль «Основы православной культуры» </dc:title>
</cp:coreProperties>
</file>