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DD2-E3E7-48A6-98F2-A94FFE3E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4F2-A4C9-4BCB-AD5D-928BB25F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4AF-04E2-492D-8169-FBBDC6E8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193-E598-4AE5-91EB-E30F8024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CE7-75DA-4C13-8278-527CA1E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1151-21CB-4A87-BF05-13C70A4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7263-DECF-436C-8B60-569E302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7DE9-BF16-4F0E-9B80-6C8E431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836-211C-43C5-B3EF-50208B2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9CC8-0661-48DC-9C76-7637047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5C0F-AD5A-4740-B7D0-2BCF82B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3C2-3360-4332-84CC-BAA5D4E7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E9A-86DB-4415-811A-CC8E562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8D9C-B259-4A4B-B808-2A83BD2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3A9-0AD3-4502-BBF5-6ACCEA7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8E0-E529-4819-9B90-814E0BA9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9034-B605-48C1-87F2-524AC85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4AF-8271-414D-AB8B-DD8396A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587-6A7B-4FD9-913B-3B8735EF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665-CE76-4973-A0AD-7F563B3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B12-B407-49D7-A8BF-FAFBAB67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575-11F9-4C76-A6D7-8DA7CD1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253-B2C6-48BC-8227-ED1E6C9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A2F-7317-4977-95CC-22764DB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459-39D2-4BC2-A162-D30C5D8FC1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87B-6C36-440B-809E-461D3A5A8B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абилитационное пространств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илиями родител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абилитация э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абилитация – процесс восстановления психологического здоровья ребенка  и дальнейшая гармонизация его психологического разви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абилитационное простран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68952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абилитационное простран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рассматривать как метод воздействия на ребенка с целью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даптации его к новым условия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успешной социализ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одоления последствий психологической травм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формирование новой идентичности успешного челове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овышения уровня здоров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акторы восстановления психологического здоровья ребе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урсы самого ребенка, его способность к самовосстановлени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урсы  близкого социального окружения ребенка ( родственники, близки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урсы расширенного социального окружения ( помогающие службы, общественные организации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реабилитационного пространства усилиями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ирование реабилитационного пространства усилиями родителей- это организация повседневной жизни ребенка, которая создала бы корректирующий эффект сама по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я</cp:lastModifiedBy>
  <dcterms:modified xsi:type="dcterms:W3CDTF">2010-05-14T02:19:11Z</dcterms:modified>
  <cp:revision>1</cp:revision>
  <dc:subject/>
  <dc:title>PowerPoint Presentation</dc:title>
</cp:coreProperties>
</file>