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43F-F3DA-4A12-904B-E1FEB2EE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95F-366F-462F-A59E-5052B3AB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C9A-7662-41F4-9D0F-35467407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444-15D3-46E7-BC00-4EA8E065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3E41-C003-4FF6-9CDC-ED47FEE5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3DC3-E721-4E71-B7F8-4F8B1C71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6108-BE3D-456D-BF12-6D0F54D7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4D8E-07ED-4F8B-A3B4-BDCB2FDF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796D-A445-4122-9A26-A367BE71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2FF1-5EBF-4674-8BCE-F3EC3A9E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E764-14D4-46A9-9BE4-432F1695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7E7-0260-4132-A93D-B776EE87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3BBB-C2B8-4699-B009-A78256F7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C4B4-2C23-44F8-B0DE-A170B8C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A178-C269-45B6-8ACB-4A894A24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5954-ABF8-47E7-A14F-607D50C8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CC56-613B-490E-8B99-43F01245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404-1801-4C90-9E56-2F78B11D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6EC-018D-4251-9A2F-72E3A632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3E3-9648-43E9-945C-FF232FA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828-00F2-4574-B692-51BBBDFD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745-1886-463E-8767-DCC0AC76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131-7624-42D5-A496-1FEF7E79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C60-0EC4-4B42-BB86-CF1122BC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C270-F6C7-41AD-81EB-4394CBE4D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4942-85C5-4BB9-9B2E-84EB3483F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rg.ru/printable/2010/03/05/obr-dok.html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27f4c"/>
                </a:solidFill>
                <a:latin typeface="Tahoma"/>
              </a:rPr>
              <a:t>Государственное автономное учреждение здравоохранения «Республиканский дом ребенка специализированный»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172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8800"/>
                </a:solidFill>
                <a:latin typeface="Tahoma"/>
              </a:rPr>
              <a:t>«Схема взаимодейств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88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5b8800"/>
                </a:solidFill>
                <a:latin typeface="Tahoma"/>
              </a:rPr>
              <a:t>учителя-дефектолога и воспитателя по основным образовательным областям дошкольного воспита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038480"/>
            <a:ext cx="3581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7f4c"/>
                </a:solidFill>
                <a:latin typeface="Tahoma"/>
              </a:rPr>
              <a:t>Учитель-дефектолог 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ГАУЗ «Республиканский дом ребенка специализированный»</a:t>
            </a:r>
            <a:br>
              <a:rPr sz="1800"/>
            </a:br>
            <a:r>
              <a:rPr b="1" lang="ru-RU" sz="1800" spc="-1" strike="noStrike">
                <a:solidFill>
                  <a:srgbClr val="827f4c"/>
                </a:solidFill>
                <a:latin typeface="Tahoma"/>
              </a:rPr>
              <a:t>Арюхина Наталь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5867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Казань, 2011</a:t>
            </a:r>
            <a:r>
              <a:rPr b="0" lang="en-US" sz="18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год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1899</a:t>
            </a:r>
            <a:r>
              <a:rPr b="0" lang="en-US" sz="1800" spc="-1" strike="noStrike">
                <a:solidFill>
                  <a:srgbClr val="827f4c"/>
                </a:solidFill>
                <a:latin typeface="Tahoma"/>
              </a:rPr>
              <a:t>yfnfif.ru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пределяет стратегию решения воспитательных зада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еспечивает единство требований педагогов, специалис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пределяет пути и способы реализации задач каждого направления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пределяет обязанности и ответственность педагог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71600" y="60948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5b8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тическое планиров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5b8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7848720" y="6400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27f4c"/>
                </a:solidFill>
                <a:latin typeface="Tahoma"/>
              </a:rPr>
              <a:t>ЯНВАРЬ – «ЗИМНИЕ ЗАБАВЫ» (пример тематического планирования)</a:t>
            </a:r>
            <a:endParaRPr b="0" lang="en-US" sz="1600" spc="-1" strike="noStrike">
              <a:solidFill>
                <a:srgbClr val="827f4c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457200"/>
          <a:ext cx="8082000" cy="6400800"/>
        </p:xfrm>
        <a:graphic>
          <a:graphicData uri="http://schemas.openxmlformats.org/drawingml/2006/table">
            <a:tbl>
              <a:tblPr/>
              <a:tblGrid>
                <a:gridCol w="1371600"/>
                <a:gridCol w="2519280"/>
                <a:gridCol w="4191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разовательн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спитател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итель-дефектоло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спитание двигательной культур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культминутки «Лепим снеговика», подражание движениям  диких животных, пальчиковая гимнастика- показ Зайчика, «Мы во двор пошли гулять», подвижные игры «Догоняшки в лабиринте», «Зимние забавы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доровь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ттерапия – белый, синий цве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льчиковая игра «Не прял лес зимой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хательная гимнастика- упражне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Бегемотики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ссаж лица, шеи, артикуляционной мускулатуры, сопровождаемый стихами и потешками о зиме; дыхательная гимнастика «Дуем на снежинки»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зопас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рмирование основ безопасности  собственной жизнедеятельност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седа с детьми о том, что нельзя есть снег, закрепление понятий «холодный», «теплый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иза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спитывать у детей чуткое отношение к окружающим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скурсия в соседний двор, понимание пространственных отношений – далеко, близко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муника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спитывать у детей доброе отношение между детьми, детьми и взрослым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лублять представления о существенных характеристиках предметов, о свойствах и качествах различных материалов, совершенствовать характер и содержание обобщенных способов обследования предметов. Продолжать работу по обогащению бытового словаря детей по теме. Учить понимать и выполнять одноступенчатые инструк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у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спитывать у детей трудолюбие, приучать работать совместно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витие общей моторики - расчистка дорожек от снег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зн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ширение кругозора и знаний об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кружающей действительности-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знакомить с зимними забавами-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аздник Елки, катание с горок, на санках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пка Снеговик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сматривание картины «Вот какой Снеговик». Формирование представлений о величине- соотнесение и выбор по образцу из 6(3больших-3 маленьких)- снежинки, Снеговики. Формирование представлений о форме и цвете- соотнесение и выбор по образцу 5-6 цветов  и форм- на материале елочных игруше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удожественная литерату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ствовать зарождению интереса и любви к художественному слову, продолжать развивать способность детей понимать речь окружающих, договаривать слова, воспитывать звуковую культуру реч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ение и разучивание стихов о зим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удожественное творч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рмирование интереса к окружающей действительности самовыражение в продуктивных видах деятельност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витие мелкой моторики рук посредством выполнения аппликации «Игрушки на елке», леки шариков для Снеговик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зы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ствовать зарождению интереса и любви к музык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ушание и исполнение песен «Лепим снежки», в сенсорной комнате – Чайковский «Январь. Святки».Нахождение источника звука- далеко, близко; различение звучащих музыкальных инструментов- колокольчик, дудка, бараба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038120" y="1904760"/>
            <a:ext cx="4800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формированность  навыков и умений у воспитанников домов ребенка при эффективной организации воспитательно-образовательной и коррекционной рабо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743200" y="30492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b8800"/>
                </a:solidFill>
                <a:latin typeface="Impact"/>
              </a:rPr>
              <a:t>Ожидаемый результ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b8800"/>
              </a:solidFill>
              <a:latin typeface="Impact"/>
              <a:ea typeface="Impact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305920" y="647712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09320" y="13716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иагностика и коррекция развития ребенка первых лет жизни. Руководство для врачей./под ред. М.М. Дьяконова.- КГМА.Казань., 200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нновационные технологии развития личности воспитанника дома ребенка./под рук.И.В. Кальянова.- Москва.: АНО «Центр коррекционных технологий», 2008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юнхенская функциональная диагностика развития. Первые три года жизни./под ред. Ф.Л. Ратнера.-Казань.: «Центр инновационных технологий», 200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направления коррекционно-развивающей работы учителя-дефектолога, логопеда дома ребенка./под рук.   И.В. Кальянова.- Москва.: АНО «Центр коррекционных технологий», 200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ы организации и реабилитации детей-инвалидов 0-4 лет со сложной структурой дефекта./под рук.И.В. Кальянова.- Москва.: АНО «Центр коррекционных технологий», 2008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грамма воспитания и социализации детей со сложной структурой дефекта./под рук.И.В.Кальянова.- Москва.: АНО «Центр коррекционных технологий», 2008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057400" y="38088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dbdac2"/>
                  </a:solidFill>
                  <a:miter/>
                </a:ln>
                <a:solidFill>
                  <a:srgbClr val="5b8800"/>
                </a:solidFill>
                <a:latin typeface="Arial"/>
              </a:rPr>
              <a:t>Полезная литература</a:t>
            </a:r>
            <a:endParaRPr b="0" lang="en-US" sz="1800" spc="1" strike="noStrike">
              <a:ln w="9360">
                <a:solidFill>
                  <a:srgbClr val="dbdac2"/>
                </a:solidFill>
                <a:miter/>
              </a:ln>
              <a:solidFill>
                <a:srgbClr val="5b8800"/>
              </a:solidFill>
              <a:latin typeface="Arial"/>
              <a:ea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229600" y="64771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219320" y="4800600"/>
            <a:ext cx="69339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14800" y="15238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яснительная запис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нцип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b8800"/>
                </a:solidFill>
                <a:uFillTx/>
                <a:latin typeface="Tahoma"/>
                <a:hlinkClick r:id="rId2" action="ppaction://hlinksldjump"/>
              </a:rPr>
              <a:t>Нормативные докумен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матическое планир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жидаемый результа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лезная информ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09680" y="533520"/>
            <a:ext cx="556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главл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ремя не стоит на месте, и не только ДОУ меняют уровень подготовки детей.                          В соответствии с действующими государственными требованиями (ФГТ, Приказ №655 от 23 ноября 2009 года) изменяется и основная общеобразовательная программа Дома ребенка. В связи с этим работа учителя-дефектолога и воспитателя должна строится с учетом интеграции образовательных областей в соответствии с возрастными особенностями воспитанников, спецификой и возможностями образовательных областей. Разработанная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«Схема взаимодействия учителя-дефектолога и воспитателя по основным образовательным областям дошкольного воспитания»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(далее </a:t>
            </a:r>
            <a:r>
              <a:rPr b="1" lang="en-US" sz="1400" spc="-1" strike="noStrike">
                <a:solidFill>
                  <a:srgbClr val="cc0099"/>
                </a:solidFill>
                <a:latin typeface="Tahoma"/>
              </a:rPr>
              <a:t>Схема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 представляет комплексно- тематическое планирование образовательной и коррекционной деятельности с детьми. Благодаря </a:t>
            </a:r>
            <a:r>
              <a:rPr b="1" lang="en-US" sz="1400" spc="-1" strike="noStrike">
                <a:solidFill>
                  <a:srgbClr val="cc0099"/>
                </a:solidFill>
                <a:latin typeface="Tahoma"/>
              </a:rPr>
              <a:t>Схеме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развитие и коррекция осуществляется при организации всех видов детской деятельности: игровой, коммуникативной, трудовой, познавательно-исследовательской, продуктивной, музыкально-художественной, чт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304920"/>
            <a:ext cx="6400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bc94"/>
                  </a:solidFill>
                  <a:miter/>
                </a:ln>
                <a:solidFill>
                  <a:srgbClr val="5b88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КТУАЛЬНОСТЬ</a:t>
            </a:r>
            <a:endParaRPr b="0" i="1" lang="en-US" sz="1800" spc="1" strike="noStrike">
              <a:ln w="9360">
                <a:solidFill>
                  <a:srgbClr val="c0bc94"/>
                </a:solidFill>
                <a:miter/>
              </a:ln>
              <a:solidFill>
                <a:srgbClr val="5b88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001000" y="640080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895120" y="15235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Схем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предназначена для работы с детьми, имеющими ограниченные возможности здоровья, проживающими в условиях домов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Схем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рассчитана на 1 год обучения и составлена с учетом пятидневной недели, девяти месяцев учебных занятий(январь-май, сентябрь- декабрь), трех месяцев летней оздоровительной работы(июнь, июль, август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Схем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адресована учителям-дефектологам, воспитателям домов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9320" y="685800"/>
            <a:ext cx="678168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b8800"/>
                </a:solidFill>
                <a:latin typeface="Arial"/>
              </a:rPr>
              <a:t>Пояснительная запис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b8800"/>
              </a:solidFill>
              <a:latin typeface="Arial"/>
              <a:ea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077320" y="632448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312372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ализация четкого и систематизированного подхода    к воспитанию, обучению, коррекции недостатков в развитии ребенка с ОВЗ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429000" y="1523880"/>
            <a:ext cx="3429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924680" y="62485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здание коррекционно-развивающей сре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витие профессиональной деятельности педагог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имулирование деятельности детей к освоению, усвоению, присвоению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09680" y="533520"/>
            <a:ext cx="495324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ffcc"/>
                  </a:solidFill>
                  <a:miter/>
                </a:ln>
                <a:solidFill>
                  <a:srgbClr val="5b88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12600">
                <a:solidFill>
                  <a:srgbClr val="ccffcc"/>
                </a:solidFill>
                <a:miter/>
              </a:ln>
              <a:solidFill>
                <a:srgbClr val="5b88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7696080" y="62485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267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упенчат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алектического един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осторон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тнер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лексного воздействия (А.А. Леонтьев, Н.И. Жинкин, С.С. Ляпидевски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ннего вклю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тельностного подхода (Л.С.Выгодский, А.А. Леонтьев, Е.М. Мастюкова, М.В. Ипполитова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57400" y="533520"/>
            <a:ext cx="5257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5b88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ципы</a:t>
            </a:r>
            <a:endParaRPr b="0" lang="en-US" sz="1800" spc="1" strike="noStrike">
              <a:ln w="0">
                <a:noFill/>
              </a:ln>
              <a:solidFill>
                <a:srgbClr val="5b88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8305920" y="632448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3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5" dur="indefinite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479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Схем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рассчитана на год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разовательные ситуации и занятия распределены в соответствии с режимом дня и расписани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рамках каждого занятия определены различные виды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ждое занятие отражает интеграцию образовательных областей в том или ином сочетан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Схем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охватывает содержание всех образовательных областей в соответствии с ФГ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33720" y="6094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обенност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7772400" y="62485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каз Министерства Образования и науки Российской Федерации от 23 ноября 2009 г.№665 «Об утверждении и введении в действие федеральных государственных требований к структуре основной общеобразовательной программы дошкольного образования» источник – </a:t>
            </a:r>
            <a:r>
              <a:rPr b="0" lang="en-US" sz="2400" spc="-1" strike="noStrike" u="sng">
                <a:solidFill>
                  <a:srgbClr val="5b8800"/>
                </a:solidFill>
                <a:uFillTx/>
                <a:latin typeface="Tahoma"/>
                <a:hlinkClick r:id="rId2"/>
              </a:rPr>
              <a:t>«Российская газета» Федеральный выпуск № 5125  5 марта 2010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воспитания и обучения детей в Доме ребенка. МЗ СССР 23.12.1986 г.№11-44/6-2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305920" y="655308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7960" y="228600"/>
            <a:ext cx="8906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bc94"/>
                  </a:solidFill>
                  <a:miter/>
                </a:ln>
                <a:solidFill>
                  <a:srgbClr val="5b8800"/>
                </a:solidFill>
                <a:latin typeface="Arial"/>
              </a:rPr>
              <a:t>Нормативные документы,</a:t>
            </a:r>
            <a:endParaRPr b="0" lang="en-US" sz="1800" spc="1" strike="noStrike">
              <a:ln w="9360">
                <a:solidFill>
                  <a:srgbClr val="c0bc94"/>
                </a:solidFill>
                <a:miter/>
              </a:ln>
              <a:solidFill>
                <a:srgbClr val="5b88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bc94"/>
                  </a:solidFill>
                  <a:miter/>
                </a:ln>
                <a:solidFill>
                  <a:srgbClr val="5b8800"/>
                </a:solidFill>
                <a:latin typeface="Arial"/>
              </a:rPr>
              <a:t>использованные при  построении Схемы</a:t>
            </a:r>
            <a:endParaRPr b="0" lang="en-US" sz="1800" spc="1" strike="noStrike">
              <a:ln w="9360">
                <a:solidFill>
                  <a:srgbClr val="c0bc94"/>
                </a:solidFill>
                <a:miter/>
              </a:ln>
              <a:solidFill>
                <a:srgbClr val="5b88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UZ</cp:lastModifiedBy>
  <dcterms:modified xsi:type="dcterms:W3CDTF">2012-04-23T08:56:3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