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BDA-0D6B-4E71-8780-D04399E4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BB2-C64C-4EB4-8A0C-C69516C7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478-86AD-43AD-AEB6-597F7D61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B8B-CD5E-4CDD-8047-57D7DF22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0B75-24B1-4029-B698-4FFD88A6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A8B5-824F-464C-895B-6CD1CDF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1807-E7E6-4409-BE3B-D9C3BEA0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B94A-00B7-453F-ADD9-9014F671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817E-FD26-47D3-9857-10334197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0D30-BC94-4F5A-BE18-2EDB88D2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0C04-AE56-4910-8D3D-67F200E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E61-F447-4614-8197-D3FF6109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4EF-A47C-4613-8A5E-B7BFD0B2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B37E-BE7B-4784-9504-3B03835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4C1B-2EC8-4B2A-81FB-7F55197A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39C6-F15F-4D4F-9A44-B7923DBD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2D1C-6545-4DE6-A207-D93A89CB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577B-8F00-4113-9CA4-168C3BC4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DC89-17E9-40AF-9B14-DE5FAAE1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5567-A0B5-4D83-ABAE-5EDA329A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7E85-5CE8-4978-A7D7-CDD4694C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1124-660A-4380-BCCB-D7B22F5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16C-0980-4845-AAD6-E7C5E44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2679-6AE6-48E7-8D11-E3CCF22E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79F0-CFAC-4487-B0DC-78FCC8B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E193-1DB1-44DB-9496-7776212F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4677-0170-46C0-8ABA-D1526D6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4494-1090-4791-8921-600DD9B1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A0D6-1ED5-4699-A676-C7F312D8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0639-4736-448B-A5EB-EC14E891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25B5B-DC29-43F6-AF8F-52BF7ECE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98B3-3716-454E-B064-5385ADDE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B3FD-CC85-492C-A7C9-AD7419E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569-37CD-4E57-921E-CA1FC8A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AE2C8-43A0-4E7E-9758-7C0E4668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FDD5-79BA-48E6-BE9F-553E432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3DB1-78AB-4DB8-8176-BBBEB158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BF9A-8A4D-418C-85CC-77DCFDA1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7540-93E7-480E-AA73-DE460807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0AA5B-9721-4093-A6F1-995DE30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3132-4B5A-4504-9A4D-CB158B5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5A87-B7F0-487C-A808-8C83A34C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F67F-AAEB-413C-B191-C7A580E9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934F9-4D3D-424E-8DD2-D5C2EC93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15A-B66E-4693-A5A7-3CC085BB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7EDF-F569-4803-9504-8FC06D58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F80E-D075-4F89-8D59-1A983919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DA0A9-4812-42C5-BE4D-1BE9B2D1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E6D59-1282-4710-AF3C-FFD7F8CB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1E14-6EF2-4944-9AE2-4B2C6482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E5036-CA53-46FA-AF39-1671AE6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5D352-4572-4ECB-86B4-A1468ED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434D-11AA-4A83-AAE6-DB9E174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ECAD-0951-48D2-BCDD-0751BA75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FE6AC-F6B1-4ABB-B823-F04B9AEC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5C5-80B7-44F6-8A42-8A88F006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ECDA-FC38-4911-9D15-B330C589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C54-2FC9-427F-BC57-FE3A59D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767-10ED-4663-9486-C5240EC4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AE3-20EB-47DC-8B5F-B145F69B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AAEA-685E-4238-AC8A-3608EB376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FF7-E14E-4755-9E4E-603991C34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A7E7-1C01-4945-AD05-D2D6F9FAA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B5B6-AADE-461D-BA6B-A92FE6DC3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3558-8BCD-4988-A4C2-60D5F938A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solidFill>
            <a:srgbClr val="009999">
              <a:alpha val="4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Запиши проверочные слова. Вставь пропущенные буквы в проверяемых словах. Проверь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Скругленный прямоугольник 3"/>
          <p:cNvSpPr/>
          <p:nvPr/>
        </p:nvSpPr>
        <p:spPr>
          <a:xfrm>
            <a:off x="4000680" y="6072120"/>
            <a:ext cx="1428480" cy="571680"/>
          </a:xfrm>
          <a:prstGeom prst="roundRect">
            <a:avLst>
              <a:gd name="adj" fmla="val 16667"/>
            </a:avLst>
          </a:prstGeom>
          <a:solidFill>
            <a:srgbClr val="e5e500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7300"/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572240" y="607212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2" h="21600">
                <a:moveTo>
                  <a:pt x="8424" y="3794"/>
                </a:moveTo>
                <a:lnTo>
                  <a:pt x="22437" y="10800"/>
                </a:lnTo>
                <a:lnTo>
                  <a:pt x="8424" y="17806"/>
                </a:lnTo>
                <a:close/>
              </a:path>
            </a:pathLst>
          </a:cu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7"/>
          <p:cNvSpPr/>
          <p:nvPr/>
        </p:nvSpPr>
        <p:spPr>
          <a:xfrm>
            <a:off x="1357200" y="185724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с..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2"/>
          <p:cNvSpPr/>
          <p:nvPr/>
        </p:nvSpPr>
        <p:spPr>
          <a:xfrm>
            <a:off x="4857840" y="1857240"/>
            <a:ext cx="33573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м..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13"/>
          <p:cNvSpPr/>
          <p:nvPr/>
        </p:nvSpPr>
        <p:spPr>
          <a:xfrm>
            <a:off x="4857840" y="4429080"/>
            <a:ext cx="33573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зап..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4"/>
          <p:cNvSpPr/>
          <p:nvPr/>
        </p:nvSpPr>
        <p:spPr>
          <a:xfrm>
            <a:off x="4857840" y="5286240"/>
            <a:ext cx="33573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дв..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5"/>
          <p:cNvSpPr/>
          <p:nvPr/>
        </p:nvSpPr>
        <p:spPr>
          <a:xfrm>
            <a:off x="4857840" y="3571920"/>
            <a:ext cx="33573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г..ло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6"/>
          <p:cNvSpPr/>
          <p:nvPr/>
        </p:nvSpPr>
        <p:spPr>
          <a:xfrm>
            <a:off x="4857840" y="2714760"/>
            <a:ext cx="33573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заш..г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17"/>
          <p:cNvSpPr/>
          <p:nvPr/>
        </p:nvSpPr>
        <p:spPr>
          <a:xfrm>
            <a:off x="1357200" y="528624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н..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8"/>
          <p:cNvSpPr/>
          <p:nvPr/>
        </p:nvSpPr>
        <p:spPr>
          <a:xfrm>
            <a:off x="1357200" y="442908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пч..л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19"/>
          <p:cNvSpPr/>
          <p:nvPr/>
        </p:nvSpPr>
        <p:spPr>
          <a:xfrm>
            <a:off x="1357200" y="357192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б..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20"/>
          <p:cNvSpPr/>
          <p:nvPr/>
        </p:nvSpPr>
        <p:spPr>
          <a:xfrm>
            <a:off x="1357200" y="271476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. – з..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23"/>
          <p:cNvSpPr/>
          <p:nvPr/>
        </p:nvSpPr>
        <p:spPr>
          <a:xfrm>
            <a:off x="4929120" y="528624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дв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р - дв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24"/>
          <p:cNvSpPr/>
          <p:nvPr/>
        </p:nvSpPr>
        <p:spPr>
          <a:xfrm>
            <a:off x="4929120" y="4429080"/>
            <a:ext cx="35719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ный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н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я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5"/>
          <p:cNvSpPr/>
          <p:nvPr/>
        </p:nvSpPr>
        <p:spPr>
          <a:xfrm>
            <a:off x="4929120" y="35719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 - г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á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6"/>
          <p:cNvSpPr/>
          <p:nvPr/>
        </p:nvSpPr>
        <p:spPr>
          <a:xfrm>
            <a:off x="4929120" y="271476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á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7"/>
          <p:cNvSpPr/>
          <p:nvPr/>
        </p:nvSpPr>
        <p:spPr>
          <a:xfrm>
            <a:off x="4929120" y="185724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ст - м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8"/>
          <p:cNvSpPr/>
          <p:nvPr/>
        </p:nvSpPr>
        <p:spPr>
          <a:xfrm>
            <a:off x="1357200" y="528624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чь - н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чн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9"/>
          <p:cNvSpPr/>
          <p:nvPr/>
        </p:nvSpPr>
        <p:spPr>
          <a:xfrm>
            <a:off x="1285920" y="4429080"/>
            <a:ext cx="328608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ч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ё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ы - пч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30"/>
          <p:cNvSpPr/>
          <p:nvPr/>
        </p:nvSpPr>
        <p:spPr>
          <a:xfrm>
            <a:off x="1357200" y="357192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б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ль - б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31"/>
          <p:cNvSpPr/>
          <p:nvPr/>
        </p:nvSpPr>
        <p:spPr>
          <a:xfrm>
            <a:off x="1357200" y="271476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ú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ы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32"/>
          <p:cNvSpPr/>
          <p:nvPr/>
        </p:nvSpPr>
        <p:spPr>
          <a:xfrm>
            <a:off x="1357200" y="1857240"/>
            <a:ext cx="3143520" cy="64296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д - с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939600"/>
          </a:xfrm>
          <a:prstGeom prst="rect">
            <a:avLst/>
          </a:prstGeom>
          <a:solidFill>
            <a:srgbClr val="1c006e">
              <a:alpha val="3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Arial"/>
              </a:rPr>
              <a:t>Выпиши только родственные слова. Выдели корень.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928960" y="1357200"/>
            <a:ext cx="3286080" cy="1800360"/>
          </a:xfrm>
          <a:prstGeom prst="rect">
            <a:avLst/>
          </a:prstGeom>
          <a:solidFill>
            <a:srgbClr val="0965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ce3"/>
                </a:solidFill>
                <a:latin typeface="Arial"/>
              </a:rPr>
              <a:t>Водяной, вода, подводный, води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ce3"/>
                </a:solidFill>
                <a:latin typeface="Arial"/>
              </a:rPr>
              <a:t>водовоз, вод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2786040" y="3786120"/>
            <a:ext cx="3286080" cy="2653560"/>
          </a:xfrm>
          <a:prstGeom prst="rect">
            <a:avLst/>
          </a:prstGeom>
          <a:solidFill>
            <a:srgbClr val="0965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ce3"/>
                </a:solidFill>
                <a:latin typeface="Arial"/>
              </a:rPr>
              <a:t>Водяной, в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ce3"/>
                </a:solidFill>
                <a:latin typeface="Arial"/>
              </a:rPr>
              <a:t>подвод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ce3"/>
                </a:solidFill>
                <a:latin typeface="Arial"/>
              </a:rPr>
              <a:t>водовоз, вод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Дуга 5"/>
          <p:cNvSpPr/>
          <p:nvPr/>
        </p:nvSpPr>
        <p:spPr>
          <a:xfrm>
            <a:off x="2928960" y="4000680"/>
            <a:ext cx="571320" cy="741240"/>
          </a:xfrm>
          <a:prstGeom prst="pie">
            <a:avLst/>
          </a:prstGeom>
          <a:noFill/>
          <a:ln w="2232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Дуга 6"/>
          <p:cNvSpPr/>
          <p:nvPr/>
        </p:nvSpPr>
        <p:spPr>
          <a:xfrm>
            <a:off x="4500720" y="4000680"/>
            <a:ext cx="571320" cy="741240"/>
          </a:xfrm>
          <a:prstGeom prst="pie">
            <a:avLst/>
          </a:prstGeom>
          <a:noFill/>
          <a:ln w="2232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Дуга 7"/>
          <p:cNvSpPr/>
          <p:nvPr/>
        </p:nvSpPr>
        <p:spPr>
          <a:xfrm>
            <a:off x="4429080" y="5786280"/>
            <a:ext cx="571680" cy="741600"/>
          </a:xfrm>
          <a:prstGeom prst="pie">
            <a:avLst/>
          </a:prstGeom>
          <a:noFill/>
          <a:ln w="2232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Дуга 8"/>
          <p:cNvSpPr/>
          <p:nvPr/>
        </p:nvSpPr>
        <p:spPr>
          <a:xfrm>
            <a:off x="3429000" y="4929120"/>
            <a:ext cx="571680" cy="741600"/>
          </a:xfrm>
          <a:prstGeom prst="pie">
            <a:avLst/>
          </a:prstGeom>
          <a:noFill/>
          <a:ln w="2232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Дуга 9"/>
          <p:cNvSpPr/>
          <p:nvPr/>
        </p:nvSpPr>
        <p:spPr>
          <a:xfrm>
            <a:off x="3643200" y="5715000"/>
            <a:ext cx="571680" cy="741240"/>
          </a:xfrm>
          <a:prstGeom prst="pie">
            <a:avLst/>
          </a:prstGeom>
          <a:noFill/>
          <a:ln w="2232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Дуга 10"/>
          <p:cNvSpPr/>
          <p:nvPr/>
        </p:nvSpPr>
        <p:spPr>
          <a:xfrm>
            <a:off x="2857680" y="5715000"/>
            <a:ext cx="571320" cy="741240"/>
          </a:xfrm>
          <a:prstGeom prst="pie">
            <a:avLst/>
          </a:prstGeom>
          <a:noFill/>
          <a:ln w="2232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1"/>
          <p:cNvSpPr/>
          <p:nvPr/>
        </p:nvSpPr>
        <p:spPr>
          <a:xfrm>
            <a:off x="785880" y="5000760"/>
            <a:ext cx="1428840" cy="571320"/>
          </a:xfrm>
          <a:prstGeom prst="roundRect">
            <a:avLst>
              <a:gd name="adj" fmla="val 16667"/>
            </a:avLst>
          </a:prstGeom>
          <a:solidFill>
            <a:srgbClr val="e5e500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7300"/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28684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3794"/>
                </a:moveTo>
                <a:lnTo>
                  <a:pt x="19345" y="10800"/>
                </a:lnTo>
                <a:lnTo>
                  <a:pt x="5332" y="17806"/>
                </a:lnTo>
                <a:close/>
              </a:path>
            </a:pathLst>
          </a:cu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2286000" y="1720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8:51:12Z</dcterms:created>
  <dc:creator>Admin</dc:creator>
  <dc:description/>
  <dc:language>en-US</dc:language>
  <cp:lastModifiedBy>Admin</cp:lastModifiedBy>
  <dcterms:modified xsi:type="dcterms:W3CDTF">2012-10-23T09:06:16Z</dcterms:modified>
  <cp:revision>18</cp:revision>
  <dc:subject/>
  <dc:title>Презентация PowerPoint</dc:title>
</cp:coreProperties>
</file>