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0CE-E9E3-4D29-A754-D2DEED0F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E8E-146A-49E4-A610-34D597B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455-C970-46AC-8DAF-B6914564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549-E51B-4A07-B914-D7ED651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F0A-F158-425A-930A-33B64011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3CF-3EBC-4DBF-96D2-9BED3A22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931-5943-430A-BD0A-8EC9EF5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A86-61EE-4AAA-8692-318E589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37C-C307-4593-921B-03A209F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32D-C019-45B4-B2B5-2B3DD11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638-2D4D-4B4F-8376-FF624CA6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DAB-83F0-4200-B42C-5E06CBE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BF06-EB6E-4E55-B645-E1325AC38665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71298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242852"/>
                </a:solidFill>
                <a:latin typeface="Trebuchet MS"/>
              </a:rPr>
              <a:t>Жизнь любого человека в целом состоит из ситуаций, которые оказывают влияние на его поведение и в которых проявляется характер, привычки, культура поведения. Предлагаемая методика позволяет анализировать собственное поведение в ситуациях «после событий»,  чтобы учиться на собственном опыте или разработать стратегию поведения на будуще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590400" y="298440"/>
            <a:ext cx="7944120" cy="240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33300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Обсудите в группе проблемную ситуацию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844640"/>
            <a:ext cx="640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Как бы поступил настоящий дру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Ситуации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вой друг не сделал домашнее задание и просит списа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вой друг получает плохие отметки, и родители тебе запрещают с ним дружи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вой друг совершает плохой поступок, и об этом узнают все, в том числе и 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3. Послушайте отрывок из стихотворени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Л.Измайлова « Монолог о дружбе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333360"/>
            <a:ext cx="65120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 Измайл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олог о дружбе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268280"/>
            <a:ext cx="6813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Ну а все же, что обозначае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Это слово? Значит ли оно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ружба-это если друг твой боле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Может быть и спрашивать смешн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Что такое дружба, каждый знает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И не может в школу приходить,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Навещать его по доброй воле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Школьные уроки приносить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Терпеливо объяснять задание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На себя взять часть его забот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Отдавать ему свое внимань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ни, недели или год…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188640"/>
            <a:ext cx="65120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онолог о дружбе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83664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Если друг твой что-то , к сожаленью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Плохо сделал или же сказал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адо честно, прямо, без сомнень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Правду высказать ему в глаз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Может быть, обидится он вдруг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се равно сказать ты правду должен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едь на то и нужен лучший друг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жба в радости и дружба в го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г последнее всегда отдас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г не тот, кто льстит, а тот, кто спори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от, кто не обманет, не продас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жба никогда границ не знае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ет преград для дружбы никак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жба на Земле объединя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сех людей- и белых, и цветны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333360"/>
            <a:ext cx="65120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оставление « Правил дружбы»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Мы с вами обсудили пословицы, разобрали проблемные ситуации, послушали стихотворение о дружбе, а теперь попробуйте сформулировать «Правила дружбы», которые помогут вам построить отношения с вашим друг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« Законы дружбы» (В.А. Сухомлински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Не оставляй друга в бед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Тебе не безразлично, какой твой друг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Дружба-это ,прежде всего, вера в человека, требовательность к нем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Дружба испытывается в беде и опас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 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3520" y="333000"/>
            <a:ext cx="6512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Рефлексия.( В круге.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1) Был ли наш разговор полезным для каждого из вас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О чем он заставил задуматься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Дети дарят вырезанные из цветной бумаги сердечки лучшему другу в классе; тому, с кем хотели бы подружиться, с кем находятся в ссоре и хотели бы помирить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6. Свободный выбор.(В круге.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792440" y="66600"/>
            <a:ext cx="67784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143000" y="134100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Каждое поколение имеет свои ценности, свои взгляды на жизнь. Но есть правила личного и общественного поведения, которое одно поколение передает другому. Классный час как основная форма воспитательной работы дает возможность научить ребят сохранять человеческое достоинство в любых жизненных ситуациях. Классный час расширяет круг тех знаний учащихся, которые не нашли отражение в учебных программа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396720" y="165240"/>
            <a:ext cx="8485200" cy="312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349992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Классный час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-это форма развития  (расширения) сознания или коррекции поведения ученика через влияние на его сознания содержанием, формами и технология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39640" y="286992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матические                                                      Ситуатив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дачи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вечает потребностям                        Служит социально-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уховного роста ребенка,                     нравственной                           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го интересам, природному                   адаптации  личности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амовыражению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303280" y="1484280"/>
            <a:ext cx="93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705640" y="144792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1476000" y="3786120"/>
            <a:ext cx="266220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770360" y="3786120"/>
            <a:ext cx="261000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424720" cy="223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94920" y="2636640"/>
            <a:ext cx="82803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туативный классный час позволяет реагировать на возникшую проблему и во взаимодействии , в диалоге выяснить сущность и причины поведения.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итель поворачивает ситуацию на детей , вместе с ними ищет способы саморегулирующего поведения и побуждающие способы обращения к морал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7797960" cy="131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826560" y="1699920"/>
            <a:ext cx="6597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м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л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формация(по материалам предварительной подготовки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« Я-позиция» и её причины (учащиеся по круг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« Я-позиция» и общественно значимая норм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искусс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флексия( ответы на вопрос: что изменилось?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вободный выбо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отивация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льный результа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2" descr=""/>
          <p:cNvPicPr/>
          <p:nvPr/>
        </p:nvPicPr>
        <p:blipFill>
          <a:blip r:embed="rId1"/>
          <a:stretch/>
        </p:blipFill>
        <p:spPr>
          <a:xfrm>
            <a:off x="609480" y="249120"/>
            <a:ext cx="8326440" cy="1987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692360" y="234900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нформация:  Наш классный час посвящен сегодня очень важной теме. Прочитайте название темы. О дружбе говорили во все времена, о ней письменно и устно излагали свои мысли и поэты, и писатели, и ученые, и философы, и крестьяне, и дворяне. Сократ писал так: « Никакое общение между людьми невозможно без дружбы». Сегодня мы поговорим о том, каким должен быть настоящий друг, и постараемся сформулировать правила дружб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259920"/>
            <a:ext cx="6512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«Я- позиция» и её причины.(В круге.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84280"/>
            <a:ext cx="7461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89240" indent="-1828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1.Продолжите мою фразу: «Дружба-это…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«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Дружба-это созвучие душ в соединенности судеб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«Дружба-это золотая нить, связывающая всех живущих в мире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2. Есть ли у вас настоящий друг, и что вы больше всего цените в нем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.И. Даль писал: «Дружба-…это бескорыстная приязнь» На первое место ученый ставит бескорыстие, Ты дружишь с человеком не для того, чтобы он тебе хорошее сделал, не потому, что это выгодно,  Ты дружишь с человеком потому, что он близок тебе, близки его интересы, взгляд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33300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78697b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« Я-позиция» и общественно-значимая норма. ( В группе.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05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89240" indent="-182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Прошу сесть в груп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Люди сложили о дружбе много пословиц и поговоро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1.Из слов, находящихся в конверте, составьте пословицу и объясните, как вы её понимае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Нет друга- ищи, а нашел –берег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Не имей сто рублей, а имей сто друз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Человек без друзей, что дерево без корне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1:21Z</dcterms:created>
  <dc:creator>Admin</dc:creator>
  <dc:description/>
  <dc:language>en-US</dc:language>
  <cp:lastModifiedBy>Владелец</cp:lastModifiedBy>
  <dcterms:modified xsi:type="dcterms:W3CDTF">2011-11-16T07:06:58Z</dcterms:modified>
  <cp:revision>10</cp:revision>
  <dc:subject/>
  <dc:title>Технология и методика ситуационного классного часа (Автор методики- ученый-педагог Н.П. Капустин).</dc:title>
</cp:coreProperties>
</file>