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D5EC-7184-49AD-8EA7-42849B26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66FF-C618-4132-B84C-5A7E1466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64A0-236F-4BDB-B61A-F566B4D8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CF5-C27E-4D80-AA86-551DC54F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8F65-D333-4F59-9697-21546D4F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C5EA-958C-4808-AB07-FD8CC520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3DC2-7672-44AF-9B4D-D5892299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92B1-5C71-4CC4-A801-3AAFFBAC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10D5-F348-4819-8759-4079E224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8DB8-B0C0-4BBF-9C17-313E7AC2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5E4E-413B-4F77-91C1-4B74FE8C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4C3-D212-41C5-8FE1-C0A4ECB4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1305-6281-4317-8CE0-210747AF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4AF1-F453-4428-975E-21F334BB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33C6-874F-4D2E-B945-DB60162D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A7E9-EFCF-412E-BDCF-5C852C24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C02C-13A3-48CC-BF6D-662F498B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A53D4-2261-4EAE-A98A-2AE42A42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C05C-E95E-4B37-9EAA-189E709D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23ACD-663F-433B-A5CB-906DA6BB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C7372-46DE-49DD-A731-74D113F2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0DFE6-A292-4742-983F-925C2D63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729-13A2-4E01-BEE7-B17354E6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AF87D-21E7-42CA-B52E-C138C756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DBE2E-152C-4DDD-8CA5-884F4724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8596D-6744-44BE-B41B-21182C09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19399-F609-4C20-942F-5A54AD3F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0F5C0-5E04-4769-B3FB-4D242D07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B22A3-A313-4FC6-B017-16D70F91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89114-9307-4BD2-92DC-2BE272F6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AA9AB-AD8B-4F65-A428-F53D9CFC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D423C-2E8C-4E3D-B78C-99A877E3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763D8-E2A3-4684-862C-3E7D5462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8E2-FFFB-4042-A943-3D8734F2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171FB-A084-4199-BB02-39A73766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9D298-4CD1-4D31-BD0B-FD2B8C90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5D1D3-04F8-4AB5-8896-FB5A2E3B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1A77E-846B-405C-81E0-28BCDD40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D20FD-45FB-4513-8244-994FB4E6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2A5AB-D63F-47E7-91C9-7762993E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EC929-A42F-4ADC-866C-F07FAA0B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70718-41DF-4757-BDA0-BB36289E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CE5B8-08E5-42E5-96DC-79B2C408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78065-6337-4A43-B942-3D3281B2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490F-B19F-4DE2-B0CA-60E0585F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B3685-6F11-4C8A-A9FB-457236BF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15725-F840-4744-ACC0-E1F6F8E9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64D4E-E521-4FFE-AD0F-AB0C57C2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85640-4295-4C1A-AA5D-7C350857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8C73C-0044-47CC-8204-2240A0F2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506A7-BCD8-484B-8977-257024F0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3BEDD-27F4-4528-AD49-9DB5979E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5E1C4-F8FA-477C-BFDF-6689F4EF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81544-3DBC-4183-968E-2E50A611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CB28D-46E5-4B03-B278-9381582A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7D62-036D-4B68-80A1-C20CCA77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EF7D1-87D1-43C9-9B04-FCA7D8CD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162C-69BF-4D77-863E-B4B0874A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2DE3-F61D-4CC6-9809-1206D2D3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7D7-280E-4DE3-87D8-85412EDA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DEDF-2AF6-41D8-9F61-3CFE402A033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EDCB-DE82-4C0F-979F-4240AF9D5BC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A9A3-A23B-4892-BC56-2E027CC25F9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70D1-DA43-460B-BC8A-97E11FACE6F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E948-3AD1-4DC6-BC08-53C9B74E357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23232"/>
                </a:solidFill>
                <a:latin typeface="Verdana"/>
              </a:rPr>
              <a:t>Проект  «Узоры и орнаменты на посуде»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14308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Выполнил: Голдырев Андр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ученик 2 клас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МБОУ Петропавловская СОШ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1"/>
          <p:cNvSpPr/>
          <p:nvPr/>
        </p:nvSpPr>
        <p:spPr>
          <a:xfrm>
            <a:off x="1571760" y="644760"/>
            <a:ext cx="678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е бюджетное общеобразовательное учреждение Петропавловская средняя общеобразовательная 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11" descr="DSC00129"/>
          <p:cNvPicPr/>
          <p:nvPr/>
        </p:nvPicPr>
        <p:blipFill>
          <a:blip r:embed="rId1"/>
          <a:stretch/>
        </p:blipFill>
        <p:spPr>
          <a:xfrm>
            <a:off x="5072040" y="571680"/>
            <a:ext cx="3357720" cy="2517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DSC00131"/>
          <p:cNvPicPr/>
          <p:nvPr/>
        </p:nvPicPr>
        <p:blipFill>
          <a:blip r:embed="rId2"/>
          <a:stretch/>
        </p:blipFill>
        <p:spPr>
          <a:xfrm>
            <a:off x="785880" y="642960"/>
            <a:ext cx="3381480" cy="2536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3" descr="C:\Documents and Settings\Алексей\Мои документы\Мои рисунки\Мои сканированные изображения\2012-01 (янв)\сканирование0003.jpg"/>
          <p:cNvPicPr/>
          <p:nvPr/>
        </p:nvPicPr>
        <p:blipFill>
          <a:blip r:embed="rId3"/>
          <a:stretch/>
        </p:blipFill>
        <p:spPr>
          <a:xfrm>
            <a:off x="571680" y="3500280"/>
            <a:ext cx="3985920" cy="2214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DSC00132"/>
          <p:cNvPicPr/>
          <p:nvPr/>
        </p:nvPicPr>
        <p:blipFill>
          <a:blip r:embed="rId4"/>
          <a:stretch/>
        </p:blipFill>
        <p:spPr>
          <a:xfrm>
            <a:off x="5143680" y="3286080"/>
            <a:ext cx="3357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Picture 17" descr="19602"/>
          <p:cNvPicPr/>
          <p:nvPr/>
        </p:nvPicPr>
        <p:blipFill>
          <a:blip r:embed="rId1"/>
          <a:stretch/>
        </p:blipFill>
        <p:spPr>
          <a:xfrm>
            <a:off x="571680" y="500040"/>
            <a:ext cx="3765240" cy="2806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DSC00163"/>
          <p:cNvPicPr/>
          <p:nvPr/>
        </p:nvPicPr>
        <p:blipFill>
          <a:blip r:embed="rId2"/>
          <a:stretch/>
        </p:blipFill>
        <p:spPr>
          <a:xfrm>
            <a:off x="5119560" y="571680"/>
            <a:ext cx="3332160" cy="2500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5" descr="DSC00174"/>
          <p:cNvPicPr/>
          <p:nvPr/>
        </p:nvPicPr>
        <p:blipFill>
          <a:blip r:embed="rId3"/>
          <a:stretch/>
        </p:blipFill>
        <p:spPr>
          <a:xfrm>
            <a:off x="852480" y="3357720"/>
            <a:ext cx="3433680" cy="25714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0" descr="DSC00124"/>
          <p:cNvPicPr/>
          <p:nvPr/>
        </p:nvPicPr>
        <p:blipFill>
          <a:blip r:embed="rId4"/>
          <a:stretch/>
        </p:blipFill>
        <p:spPr>
          <a:xfrm>
            <a:off x="5143680" y="32860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929200" y="285480"/>
            <a:ext cx="2098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гжель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7" name="Picture 17" descr="DSC00159"/>
          <p:cNvPicPr/>
          <p:nvPr/>
        </p:nvPicPr>
        <p:blipFill>
          <a:blip r:embed="rId1"/>
          <a:stretch/>
        </p:blipFill>
        <p:spPr>
          <a:xfrm>
            <a:off x="928800" y="1268280"/>
            <a:ext cx="3000240" cy="2249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9" descr="1010016"/>
          <p:cNvPicPr/>
          <p:nvPr/>
        </p:nvPicPr>
        <p:blipFill>
          <a:blip r:embed="rId2"/>
          <a:srcRect l="0" t="12528" r="0" b="0"/>
          <a:stretch/>
        </p:blipFill>
        <p:spPr>
          <a:xfrm>
            <a:off x="4638600" y="1357200"/>
            <a:ext cx="3935520" cy="2000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8" descr="0_10f25_49c18d9_XL"/>
          <p:cNvPicPr/>
          <p:nvPr/>
        </p:nvPicPr>
        <p:blipFill>
          <a:blip r:embed="rId3"/>
          <a:stretch/>
        </p:blipFill>
        <p:spPr>
          <a:xfrm>
            <a:off x="5143680" y="371484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" descr="001"/>
          <p:cNvPicPr/>
          <p:nvPr/>
        </p:nvPicPr>
        <p:blipFill>
          <a:blip r:embed="rId4"/>
          <a:stretch/>
        </p:blipFill>
        <p:spPr>
          <a:xfrm>
            <a:off x="1214280" y="3571920"/>
            <a:ext cx="2297160" cy="28573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1"/>
          <p:cNvSpPr/>
          <p:nvPr/>
        </p:nvSpPr>
        <p:spPr>
          <a:xfrm>
            <a:off x="928800" y="214200"/>
            <a:ext cx="30956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23232"/>
                </a:solidFill>
                <a:latin typeface="Arial"/>
              </a:rPr>
              <a:t>хохл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3" name="Picture 9" descr="DSC00111"/>
          <p:cNvPicPr/>
          <p:nvPr/>
        </p:nvPicPr>
        <p:blipFill>
          <a:blip r:embed="rId1"/>
          <a:stretch/>
        </p:blipFill>
        <p:spPr>
          <a:xfrm>
            <a:off x="714240" y="500040"/>
            <a:ext cx="3524400" cy="2643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DSC00115"/>
          <p:cNvPicPr/>
          <p:nvPr/>
        </p:nvPicPr>
        <p:blipFill>
          <a:blip r:embed="rId2"/>
          <a:stretch/>
        </p:blipFill>
        <p:spPr>
          <a:xfrm>
            <a:off x="4929120" y="50004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DSC00113"/>
          <p:cNvPicPr/>
          <p:nvPr/>
        </p:nvPicPr>
        <p:blipFill>
          <a:blip r:embed="rId3"/>
          <a:stretch/>
        </p:blipFill>
        <p:spPr>
          <a:xfrm>
            <a:off x="571680" y="328608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6" descr="DSC00121"/>
          <p:cNvPicPr/>
          <p:nvPr/>
        </p:nvPicPr>
        <p:blipFill>
          <a:blip r:embed="rId4"/>
          <a:stretch/>
        </p:blipFill>
        <p:spPr>
          <a:xfrm>
            <a:off x="5000760" y="3357720"/>
            <a:ext cx="35226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3:09:01Z</dcterms:created>
  <dc:creator>Admin</dc:creator>
  <dc:description/>
  <dc:language>en-US</dc:language>
  <cp:lastModifiedBy>Bait</cp:lastModifiedBy>
  <dcterms:modified xsi:type="dcterms:W3CDTF">2012-12-09T18:18:48Z</dcterms:modified>
  <cp:revision>10</cp:revision>
  <dc:subject/>
  <dc:title>Слайд 1</dc:title>
</cp:coreProperties>
</file>