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609-0172-42A7-89F3-CDCA8B92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BEF-E22E-4896-909D-5E15415C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B09-D37C-4625-B1B9-5FC23990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591-6C32-4C1B-8EE9-06D3DB26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DA68-69C8-46F2-8E2E-499BE165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DAE1-AFEF-4900-ABFB-26B363E6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6928-11BB-4947-A4AF-BF07D0D3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06C1-AC4D-4D3A-8509-3191F8A5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0938-5C6C-401A-8B81-442E2380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8D87-09FB-42D3-A415-11D33A49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943C-E600-44EC-BA78-EC59AE6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75F-E7BD-41F0-A448-444C14AA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109B-4D48-471C-ACBA-0576EF5E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29C6-9C8B-49B5-B8AD-16B13209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90E4-E561-453A-BDB9-A033AF7A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FA82-8A28-4130-AF80-0737A641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EBC3-6E8F-460C-9B11-A32DF9FA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68D-348B-42EE-BC64-1988A97C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84B-5400-41EB-A2BE-7F2C95E7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7C7-4DA0-48B0-BF6D-67445621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CC2-AA40-4ED7-AA5E-E84A4F34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592-3A16-476D-A83F-CBE1491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200-467E-4D2D-A092-85B6E047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0BB-A246-40C6-976B-238F734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2AE8-B330-457A-A1D0-5801C3DDC9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18B5-A733-44C0-B6CC-8C6B08B9EE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72;&#1081;&#1083;:HIV_virion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4" descr="Шаблон (фон) презентации &quot;Ярко-зеленый&quot;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2"/>
          <p:cNvSpPr/>
          <p:nvPr/>
        </p:nvSpPr>
        <p:spPr>
          <a:xfrm>
            <a:off x="914400" y="1143000"/>
            <a:ext cx="70102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6666"/>
                </a:solidFill>
                <a:latin typeface="Verdana"/>
              </a:rPr>
              <a:t>Неклеточные формы жизни. Вирусы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c59"/>
                </a:solidFill>
                <a:latin typeface="Verdana"/>
              </a:rPr>
              <a:t>Презентация к уроку биолог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c59"/>
                </a:solidFill>
                <a:latin typeface="Verdana"/>
              </a:rPr>
              <a:t>10 класс (профильный уровень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c5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c59"/>
                </a:solidFill>
                <a:latin typeface="Verdana"/>
              </a:rPr>
              <a:t>составлена учителем биолог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c59"/>
                </a:solidFill>
                <a:latin typeface="Verdana"/>
              </a:rPr>
              <a:t>МБОУ СОШ №2 г.Пыть-Ях,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c59"/>
                </a:solidFill>
                <a:latin typeface="Verdana"/>
              </a:rPr>
              <a:t>Усаниной Верой Владимировн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1380240" y="641160"/>
            <a:ext cx="60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2.1.Состав и строение вирус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12" descr="350px-HIV_vir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1600" y="1765440"/>
            <a:ext cx="4599000" cy="44067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4876920" y="1676520"/>
            <a:ext cx="4041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труктура вируса на примере ВИЧ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(1)  РНК-геном вируса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(2)  нуклеокапсид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(3)  капсид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(4)  белковый матрикс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(5)  липидную мембран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(6-7)  гликопротеин -рецепто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(8—11) - белк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2743200"/>
          <a:ext cx="9144000" cy="3695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533520" y="457200"/>
            <a:ext cx="82296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2.2.Классификация вирусо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45720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дезоксивиру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502920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рибовиру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00" name="Прямая со стрелкой 8"/>
          <p:cNvCxnSpPr/>
          <p:nvPr/>
        </p:nvCxnSpPr>
        <p:spPr>
          <a:xfrm flipH="1">
            <a:off x="2666520" y="990360"/>
            <a:ext cx="1372320" cy="6102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1" name="Прямая со стрелкой 9"/>
          <p:cNvCxnSpPr/>
          <p:nvPr/>
        </p:nvCxnSpPr>
        <p:spPr>
          <a:xfrm>
            <a:off x="4800240" y="1066680"/>
            <a:ext cx="1067400" cy="6105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202" name=""/>
          <p:cNvGraphicFramePr/>
          <p:nvPr/>
        </p:nvGraphicFramePr>
        <p:xfrm>
          <a:off x="0" y="1981080"/>
          <a:ext cx="9144000" cy="5158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НК двухнитчаи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НК однонитчат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НК двухнитчат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НК однонитчат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Без внешних оболочек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Аденовирус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Без внешних оболочек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Крысиный вирус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Без внешних оболочек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Вирусы раневых опухолей, раст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Без внешних оболочек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олиомиелит, Энтеровирусы, Риновирусы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Вирус табачной моза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С внешн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Оболочкам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Герпес-вирус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Осп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виру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С внешними оболочками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Вирусы кори, свинки,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гриппа, бешенства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Онкогенные РНК-содержа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4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2.3.Механизм взаимодействия вирусов с клетк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228600" y="1523880"/>
            <a:ext cx="89154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Verdana"/>
              </a:rPr>
              <a:t>Инфицирование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это путь проникновения вируса в клетку, методом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рецепторного эндоцитоз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Этапы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1)прикрепление вируса к клеточным рецептора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) образование вакуоли/эндоциоз/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3) выход вируса из вакуоли в цитоплазму путем слияния вирусной и клеточной мембра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Verdana"/>
              </a:rPr>
              <a:t>Размножение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Verdana"/>
              </a:rPr>
              <a:t>вируса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/только в клетке хозяина/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1) Репликация вирусной нуклеиновой кислоты (удвоени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) Синтез вирусных белков (клеточный материал клетки хозяин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3) Сборка вирион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По завершению сборки вирионы выходят из клетк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8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Рис. 43. Бактериофаг Т4 "/>
          <p:cNvPicPr/>
          <p:nvPr/>
        </p:nvPicPr>
        <p:blipFill>
          <a:blip r:embed="rId2"/>
          <a:stretch/>
        </p:blipFill>
        <p:spPr>
          <a:xfrm>
            <a:off x="0" y="1600200"/>
            <a:ext cx="3505320" cy="4952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533520" y="380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3.Бактериофаг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3657600" y="114300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ирусы, поражающие бактери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называются бактериофаг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се фаги имеют многогранну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призматическую головку и хвос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иаметр головки 60-95 нм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лина хвоста – 250 н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Прямоугольник 7"/>
          <p:cNvSpPr/>
          <p:nvPr/>
        </p:nvSpPr>
        <p:spPr>
          <a:xfrm>
            <a:off x="3809880" y="38116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Бактериофаги полностью разрушают бактериальные клетки и потому могут быть использованы для лечения бактериальных заболеваний, например дизентерии, брюшного тифа, холер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0" y="430200"/>
            <a:ext cx="914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4.Роль вирусов в органическом мир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228600" y="1905120"/>
            <a:ext cx="4041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Негативная ро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ызывают заболевания растений, животных и чело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Используются как биологическое оруж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4572000" y="1981080"/>
            <a:ext cx="4419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Позитивная ро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Регулируют численность живых организмов в биосфер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Являются объекто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нанобиотехнологий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19" name="Прямая со стрелкой 9"/>
          <p:cNvCxnSpPr/>
          <p:nvPr/>
        </p:nvCxnSpPr>
        <p:spPr>
          <a:xfrm flipH="1">
            <a:off x="1980720" y="1295280"/>
            <a:ext cx="1829520" cy="6105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0" name="Прямая со стрелкой 10"/>
          <p:cNvCxnSpPr/>
          <p:nvPr/>
        </p:nvCxnSpPr>
        <p:spPr>
          <a:xfrm>
            <a:off x="4800600" y="1294920"/>
            <a:ext cx="1448640" cy="7628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0" y="457200"/>
            <a:ext cx="914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4.Вирусы, вызывающие заболевания челове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i-tmb-0x" descr="i?id=40917090&amp;tov=6"/>
          <p:cNvPicPr/>
          <p:nvPr/>
        </p:nvPicPr>
        <p:blipFill>
          <a:blip r:embed="rId2"/>
          <a:stretch/>
        </p:blipFill>
        <p:spPr>
          <a:xfrm>
            <a:off x="304920" y="1676520"/>
            <a:ext cx="2133360" cy="1954080"/>
          </a:xfrm>
          <a:prstGeom prst="rect">
            <a:avLst/>
          </a:prstGeom>
          <a:ln w="0">
            <a:noFill/>
          </a:ln>
        </p:spPr>
      </p:pic>
      <p:pic>
        <p:nvPicPr>
          <p:cNvPr id="226" name="i-tmb-0x" descr="i?id=128083573&amp;tov=3"/>
          <p:cNvPicPr/>
          <p:nvPr/>
        </p:nvPicPr>
        <p:blipFill>
          <a:blip r:embed="rId3"/>
          <a:stretch/>
        </p:blipFill>
        <p:spPr>
          <a:xfrm>
            <a:off x="3200400" y="1752480"/>
            <a:ext cx="2209680" cy="1886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i?id=41259091&amp;tov=7"/>
          <p:cNvPicPr/>
          <p:nvPr/>
        </p:nvPicPr>
        <p:blipFill>
          <a:blip r:embed="rId4"/>
          <a:stretch/>
        </p:blipFill>
        <p:spPr>
          <a:xfrm>
            <a:off x="6248520" y="1600200"/>
            <a:ext cx="2057400" cy="1982880"/>
          </a:xfrm>
          <a:prstGeom prst="rect">
            <a:avLst/>
          </a:prstGeom>
          <a:ln w="0">
            <a:noFill/>
          </a:ln>
        </p:spPr>
      </p:pic>
      <p:pic>
        <p:nvPicPr>
          <p:cNvPr id="228" name="i-tmb-0x" descr="i?id=75496596&amp;tov=4"/>
          <p:cNvPicPr/>
          <p:nvPr/>
        </p:nvPicPr>
        <p:blipFill>
          <a:blip r:embed="rId5"/>
          <a:stretch/>
        </p:blipFill>
        <p:spPr>
          <a:xfrm>
            <a:off x="1981080" y="4038480"/>
            <a:ext cx="2438640" cy="2136960"/>
          </a:xfrm>
          <a:prstGeom prst="rect">
            <a:avLst/>
          </a:prstGeom>
          <a:ln w="0">
            <a:noFill/>
          </a:ln>
        </p:spPr>
      </p:pic>
      <p:pic>
        <p:nvPicPr>
          <p:cNvPr id="229" name="i-main-pic" descr="Картинка 238 из 93377"/>
          <p:cNvPicPr/>
          <p:nvPr/>
        </p:nvPicPr>
        <p:blipFill>
          <a:blip r:embed="rId6"/>
          <a:stretch/>
        </p:blipFill>
        <p:spPr>
          <a:xfrm>
            <a:off x="5105520" y="4114800"/>
            <a:ext cx="2209680" cy="20574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0"/>
          <p:cNvSpPr/>
          <p:nvPr/>
        </p:nvSpPr>
        <p:spPr>
          <a:xfrm>
            <a:off x="304920" y="33526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герпес                             свиной грипп                   ВИЧ  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Прямоугольник 12"/>
          <p:cNvSpPr/>
          <p:nvPr/>
        </p:nvSpPr>
        <p:spPr>
          <a:xfrm>
            <a:off x="1981080" y="62485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гепатит С                           полиомиелит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i?id=51707745&amp;tov=0"/>
          <p:cNvPicPr/>
          <p:nvPr/>
        </p:nvPicPr>
        <p:blipFill>
          <a:blip r:embed="rId2"/>
          <a:stretch/>
        </p:blipFill>
        <p:spPr>
          <a:xfrm>
            <a:off x="304920" y="1447920"/>
            <a:ext cx="2477880" cy="1977840"/>
          </a:xfrm>
          <a:prstGeom prst="rect">
            <a:avLst/>
          </a:prstGeom>
          <a:ln w="0">
            <a:noFill/>
          </a:ln>
        </p:spPr>
      </p:pic>
      <p:pic>
        <p:nvPicPr>
          <p:cNvPr id="236" name="i-tmb-0x" descr="i?id=85053869&amp;tov=0"/>
          <p:cNvPicPr/>
          <p:nvPr/>
        </p:nvPicPr>
        <p:blipFill>
          <a:blip r:embed="rId3"/>
          <a:stretch/>
        </p:blipFill>
        <p:spPr>
          <a:xfrm>
            <a:off x="3249720" y="1295280"/>
            <a:ext cx="2381040" cy="2019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i?id=30352757&amp;tov=3"/>
          <p:cNvPicPr/>
          <p:nvPr/>
        </p:nvPicPr>
        <p:blipFill>
          <a:blip r:embed="rId4"/>
          <a:stretch/>
        </p:blipFill>
        <p:spPr>
          <a:xfrm>
            <a:off x="6400800" y="1447920"/>
            <a:ext cx="2422440" cy="1773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i?id=5272842&amp;tov=8"/>
          <p:cNvPicPr/>
          <p:nvPr/>
        </p:nvPicPr>
        <p:blipFill>
          <a:blip r:embed="rId5"/>
          <a:stretch/>
        </p:blipFill>
        <p:spPr>
          <a:xfrm>
            <a:off x="2057400" y="3962520"/>
            <a:ext cx="2133720" cy="2041560"/>
          </a:xfrm>
          <a:prstGeom prst="rect">
            <a:avLst/>
          </a:prstGeom>
          <a:ln w="0">
            <a:noFill/>
          </a:ln>
        </p:spPr>
      </p:pic>
      <p:pic>
        <p:nvPicPr>
          <p:cNvPr id="239" name="i-tmb-0x" descr="i?id=59441568&amp;tov=8"/>
          <p:cNvPicPr/>
          <p:nvPr/>
        </p:nvPicPr>
        <p:blipFill>
          <a:blip r:embed="rId6"/>
          <a:stretch/>
        </p:blipFill>
        <p:spPr>
          <a:xfrm>
            <a:off x="5105520" y="3952800"/>
            <a:ext cx="2361960" cy="18432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9"/>
          <p:cNvSpPr/>
          <p:nvPr/>
        </p:nvSpPr>
        <p:spPr>
          <a:xfrm>
            <a:off x="1066680" y="34290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ипп                            рак простаты                               ОР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2286000" y="60199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Птичий грипп                       чума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-111240"/>
            <a:ext cx="9320040" cy="6969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36311610"/>
          <p:cNvPicPr/>
          <p:nvPr/>
        </p:nvPicPr>
        <p:blipFill>
          <a:blip r:embed="rId2"/>
          <a:stretch/>
        </p:blipFill>
        <p:spPr>
          <a:xfrm>
            <a:off x="0" y="533520"/>
            <a:ext cx="6858000" cy="5410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smallpox"/>
          <p:cNvPicPr/>
          <p:nvPr/>
        </p:nvPicPr>
        <p:blipFill>
          <a:blip r:embed="rId3"/>
          <a:stretch/>
        </p:blipFill>
        <p:spPr>
          <a:xfrm>
            <a:off x="2286000" y="18288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Клетки иммунной системы, на которой видны мелкие красные частицы 'оккупантов' - вируса СПИД"/>
          <p:cNvPicPr/>
          <p:nvPr/>
        </p:nvPicPr>
        <p:blipFill>
          <a:blip r:embed="rId2"/>
          <a:stretch/>
        </p:blipFill>
        <p:spPr>
          <a:xfrm>
            <a:off x="0" y="609480"/>
            <a:ext cx="2521080" cy="2016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Смертельно опасный вирус СПИДа"/>
          <p:cNvPicPr/>
          <p:nvPr/>
        </p:nvPicPr>
        <p:blipFill>
          <a:blip r:embed="rId3"/>
          <a:stretch/>
        </p:blipFill>
        <p:spPr>
          <a:xfrm>
            <a:off x="0" y="4038480"/>
            <a:ext cx="2503440" cy="1981440"/>
          </a:xfrm>
          <a:prstGeom prst="rect">
            <a:avLst/>
          </a:prstGeom>
          <a:ln w="0">
            <a:noFill/>
          </a:ln>
        </p:spPr>
      </p:pic>
      <p:pic>
        <p:nvPicPr>
          <p:cNvPr id="252" name="smena" descr="15769"/>
          <p:cNvPicPr/>
          <p:nvPr/>
        </p:nvPicPr>
        <p:blipFill>
          <a:blip r:embed="rId4"/>
          <a:stretch/>
        </p:blipFill>
        <p:spPr>
          <a:xfrm>
            <a:off x="6912000" y="396252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Вирус ВИЧ"/>
          <p:cNvPicPr/>
          <p:nvPr/>
        </p:nvPicPr>
        <p:blipFill>
          <a:blip r:embed="rId5"/>
          <a:stretch/>
        </p:blipFill>
        <p:spPr>
          <a:xfrm>
            <a:off x="7132680" y="685800"/>
            <a:ext cx="2011320" cy="1981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2286000" y="762120"/>
            <a:ext cx="487692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Многие путают дв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овершенно различ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нятия - ВИЧ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фицированный и больно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ПИДом. Разниц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заключается в том, чт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еловек, инфицированны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ирусом иммунодефицит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может в течение многих ле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ставаться работоспособным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тносительно здоровы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еловеком. Такой человек не  представляет никако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пасности для окружающих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-304920" y="266688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Вирус иммунодефици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челове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Прямоугольник 10"/>
          <p:cNvSpPr/>
          <p:nvPr/>
        </p:nvSpPr>
        <p:spPr>
          <a:xfrm>
            <a:off x="0" y="6019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Смертельно опасный вирус СПИ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Прямоугольник 11"/>
          <p:cNvSpPr/>
          <p:nvPr/>
        </p:nvSpPr>
        <p:spPr>
          <a:xfrm>
            <a:off x="6477120" y="57150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Трехмерное изображение вируса СПИ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297180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5.СПИД. ВИ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"/>
          <p:cNvSpPr/>
          <p:nvPr/>
        </p:nvSpPr>
        <p:spPr>
          <a:xfrm>
            <a:off x="609480" y="430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6.Меры профилактики вирусных заболеван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Соблюдение здорового образа жиз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Меры по повышению иммунит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Повышение санитарной культуры насел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Своевременное выявление и лечение больны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Ношение марлевых повязок при контакте с больны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Соблюдение санитарно-гигиенических прави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Вакцинация насел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33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52280" y="609480"/>
            <a:ext cx="8991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Verdana"/>
              </a:rPr>
              <a:t>План уро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1.История открытия некоторых вирусов, возникновение вирусоло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.Строение и жизнедеятельность вирус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.1.Состав и строение виру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.2.Классификация вирусов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.3.Механизм взаимодействия ви­русов с клетк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3.Бактериофаги — вирусы бактер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4.Роль вирусов в природе и жизни людей.  Вирусные заболева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5.Особенности функционирования вируса СПИДа. Меры профилакти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6.Меры профилактики вирусных заболеван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7.Закрепление знаний. Работа с мини-тест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8.Итоги урока. Запись домашнего зад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Проверим полученные зн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152280" y="1066680"/>
            <a:ext cx="876312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1.Вирусы – это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А) прокариотическая клетк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Б)эукариотическая клет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) неклеточная форма жизни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Г) все верн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2. Вирусы состоят и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А)   белков и нуклеиновой кислоты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Б) целлюлозы и бел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)  ДНК и РНК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Г) ядра и цитоплаз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0" y="4800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3. Белковая оболочка, в которую заключен     геном вируса, называе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А. вирион  Б. капсула  В. вироид   Г. капси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4"/>
          <p:cNvSpPr/>
          <p:nvPr/>
        </p:nvSpPr>
        <p:spPr>
          <a:xfrm>
            <a:off x="0" y="6094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4.Наследственная информация заключена в ДНК у вирусов, вызывающих следующие заболевани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А) СПИД                                 Б) парот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) герпес                                 Г) кор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228600" y="266688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5. Вызывают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А) туберкулез              1) вирус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Б) СПИД                      2) бакте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) грипп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Г) сальмонелле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) корь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Е) брюшной тиф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80880" y="5410080"/>
          <a:ext cx="8153640" cy="893880"/>
        </p:xfrm>
        <a:graphic>
          <a:graphicData uri="http://schemas.openxmlformats.org/drawingml/2006/table">
            <a:tbl>
              <a:tblPr/>
              <a:tblGrid>
                <a:gridCol w="1359000"/>
                <a:gridCol w="1359000"/>
                <a:gridCol w="1359000"/>
                <a:gridCol w="1358640"/>
                <a:gridCol w="1359000"/>
                <a:gridCol w="135900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1676520" y="99072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рим отве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1337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Сверим отве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914400" y="1600200"/>
            <a:ext cx="7391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1 –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2 –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3 –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4 –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5 –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2 1 1 2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Если нет ни одной ошибки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– 5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Если одна или две ошибки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– 4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Если более двух ошибок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– 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фрагмент 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732600" y="689040"/>
            <a:ext cx="78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1.История открытия некоторых вирусов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196666"/>
                </a:solidFill>
                <a:latin typeface="Verdana"/>
              </a:rPr>
              <a:t>возникновение вирусолог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886200" y="1828800"/>
            <a:ext cx="510552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8" descr="ivanovskiy_244028415_s"/>
          <p:cNvPicPr/>
          <p:nvPr/>
        </p:nvPicPr>
        <p:blipFill>
          <a:blip r:embed="rId2"/>
          <a:stretch/>
        </p:blipFill>
        <p:spPr>
          <a:xfrm>
            <a:off x="0" y="182880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8"/>
          <p:cNvSpPr/>
          <p:nvPr/>
        </p:nvSpPr>
        <p:spPr>
          <a:xfrm>
            <a:off x="4191120" y="182880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1852 году русский ботаник Ивановский Дмитрий Иосифович  получил инфекционный экстракт из растений табака, пораженных мозаичной болезнь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фрагмент 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228600" y="0"/>
            <a:ext cx="9159840" cy="732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Beijerinck"/>
          <p:cNvPicPr/>
          <p:nvPr/>
        </p:nvPicPr>
        <p:blipFill>
          <a:blip r:embed="rId2"/>
          <a:stretch/>
        </p:blipFill>
        <p:spPr>
          <a:xfrm>
            <a:off x="304920" y="685800"/>
            <a:ext cx="3949560" cy="59086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4648320" y="762120"/>
            <a:ext cx="44956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Бейеринк Мартин Виллем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вел термин «вирус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(от  латинского – «яд»),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242100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Picture 10" descr="C:\Users\Администратор\Desktop\0838456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В 1901 г. было обнаружено первое вирусное заболевание человека - жёлтая лихорадка. Это открытие было сделано американским военным хирургом У. Ридом и его коллег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В 1907 году открыт вирус натуральной осп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1909 год – полиомиели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В 1911 г. Фрэнсис Раус доказал вирусную природу рака — саркомы кур Рау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фрагмент 3.avi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2" descr="C:\Users\Администратор\Desktop\083845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0" y="685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Вирусы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 — неклеточные формы жизн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ирусы очень мелких размеров, примерно в 50 раз меньше бактерий. Разглядеть их с помощью светового микроскопа практически невозможно. Размножаются вирусы только в клетках растений, животных и человека, вызывая различные заболев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0" y="3352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Вирусы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 имеют очень простое строение и состоят из нуклеиновой кислоты и белковой оболочки и скорее напоминают частицу, нежели клетку. Вне клеток хозяина вирусная частица не проявляет никаких признаков жизни: не питается, не дышит, не растет, не размножается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mic</cp:lastModifiedBy>
  <dcterms:modified xsi:type="dcterms:W3CDTF">2012-11-13T06:33:16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