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.jpeg" ContentType="image/jpeg"/>
  <Override PartName="/ppt/media/drumroll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6E78-9137-4FDB-85AA-A3DBD4AE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A9D-498A-48C3-B3AB-4BF20CCF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408-6543-4CF4-BE8D-856CE600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0D6-7A5C-4EED-930B-2FCDA9C5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20B6-984C-4370-8DA9-24915747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E7A1-112D-4BDB-BB3C-90A130BF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79BB-2D69-4198-BBBA-EAB2DEF9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74B6-3F6B-4E5F-9FB9-F1680BB8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4C08-C00D-4150-A6E8-A9AC3AF2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B774-167E-4E5B-A0CF-FB2A31FE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F949-21FD-489C-AB4A-E43CAFE3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CDC-A584-4E50-8D81-C382B302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992F-CB5D-416A-AC63-B9A8CE2A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6038-741A-40C6-B16E-F56E2889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3929-4721-40FA-8AFC-686A9D9C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5C25-FCE7-44BC-BACA-B406AB6C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3E61-466B-4552-B202-3FDCDA4B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24BF4-D726-4538-9CA0-F608399C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62392-8EAB-4D4C-A07F-3D0C09B1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9FEBF-55FE-474F-A05C-9FCE8A40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ACE86-1F1F-458D-9C92-A725B603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79151-5B88-4FF8-BF76-24C14890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038-FCEA-4F71-A0CD-934175F2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BBD28-AC99-4BB2-9CD0-12F206F7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0772F-C583-466C-B1CC-759C3423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275E0-F7AF-4D08-8CC5-E8F50625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FAA93-7690-484F-8CF6-6403811E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E72F2-D4C3-40F2-A5B8-1113333D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4B171-0D97-4331-B1EE-EA84B99E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B5B46-192B-4748-B1A7-BB0E953C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E9FF6-5C35-4B87-950F-BC671E79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8FD61-24CF-4209-846E-531401D4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2F06F-B3E8-4408-865F-05BEB02B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1548-33AC-4C39-AEEA-7828622B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A1620-6C36-492A-92D7-81D4549C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A90BE-609C-4130-8E9B-E984A92F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4F54C-8F1D-4C11-8917-A3332152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F89DD-76B7-4250-8D0F-D149E4BC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CE514-8841-48E2-976D-39F13C51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32903-A0D1-4189-A275-E29A5D8D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FF777-5B88-4C95-ABE1-FC9CC76D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7A7FA-BD26-4BE2-8899-901A4552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551ED-5AC5-459B-8387-A67E7261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B71-C9EB-4E10-A553-B4EB9AE9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063D-F1A5-4192-95A1-2284567C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8D4A-D0A5-4A1F-9F6B-C673BE66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983B-17FA-497F-B2C9-36B789C8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B16-4C93-4A27-8BD7-2D954436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4751-4D17-4F47-899A-CE9BCB2407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F207-C941-420B-B3CD-937068D908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FDCE-9798-4C3D-9F8C-7692AA3BB01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5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49CB-035A-4A3E-B8D5-B0B13D0D528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Моу сош №48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г.Нижнеудинс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22960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правление образования                 муниципального             района     муниципального       образования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Нижнеудинский район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собрание для родителей учащихся 6-8 класс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417080" cy="5113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6912000" cy="532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272360" cy="5473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96908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75308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79640" y="115920"/>
            <a:ext cx="4680000" cy="6742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Tahoma"/>
              </a:rPr>
              <a:t>Курение – это …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Яд, вред, причина рака, смерть, никотин, заболевание легкие, причина смертельных заболеваний, бомба замедленного действия, разрушение легких, наркотики, знак плохого воспитания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ahoma"/>
              </a:rPr>
              <a:t>Сигарета в руке – это…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жас, смерть,   большой вред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воему здоровью,   знак плохого воспитания, заражает наш организм, заражает всех ,кто стоит рядом, показатель крутости, это жизнь на 5 минут меньше 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Не курить – это значит не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е болеть, не вредить своему здоровью, долго жить,  не портить здоровью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ahoma"/>
              </a:rPr>
              <a:t>В моей семье курит лишь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апа, никто, старший брат, дедушка, папа и мама, отчим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 вреде кур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8229600" cy="35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616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лассный руководитель                                                                                           Нижегородцева Оксана Юрьев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Для того, чтобы бросить курить, нужно..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Не брать сигареты,иметь силу воли, сосать конфеты, не курить, заниматься спортом, есть фрукты, обратиться к врачу 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ahoma"/>
              </a:rPr>
              <a:t>Курение в нашей семье – это…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Вред окружающим, неприятный запах в жилом помещении, открытые двери и окна, яд для детей, трата денег,   отравление человека,  и 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Курение дает мне возможность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е знаю, потому что не курю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ичего не дает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кажусь как бы взрослее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расслабить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2448000" cy="3068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cc"/>
                </a:solidFill>
                <a:latin typeface="Tahoma"/>
              </a:rPr>
              <a:t>Вывод: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Люди переоценивают количество курящих. Некурящих большин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игареты не являются магическим средством и не имеют всех тех эффектов, которые им приписываю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уществует множество немедленных и отсроченных влияний курения на организ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ahoma"/>
              </a:rPr>
              <a:t>Курение:</a:t>
            </a:r>
            <a:br>
              <a:rPr sz="4800"/>
            </a:br>
            <a:r>
              <a:rPr b="1" i="1" lang="en-US" sz="4800" spc="-1" strike="noStrike">
                <a:solidFill>
                  <a:srgbClr val="ffffcc"/>
                </a:solidFill>
                <a:latin typeface="Tahoma"/>
              </a:rPr>
              <a:t> мифы и реальность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553080" cy="4608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451040" y="32439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675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Всякий курящий должен знать  и помнить, что он отправляет не только себя, но и других.</a:t>
            </a:r>
            <a:br>
              <a:rPr sz="4200"/>
            </a:b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                        Н.А. Семашк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403848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колько детей и подростков кури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Больше половины или меньше половины?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8320" y="620640"/>
            <a:ext cx="403848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.4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003640" y="4292640"/>
            <a:ext cx="2664000" cy="2401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95280" y="350028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й процент взрослых кури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36576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0.8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Игра </a:t>
            </a:r>
            <a:br>
              <a:rPr sz="3800"/>
            </a:b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«Незаконченное предложение…» 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урение – это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гарета в руке – это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курить – это значит не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ля того чтобы бросить курить, нужно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ашей семье курит 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урение в нашей семьи – это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урение дает мне возможность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кой вред приносит сигарета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к легких, бронхит, заболевание серд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ровное дыхание, трудность в запоминании, непривлекательность курильщ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игареты при горении выделяют ядовитые вещества – смолы, никотин, угарный газ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ждая выкуренная сигарета уносит 5 мин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доровые легк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гкие курильщ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345440" cy="446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7:22:11Z</dcterms:created>
  <dc:creator>Kristina</dc:creator>
  <dc:description/>
  <dc:language>en-US</dc:language>
  <cp:lastModifiedBy>МОУСОШ48</cp:lastModifiedBy>
  <dcterms:modified xsi:type="dcterms:W3CDTF">2009-04-10T09:44:50Z</dcterms:modified>
  <cp:revision>22</cp:revision>
  <dc:subject/>
  <dc:title>Профилактика  курения</dc:title>
</cp:coreProperties>
</file>