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8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7.wmf" ContentType="image/x-wmf"/>
  <Override PartName="/ppt/media/image30.jpeg" ContentType="image/jpeg"/>
  <Override PartName="/ppt/media/image34.png" ContentType="image/png"/>
  <Override PartName="/ppt/media/image12.jpeg" ContentType="image/jpeg"/>
  <Override PartName="/ppt/media/image53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51.gif" ContentType="image/gif"/>
  <Override PartName="/ppt/media/image13.jpeg" ContentType="image/jpeg"/>
  <Override PartName="/ppt/media/image29.jpeg" ContentType="image/jpeg"/>
  <Override PartName="/ppt/media/image52.jpeg" ContentType="image/jpeg"/>
  <Override PartName="/ppt/media/image40.wmf" ContentType="image/x-wmf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8C8-E988-4E85-A6DB-EF788DFB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493-3B93-4296-B75C-3FDFAAB3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AE9-04EA-439D-925E-5C22B4DA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B20-16E4-4851-A892-B132ED34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E88-1235-4454-8BD2-CD6729D4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A52-225F-44FA-9E37-0101160A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53B-CFF1-4370-8897-A9D4348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C11-67A8-4278-AD44-11A5F795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6A7-AC68-4C5F-8E9C-EA82278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DCB-CB10-45DC-A892-D74827D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6CF-DA9A-4690-8430-558EB5C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2B4-BACA-46CB-B50E-7435757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D536-BA04-4993-A617-FFFE4980A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6.jpeg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8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9051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297180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 дается один ра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276720" cy="302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3880" y="3962520"/>
            <a:ext cx="6096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Отклонения от общепринятых норм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поведения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( а также терпимость к таким отклонениям со стороны взрослых)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и поиски необычайных ощу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Первый</a:t>
            </a:r>
            <a:r>
              <a:rPr b="1" lang="en-US" sz="2400" spc="-1" strike="noStrike">
                <a:solidFill>
                  <a:srgbClr val="008080"/>
                </a:solidFill>
                <a:latin typeface="Stenci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69704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533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Второ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9625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Stencil"/>
              </a:rPr>
              <a:t>Факторы влияния сверстников</a:t>
            </a: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 (употребление алкоголя ровесниками и одобрение с их сторон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504960" cy="2314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6858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Трети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350532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Факторы, связанные с отношениями в семье, такие как употребление алкоголя родителями и протест против власти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О наркоти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057400" cy="1468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1514520" cy="21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3733920"/>
            <a:ext cx="8382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Наркотики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– это те или иные вещества, котор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эйфорию (приподнятое настроен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зависимость (психическую или физическую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наносят существенный вред, приносимый психическому и физическому здоровью регулярно употребляющих 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оздают опасность широкого распространения этих веществ среди насе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Классификация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90440" cy="221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Производные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6576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Опиатные нар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8098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Психостимуля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523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Галлюциног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257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Летучие наркотически действующие ве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14600" y="19807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1148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562720" y="19810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81080" y="312408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1240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Производны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2209680" cy="1650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2362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tencil"/>
              </a:rPr>
              <a:t>Марихуана</a:t>
            </a:r>
            <a:r>
              <a:rPr b="1" lang="en-US" sz="24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– высушенная или не высушенная зеленая травянистая часть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648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tencil"/>
              </a:rPr>
              <a:t>Анаша, гашиш, план</a:t>
            </a: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 – прессованная часть смолы, пыльцы и мелко измельченных верхушек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248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пиатные нарко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2210040" cy="1325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37520" y="4495680"/>
            <a:ext cx="157932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248520" y="1066680"/>
            <a:ext cx="1904760" cy="1352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04920" y="1143000"/>
            <a:ext cx="1276200" cy="1981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16002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«Маковая соломка»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- мелко размолотые коричневато-желтые сухие части раст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51460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Геро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светлый серовато-коричневый порошок в виде мелких кристалликов с неприятным запах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48769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Коде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встречается в виде официальных таблеток от кашля и головной боли, как правило импорт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88620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tencil"/>
              </a:rPr>
              <a:t>Метадон </a:t>
            </a: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– синтетический наркотик, выглядит как геро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305200">
            <a:off x="3886200" y="2895120"/>
            <a:ext cx="1523880" cy="1600200"/>
          </a:xfrm>
          <a:custGeom>
            <a:avLst/>
            <a:gdLst>
              <a:gd name="textAreaLeft" fmla="*/ 571320 w 1523880"/>
              <a:gd name="textAreaRight" fmla="*/ 952560 w 1523880"/>
              <a:gd name="textAreaTop" fmla="*/ 600120 h 1600200"/>
              <a:gd name="textAreaBottom" fmla="*/ 1000080 h 1600200"/>
            </a:gdLst>
            <a:ahLst/>
            <a:rect l="textAreaLeft" t="textAreaTop" r="textAreaRight" b="textAreaBottom"/>
            <a:pathLst>
              <a:path w="21600" h="21600">
                <a:moveTo>
                  <a:pt x="8100" y="8100"/>
                </a:moveTo>
                <a:lnTo>
                  <a:pt x="9400" y="81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8100"/>
                </a:lnTo>
                <a:lnTo>
                  <a:pt x="13500" y="8100"/>
                </a:lnTo>
                <a:lnTo>
                  <a:pt x="135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3500" y="12200"/>
                </a:lnTo>
                <a:lnTo>
                  <a:pt x="13500" y="13500"/>
                </a:lnTo>
                <a:lnTo>
                  <a:pt x="12200" y="135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3500"/>
                </a:lnTo>
                <a:lnTo>
                  <a:pt x="8100" y="13500"/>
                </a:lnTo>
                <a:lnTo>
                  <a:pt x="81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8100" y="9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0" b="8642"/>
          <a:stretch/>
        </p:blipFill>
        <p:spPr>
          <a:xfrm>
            <a:off x="6095880" y="10666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сихостимуля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2819520" cy="1736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457360" cy="32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35053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Stencil"/>
              </a:rPr>
              <a:t>Кокаин </a:t>
            </a:r>
            <a:r>
              <a:rPr b="1" lang="en-US" sz="2400" spc="-1" strike="noStrike">
                <a:solidFill>
                  <a:srgbClr val="0000ff"/>
                </a:solidFill>
                <a:latin typeface="Stencil"/>
              </a:rPr>
              <a:t>–</a:t>
            </a:r>
            <a:r>
              <a:rPr b="0" lang="en-US" sz="2400" spc="-1" strike="noStrike">
                <a:solidFill>
                  <a:srgbClr val="0000ff"/>
                </a:solidFill>
                <a:latin typeface="Stencil"/>
              </a:rPr>
              <a:t> белый кристаллический порошок, по виду похож на питьевую с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342900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Stencil"/>
              </a:rPr>
              <a:t>Экстази</a:t>
            </a:r>
            <a:r>
              <a:rPr b="1" lang="ru-RU" sz="2400" spc="-1" strike="noStrike">
                <a:solidFill>
                  <a:srgbClr val="0000ff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Stencil"/>
              </a:rPr>
              <a:t>– производятся в виде разноцветных таблеточек различной формы, иногда с рисунками на поверх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Галлюциноге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1981440" cy="150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38080" y="1523880"/>
            <a:ext cx="2819520" cy="2108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38098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Stencil"/>
              </a:rPr>
              <a:t>Грибы рода </a:t>
            </a:r>
            <a:r>
              <a:rPr b="1" i="1" lang="en-US" sz="2400" spc="-1" strike="noStrike">
                <a:solidFill>
                  <a:srgbClr val="003366"/>
                </a:solidFill>
                <a:latin typeface="Arbat-Bold"/>
              </a:rPr>
              <a:t>Psilotsibum</a:t>
            </a:r>
            <a:r>
              <a:rPr b="0" lang="en-US" sz="2400" spc="-1" strike="noStrike">
                <a:solidFill>
                  <a:srgbClr val="003366"/>
                </a:solidFill>
                <a:latin typeface="Arbat-Bold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Stencil"/>
              </a:rPr>
              <a:t>выглядят как маленькие коричневые поганки на тонкой ножке, шляпка имеет фиолетовый отт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371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172200" y="5029200"/>
            <a:ext cx="1257480" cy="1244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Stencil"/>
              </a:rPr>
              <a:t>ЛСД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– существует в виде прозрачного раствора, порошка и в виде разноцветных марок, напоминающих поч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Летучие наркотически действующие вещ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15796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2286000" cy="1896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53036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0" y="2057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Бенз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4572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Ацет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29718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Клей «Момент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изнь дается один р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24080" y="1600200"/>
            <a:ext cx="283860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5480" y="52578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4"/>
                </a:solidFill>
                <a:latin typeface="Times New Roman"/>
              </a:rPr>
              <a:t>Челове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8a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43430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400800" y="518112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04760" y="5181120"/>
            <a:ext cx="99036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172200" y="2666880"/>
            <a:ext cx="2666880" cy="193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4800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5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О вреде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276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2362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724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914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67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6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186" name="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952880" y="3962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потребление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пиатных наркот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197" name="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28600" y="37339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41148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0481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Употребление психостимуляторо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214" name="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4191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Употребление галлюциноге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231" name="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ЛНД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247" name="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О   СПИ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2209680" cy="1230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62120" y="2819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«Чума </a:t>
            </a:r>
            <a:r>
              <a:rPr b="0" lang="en-US" sz="3600" spc="-1" strike="noStrike">
                <a:solidFill>
                  <a:srgbClr val="660066"/>
                </a:solidFill>
                <a:latin typeface="Stencil"/>
              </a:rPr>
              <a:t>XX</a:t>
            </a: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 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29718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Stencil"/>
              </a:rPr>
              <a:t>Всемирный день борьбы со СПИДом – 1 декаб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6248520" y="4114800"/>
            <a:ext cx="1560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– НЕТ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7238880" y="304920"/>
            <a:ext cx="1630440" cy="2361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2616120" cy="2276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Каталог ресур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762120"/>
            <a:ext cx="8229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http://www.nosmoking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http://www.nosmoking.iv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바탕"/>
              </a:rPr>
              <a:t>      </a:t>
            </a:r>
            <a:r>
              <a:rPr b="0" lang="ru-RU" sz="1800" spc="-1" strike="noStrike">
                <a:solidFill>
                  <a:srgbClr val="008080"/>
                </a:solidFill>
                <a:latin typeface="바탕"/>
              </a:rPr>
              <a:t>Подборка </a:t>
            </a:r>
            <a:r>
              <a:rPr b="0" lang="en-US" sz="1800" spc="-1" strike="noStrike">
                <a:solidFill>
                  <a:srgbClr val="008080"/>
                </a:solidFill>
                <a:latin typeface="바탕"/>
              </a:rPr>
              <a:t>Web</a:t>
            </a:r>
            <a:r>
              <a:rPr b="0" lang="ru-RU" sz="1800" spc="-1" strike="noStrike">
                <a:solidFill>
                  <a:srgbClr val="008080"/>
                </a:solidFill>
                <a:latin typeface="바탕"/>
              </a:rPr>
              <a:t>-ресурсов для преподавателей курса «Наш выбор:Без наркотиков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8080"/>
              </a:buClr>
              <a:buFont typeface="Batang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바탕"/>
              </a:rPr>
              <a:t>http://www.rwd.ru/po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바탕"/>
              </a:rPr>
              <a:t>      </a:t>
            </a:r>
            <a:r>
              <a:rPr b="0" lang="ru-RU" sz="1800" spc="-1" strike="noStrike">
                <a:solidFill>
                  <a:srgbClr val="008080"/>
                </a:solidFill>
                <a:latin typeface="바탕"/>
              </a:rPr>
              <a:t>Антинаркотические плака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8080"/>
              </a:buClr>
              <a:buFont typeface="Batang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바탕"/>
              </a:rPr>
              <a:t>http://www.narkotiki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바탕"/>
              </a:rPr>
              <a:t>      </a:t>
            </a:r>
            <a:r>
              <a:rPr b="0" lang="ru-RU" sz="1800" spc="-1" strike="noStrike">
                <a:solidFill>
                  <a:srgbClr val="008080"/>
                </a:solidFill>
                <a:latin typeface="바탕"/>
              </a:rPr>
              <a:t>Если к вам постучалась беда. Психология наркозависим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8080"/>
              </a:buClr>
              <a:buFont typeface="Batang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바탕"/>
              </a:rPr>
              <a:t>http://www.narcotyk.boom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바탕"/>
              </a:rPr>
              <a:t>      </a:t>
            </a:r>
            <a:r>
              <a:rPr b="0" lang="ru-RU" sz="1800" spc="-1" strike="noStrike">
                <a:solidFill>
                  <a:srgbClr val="008080"/>
                </a:solidFill>
                <a:latin typeface="바탕"/>
              </a:rPr>
              <a:t>Сайт, посвященный проблемам наркомании, описанию наркотиков и их действ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10080" y="4343400"/>
            <a:ext cx="3346560" cy="2165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838080"/>
            <a:ext cx="2347920" cy="350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8120" y="28954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О</a:t>
            </a:r>
            <a:r>
              <a:rPr b="0" lang="en-US" sz="4800" spc="-1" strike="noStrike">
                <a:solidFill>
                  <a:srgbClr val="8a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курен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6765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0000"/>
                </a:solidFill>
                <a:latin typeface="Times New Roman"/>
              </a:rPr>
              <a:t>Почему молодые люди начинают кури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8913"/>
            </a:gs>
            <a:gs pos="100000">
              <a:srgbClr val="753f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4969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05320" y="160020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0666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Из любопыт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419112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Потому что все мои друзья кур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Чтобы выглядеть более взросл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7924680" y="57150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346560" cy="2165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7621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мне нравится кур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53341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я чувствовал себя беспокойно и нервоз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1532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О вреде кур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2971800" cy="2121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105360" cy="2760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438280" y="4191120"/>
            <a:ext cx="224820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76720" y="18288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1240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бак – один из наиболее распространенных наркот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723920" y="4343400"/>
            <a:ext cx="22100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ервы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5334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оследни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0400" y="29718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"/>
              </a:rPr>
              <a:t>Никотин наносит уд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1981080" cy="1824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176832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91120" y="213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633800">
            <a:off x="2742840" y="4572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3290600">
            <a:off x="5257800" y="457164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533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048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048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57200" y="380880"/>
            <a:ext cx="2247840" cy="2362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81532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"/>
              </a:rPr>
              <a:t>О пьянстве и алкоголизм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438280" cy="2252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95880" y="4648320"/>
            <a:ext cx="2565360" cy="1693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655040" y="380880"/>
            <a:ext cx="124128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29000" y="175248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Пьянство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 - чрезмерное употребление алкоголя, разрушительно действующее на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Алкоголизм 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– химическая зависимость от алкоголя, приводящая к вынужденному и неумеренному его употребл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666880" y="167616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04812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33412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581280"/>
            <a:ext cx="685800" cy="6098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3623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60199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5053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Stencil"/>
              </a:rPr>
              <a:t>Выявлено три важных фактора, связанных с высоким риском развития алкоголи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school48</cp:lastModifiedBy>
  <dcterms:modified xsi:type="dcterms:W3CDTF">2009-03-31T13:53:55Z</dcterms:modified>
  <cp:revision>19</cp:revision>
  <dc:subject/>
  <dc:title>Жизнь дается один раз</dc:title>
</cp:coreProperties>
</file>