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0939-F337-4D21-B61F-01FC7EA9A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ляем теремок. Жителями станут герои, в названиях которых встречается звук [ш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69FA-3D7C-4781-8F29-73974F842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25D-B3B7-477E-AF87-F897247C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222-7CA9-4A76-ACD1-48B6B2C3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BC9-AA60-456C-A03F-E32D669B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A1D-B133-409F-A334-62FF544F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1CF-63A3-4FD4-86EA-5EE480A4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F47-8271-4363-9DB8-14AD5CA3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289-9E07-460F-BB1E-D653C937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436-83FD-4711-BA71-485579D7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F79-1908-4680-9F69-D38D9953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36E-27FA-4731-ABDC-7BAD453D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0AA-46E1-458C-A729-5897DCC9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80F-FE02-4E1B-848B-DDBF0139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89F-F8BB-47DA-865C-F7A940BAC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gakot.ru/pazl_teremok_myagkiy_30_detaley_p27565_0.html" TargetMode="External"/><Relationship Id="rId2" Type="http://schemas.openxmlformats.org/officeDocument/2006/relationships/hyperlink" Target="http://900igr.net/fotografii/skazki-i-igry/Teremok-1.files/009-Priskakala-ljagushka-kvakushka.html" TargetMode="External"/><Relationship Id="rId3" Type="http://schemas.openxmlformats.org/officeDocument/2006/relationships/hyperlink" Target="http://900igr.net/kartinki/skazki-i-igry/Teremok-1.files/012-Pribezhala-k-teremochku-myshka-norushka-i-stala-v-nej-zhit.html" TargetMode="External"/><Relationship Id="rId4" Type="http://schemas.openxmlformats.org/officeDocument/2006/relationships/hyperlink" Target="http://forum.materinstvo.ru/index.php?showtopic=1165078&amp;st=99" TargetMode="External"/><Relationship Id="rId5" Type="http://schemas.openxmlformats.org/officeDocument/2006/relationships/hyperlink" Target="http://forum.materinstvo.ru/index.php?showtopic=1165078&amp;st=99" TargetMode="External"/><Relationship Id="rId6" Type="http://schemas.openxmlformats.org/officeDocument/2006/relationships/hyperlink" Target="http://forum.materinstvo.ru/index.php?showtopic=1165078&amp;st=99" TargetMode="External"/><Relationship Id="rId7" Type="http://schemas.openxmlformats.org/officeDocument/2006/relationships/hyperlink" Target="http://900igr.net/fotografii/skazki-i-igry/Teremok-1.files/013-Prishjol-k-teremochku-Mishka.html" TargetMode="External"/><Relationship Id="rId8" Type="http://schemas.openxmlformats.org/officeDocument/2006/relationships/hyperlink" Target="http://www.xrest.ru/preview/79282/" TargetMode="External"/><Relationship Id="rId9" Type="http://schemas.openxmlformats.org/officeDocument/2006/relationships/hyperlink" Target="http://www.ivanivanich.ru/disc.php?id=26&amp;pg=2" TargetMode="External"/><Relationship Id="rId10" Type="http://schemas.openxmlformats.org/officeDocument/2006/relationships/hyperlink" Target="http://www.ivanivanich.ru/disc.php?id=26&amp;pg=2" TargetMode="External"/><Relationship Id="rId11" Type="http://schemas.openxmlformats.org/officeDocument/2006/relationships/hyperlink" Target="http://www.ivanivanich.ru/disc.php?id=26&amp;pg=2" TargetMode="External"/><Relationship Id="rId12" Type="http://schemas.openxmlformats.org/officeDocument/2006/relationships/hyperlink" Target="http://www.weblancer.net/users/Kutepov_23/portfolio/906154.html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6b9b8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159e"/>
                </a:solidFill>
                <a:latin typeface="Calibri"/>
              </a:rPr>
              <a:t>Знакомство  с буквой Ш, ш.</a:t>
            </a:r>
            <a:br>
              <a:rPr sz="2400"/>
            </a:br>
            <a:r>
              <a:rPr b="1" lang="ru-RU" sz="2400" spc="-1" strike="noStrike">
                <a:solidFill>
                  <a:srgbClr val="b5159e"/>
                </a:solidFill>
                <a:latin typeface="Calibri"/>
              </a:rPr>
              <a:t>Программа «Начальная школа ХХ</a:t>
            </a:r>
            <a:r>
              <a:rPr b="1" lang="en-US" sz="2400" spc="-1" strike="noStrike">
                <a:solidFill>
                  <a:srgbClr val="b5159e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b5159e"/>
                </a:solidFill>
                <a:latin typeface="Calibri"/>
              </a:rPr>
              <a:t> ве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6160" y="3886200"/>
            <a:ext cx="348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Презентация учите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МБОУ </a:t>
            </a:r>
            <a:r>
              <a:rPr b="1" lang="ru-RU" sz="1600" spc="-1" strike="noStrike">
                <a:solidFill>
                  <a:srgbClr val="953735"/>
                </a:solidFill>
                <a:latin typeface="Arial"/>
              </a:rPr>
              <a:t>«</a:t>
            </a:r>
            <a:r>
              <a:rPr b="0" lang="ru-RU" sz="1600" spc="-1" strike="noStrike">
                <a:solidFill>
                  <a:srgbClr val="953735"/>
                </a:solidFill>
                <a:latin typeface="Arial"/>
              </a:rPr>
              <a:t>Килинчинская СОШ имени героя России Азамата Тасимова» Алимуллаевой Ильгизы Рафисов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928692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3191040" y="357120"/>
            <a:ext cx="5952960" cy="6286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57120" y="642960"/>
            <a:ext cx="3857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шка-но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ар-писк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яц-попрыга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йчишка- труси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лк – зубами ще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лчишка – серый хвостиш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ягушка-попрыг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жик-ерш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сичка-сестр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сушка-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ишка-топты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857760" y="5500800"/>
            <a:ext cx="947520" cy="107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5000760" y="4357800"/>
            <a:ext cx="1071360" cy="226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6143760" y="5286240"/>
            <a:ext cx="109512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5"/>
          <a:stretch/>
        </p:blipFill>
        <p:spPr>
          <a:xfrm>
            <a:off x="1714680" y="4786200"/>
            <a:ext cx="1571400" cy="185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tretch/>
        </p:blipFill>
        <p:spPr>
          <a:xfrm>
            <a:off x="7215120" y="4071960"/>
            <a:ext cx="1609920" cy="264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7"/>
          <a:stretch/>
        </p:blipFill>
        <p:spPr>
          <a:xfrm>
            <a:off x="3214800" y="5643720"/>
            <a:ext cx="642960" cy="102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8"/>
          <a:stretch/>
        </p:blipFill>
        <p:spPr>
          <a:xfrm>
            <a:off x="214200" y="4286160"/>
            <a:ext cx="17146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 rot="3729600">
            <a:off x="712800" y="1784520"/>
            <a:ext cx="2427120" cy="242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500280" y="1143000"/>
            <a:ext cx="55008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71680" y="4143240"/>
          <a:ext cx="3071520" cy="639720"/>
        </p:xfrm>
        <a:graphic>
          <a:graphicData uri="http://schemas.openxmlformats.org/drawingml/2006/table">
            <a:tbl>
              <a:tblPr/>
              <a:tblGrid>
                <a:gridCol w="614160"/>
                <a:gridCol w="614520"/>
                <a:gridCol w="614160"/>
                <a:gridCol w="614520"/>
                <a:gridCol w="614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572000" y="4143240"/>
          <a:ext cx="4143240" cy="639720"/>
        </p:xfrm>
        <a:graphic>
          <a:graphicData uri="http://schemas.openxmlformats.org/drawingml/2006/table">
            <a:tbl>
              <a:tblPr/>
              <a:tblGrid>
                <a:gridCol w="592200"/>
                <a:gridCol w="592200"/>
                <a:gridCol w="591840"/>
                <a:gridCol w="590760"/>
                <a:gridCol w="592200"/>
                <a:gridCol w="592200"/>
                <a:gridCol w="59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64" name="Равнобедренный треугольник 3"/>
          <p:cNvSpPr/>
          <p:nvPr/>
        </p:nvSpPr>
        <p:spPr>
          <a:xfrm>
            <a:off x="2643120" y="4857840"/>
            <a:ext cx="214560" cy="214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Равнобедренный треугольник 4"/>
          <p:cNvSpPr/>
          <p:nvPr/>
        </p:nvSpPr>
        <p:spPr>
          <a:xfrm>
            <a:off x="7143840" y="4857840"/>
            <a:ext cx="214200" cy="214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571680" y="4143240"/>
            <a:ext cx="642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121428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178596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242892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300024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457200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5143680" y="4143240"/>
            <a:ext cx="642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571500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3"/>
          <p:cNvSpPr/>
          <p:nvPr/>
        </p:nvSpPr>
        <p:spPr>
          <a:xfrm>
            <a:off x="6286680" y="4143240"/>
            <a:ext cx="642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4"/>
          <p:cNvSpPr/>
          <p:nvPr/>
        </p:nvSpPr>
        <p:spPr>
          <a:xfrm>
            <a:off x="692928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5"/>
          <p:cNvSpPr/>
          <p:nvPr/>
        </p:nvSpPr>
        <p:spPr>
          <a:xfrm>
            <a:off x="750096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6"/>
          <p:cNvSpPr/>
          <p:nvPr/>
        </p:nvSpPr>
        <p:spPr>
          <a:xfrm>
            <a:off x="8072280" y="414324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7" descr="колокольчик.jpg"/>
          <p:cNvPicPr/>
          <p:nvPr/>
        </p:nvPicPr>
        <p:blipFill>
          <a:blip r:embed="rId1"/>
          <a:stretch/>
        </p:blipFill>
        <p:spPr>
          <a:xfrm>
            <a:off x="714240" y="3714840"/>
            <a:ext cx="40032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8" descr="колокольчик.jpg"/>
          <p:cNvPicPr/>
          <p:nvPr/>
        </p:nvPicPr>
        <p:blipFill>
          <a:blip r:embed="rId2"/>
          <a:stretch/>
        </p:blipFill>
        <p:spPr>
          <a:xfrm>
            <a:off x="1285920" y="3714840"/>
            <a:ext cx="399960" cy="3333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9"/>
          <p:cNvSpPr/>
          <p:nvPr/>
        </p:nvSpPr>
        <p:spPr>
          <a:xfrm>
            <a:off x="571680" y="3500280"/>
            <a:ext cx="642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0"/>
          <p:cNvSpPr/>
          <p:nvPr/>
        </p:nvSpPr>
        <p:spPr>
          <a:xfrm>
            <a:off x="1214280" y="3500280"/>
            <a:ext cx="64296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2"/>
          <p:cNvSpPr/>
          <p:nvPr/>
        </p:nvSpPr>
        <p:spPr>
          <a:xfrm flipH="1">
            <a:off x="2071440" y="3714840"/>
            <a:ext cx="1429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3"/>
          <p:cNvSpPr/>
          <p:nvPr/>
        </p:nvSpPr>
        <p:spPr>
          <a:xfrm flipH="1">
            <a:off x="6571800" y="3786120"/>
            <a:ext cx="14292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Дуга 24"/>
          <p:cNvSpPr/>
          <p:nvPr/>
        </p:nvSpPr>
        <p:spPr>
          <a:xfrm rot="7845000">
            <a:off x="311760" y="2838960"/>
            <a:ext cx="2090880" cy="2536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Дуга 25"/>
          <p:cNvSpPr/>
          <p:nvPr/>
        </p:nvSpPr>
        <p:spPr>
          <a:xfrm rot="7845000">
            <a:off x="5383800" y="2923200"/>
            <a:ext cx="2090880" cy="2536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уга 26"/>
          <p:cNvSpPr/>
          <p:nvPr/>
        </p:nvSpPr>
        <p:spPr>
          <a:xfrm rot="7845000">
            <a:off x="2070360" y="3413520"/>
            <a:ext cx="1563480" cy="18478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Дуга 27"/>
          <p:cNvSpPr/>
          <p:nvPr/>
        </p:nvSpPr>
        <p:spPr>
          <a:xfrm rot="7845000">
            <a:off x="4284720" y="3485160"/>
            <a:ext cx="1563840" cy="18478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уга 28"/>
          <p:cNvSpPr/>
          <p:nvPr/>
        </p:nvSpPr>
        <p:spPr>
          <a:xfrm rot="7845000">
            <a:off x="7151760" y="3485160"/>
            <a:ext cx="1563840" cy="18478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9" descr=""/>
          <p:cNvPicPr/>
          <p:nvPr/>
        </p:nvPicPr>
        <p:blipFill>
          <a:blip r:embed="rId3"/>
          <a:stretch/>
        </p:blipFill>
        <p:spPr>
          <a:xfrm>
            <a:off x="0" y="0"/>
            <a:ext cx="4824360" cy="32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2" descr=""/>
          <p:cNvPicPr/>
          <p:nvPr/>
        </p:nvPicPr>
        <p:blipFill>
          <a:blip r:embed="rId4"/>
          <a:stretch/>
        </p:blipFill>
        <p:spPr>
          <a:xfrm>
            <a:off x="5929200" y="428760"/>
            <a:ext cx="1571760" cy="25160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2"/>
          <p:cNvSpPr/>
          <p:nvPr/>
        </p:nvSpPr>
        <p:spPr>
          <a:xfrm>
            <a:off x="357120" y="3214800"/>
            <a:ext cx="378612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3"/>
          <p:cNvSpPr/>
          <p:nvPr/>
        </p:nvSpPr>
        <p:spPr>
          <a:xfrm>
            <a:off x="4500720" y="3286080"/>
            <a:ext cx="4429080" cy="235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71680" y="500040"/>
          <a:ext cx="8001000" cy="50720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с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с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ш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с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ж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ш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ут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т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ик 2"/>
          <p:cNvSpPr/>
          <p:nvPr/>
        </p:nvSpPr>
        <p:spPr>
          <a:xfrm>
            <a:off x="571680" y="50004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571840" y="50004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71680" y="178596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571840" y="178596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71680" y="307188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571840" y="307188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571680" y="435780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571840" y="435780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4572000" y="50004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1"/>
          <p:cNvSpPr/>
          <p:nvPr/>
        </p:nvSpPr>
        <p:spPr>
          <a:xfrm>
            <a:off x="6572160" y="500040"/>
            <a:ext cx="2000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4572000" y="178596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6572160" y="1785960"/>
            <a:ext cx="2000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4572000" y="307188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6572160" y="3071880"/>
            <a:ext cx="2000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4572000" y="4357800"/>
            <a:ext cx="2000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6572160" y="4357800"/>
            <a:ext cx="2000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Найди слово в слов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Прямоугольник 2" descr=""/>
          <p:cNvPicPr/>
          <p:nvPr/>
        </p:nvPicPr>
        <p:blipFill>
          <a:blip r:embed="rId1"/>
          <a:stretch/>
        </p:blipFill>
        <p:spPr>
          <a:xfrm>
            <a:off x="933480" y="2109960"/>
            <a:ext cx="2852640" cy="11095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3" descr=""/>
          <p:cNvPicPr/>
          <p:nvPr/>
        </p:nvPicPr>
        <p:blipFill>
          <a:blip r:embed="rId2"/>
          <a:stretch/>
        </p:blipFill>
        <p:spPr>
          <a:xfrm>
            <a:off x="4803840" y="2073240"/>
            <a:ext cx="3101760" cy="11397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4" descr=""/>
          <p:cNvPicPr/>
          <p:nvPr/>
        </p:nvPicPr>
        <p:blipFill>
          <a:blip r:embed="rId3"/>
          <a:stretch/>
        </p:blipFill>
        <p:spPr>
          <a:xfrm>
            <a:off x="2189160" y="3468600"/>
            <a:ext cx="40784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Calibri"/>
              </a:rPr>
              <a:t>Картинки с сай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500040" y="157176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емок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megakot.ru/pazl_teremok_myagkiy_30_detaley_p27565_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а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900igr.net/fotografii/skazki-i-igry/Teremok-1.files/009-Priskakala-ljagushka-kvakushk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ка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900igr.net/kartinki/skazki-i-igry/Teremok-1.files/012-Pribezhala-k-teremochku-myshka-norushka-i-stala-v-nej-zh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чик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forum.materinstvo.ru/index.php?showtopi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=1165078&amp;st=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шка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900igr.net/fotografii/skazki-i-igry/Teremok-1.files/013-Prishjol-k-teremochku-Mishk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жик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xrest.ru/preview/7928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ичка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ivanivanich.ru/disc.php?id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=26&amp;pg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weblancer.net/users/Kutepov_23/portfolio/90615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ск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implywigs.co.uk/catalogue/brushes-comb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Ш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roshkolu.ru/user/ivka42009/file/65984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уш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www.moszipper.ru/index.php?productID=2353&amp;discus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ш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yablor.ru/blogs/fruktovaya-otgadka/2121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0T17:45:49Z</dcterms:modified>
  <cp:revision>17</cp:revision>
  <dc:subject/>
  <dc:title>Знакомство  с буквой Ш, ш. Программа «Начальная школа ХХI века»</dc:title>
</cp:coreProperties>
</file>