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68F-00F7-4638-A1FE-DD2E65C73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ляем теремок. Жителями станут герои, в названиях которых встречается звук [ш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D5C1-E336-4158-BBFB-9F5A08DC3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6BC-F88E-4F8F-AE67-7963BB1C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838-6DA1-461D-A258-0301FA2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C66-2BCB-440F-88C6-335A502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865-52E3-4DDF-8323-1863E78D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699-FAE6-4A84-B78C-E720281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4AA-43D3-40ED-BE99-E19A613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A88-65A8-4E36-9DAD-1B76ECB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A28-7AB4-40AF-9F9F-90F7A5D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DC0-AE98-4418-A9F2-B770193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954-2B3C-407D-81EE-8CADD4E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81B-AFFB-4952-A46A-6ECFE93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FB7-F8CB-4EF4-9725-152EC70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957-09B9-42F2-BFCC-DE819DCF5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gakot.ru/pazl_teremok_myagkiy_30_detaley_p27565_0.html" TargetMode="External"/><Relationship Id="rId2" Type="http://schemas.openxmlformats.org/officeDocument/2006/relationships/hyperlink" Target="http://900igr.net/fotografii/skazki-i-igry/Teremok-1.files/009-Priskakala-ljagushka-kvakushka.html" TargetMode="External"/><Relationship Id="rId3" Type="http://schemas.openxmlformats.org/officeDocument/2006/relationships/hyperlink" Target="http://900igr.net/kartinki/skazki-i-igry/Teremok-1.files/012-Pribezhala-k-teremochku-myshka-norushka-i-stala-v-nej-zhit.html" TargetMode="External"/><Relationship Id="rId4" Type="http://schemas.openxmlformats.org/officeDocument/2006/relationships/hyperlink" Target="http://forum.materinstvo.ru/index.php?showtopic=1165078&amp;st=99" TargetMode="External"/><Relationship Id="rId5" Type="http://schemas.openxmlformats.org/officeDocument/2006/relationships/hyperlink" Target="http://forum.materinstvo.ru/index.php?showtopic=1165078&amp;st=99" TargetMode="External"/><Relationship Id="rId6" Type="http://schemas.openxmlformats.org/officeDocument/2006/relationships/hyperlink" Target="http://forum.materinstvo.ru/index.php?showtopic=1165078&amp;st=99" TargetMode="External"/><Relationship Id="rId7" Type="http://schemas.openxmlformats.org/officeDocument/2006/relationships/hyperlink" Target="http://900igr.net/fotografii/skazki-i-igry/Teremok-1.files/013-Prishjol-k-teremochku-Mishka.html" TargetMode="External"/><Relationship Id="rId8" Type="http://schemas.openxmlformats.org/officeDocument/2006/relationships/hyperlink" Target="http://www.xrest.ru/preview/79282/" TargetMode="External"/><Relationship Id="rId9" Type="http://schemas.openxmlformats.org/officeDocument/2006/relationships/hyperlink" Target="http://www.ivanivanich.ru/disc.php?id=26&amp;pg=2" TargetMode="External"/><Relationship Id="rId10" Type="http://schemas.openxmlformats.org/officeDocument/2006/relationships/hyperlink" Target="http://www.ivanivanich.ru/disc.php?id=26&amp;pg=2" TargetMode="External"/><Relationship Id="rId11" Type="http://schemas.openxmlformats.org/officeDocument/2006/relationships/hyperlink" Target="http://www.ivanivanich.ru/disc.php?id=26&amp;pg=2" TargetMode="External"/><Relationship Id="rId12" Type="http://schemas.openxmlformats.org/officeDocument/2006/relationships/hyperlink" Target="http://www.weblancer.net/users/Kutepov_23/portfolio/906154.html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6b9b8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Знакомство  с буквой Ш, ш.</a:t>
            </a:r>
            <a:br>
              <a:rPr sz="2400"/>
            </a:b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Программа «Начальная школа ХХ</a:t>
            </a:r>
            <a:r>
              <a:rPr b="1" lang="en-US" sz="2400" spc="-1" strike="noStrike">
                <a:solidFill>
                  <a:srgbClr val="b5159e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 ве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6160" y="3886200"/>
            <a:ext cx="34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Презентация учите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МБОУ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953735"/>
                </a:solidFill>
                <a:latin typeface="Arial"/>
              </a:rPr>
              <a:t>Килинчинская СОШ имени героя России Азамата Тасимова» Алимуллаевой Ильгизы Рафисов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28692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191040" y="357120"/>
            <a:ext cx="5952960" cy="6286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57120" y="642960"/>
            <a:ext cx="385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шка-но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ар-писк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яц-попрыга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йчишка- труси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к – зубами ще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чишка – серый хвостиш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ягушка-попрыг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жик-ерш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сичка-сестр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сушка-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шка-топты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857760" y="5500800"/>
            <a:ext cx="947520" cy="107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5000760" y="4357800"/>
            <a:ext cx="1071360" cy="226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6143760" y="528624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5"/>
          <a:stretch/>
        </p:blipFill>
        <p:spPr>
          <a:xfrm>
            <a:off x="1714680" y="4786200"/>
            <a:ext cx="1571400" cy="18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tretch/>
        </p:blipFill>
        <p:spPr>
          <a:xfrm>
            <a:off x="7215120" y="4071960"/>
            <a:ext cx="1609920" cy="264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7"/>
          <a:stretch/>
        </p:blipFill>
        <p:spPr>
          <a:xfrm>
            <a:off x="3214800" y="5643720"/>
            <a:ext cx="642960" cy="102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8"/>
          <a:stretch/>
        </p:blipFill>
        <p:spPr>
          <a:xfrm>
            <a:off x="214200" y="4286160"/>
            <a:ext cx="17146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 rot="3729600">
            <a:off x="712800" y="17845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00280" y="1143000"/>
            <a:ext cx="5500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71680" y="4143240"/>
          <a:ext cx="3071520" cy="639720"/>
        </p:xfrm>
        <a:graphic>
          <a:graphicData uri="http://schemas.openxmlformats.org/drawingml/2006/table">
            <a:tbl>
              <a:tblPr/>
              <a:tblGrid>
                <a:gridCol w="614160"/>
                <a:gridCol w="614520"/>
                <a:gridCol w="614160"/>
                <a:gridCol w="614520"/>
                <a:gridCol w="61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0" y="4143240"/>
          <a:ext cx="4143240" cy="639720"/>
        </p:xfrm>
        <a:graphic>
          <a:graphicData uri="http://schemas.openxmlformats.org/drawingml/2006/table">
            <a:tbl>
              <a:tblPr/>
              <a:tblGrid>
                <a:gridCol w="592200"/>
                <a:gridCol w="592200"/>
                <a:gridCol w="591840"/>
                <a:gridCol w="590760"/>
                <a:gridCol w="592200"/>
                <a:gridCol w="592200"/>
                <a:gridCol w="59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4" name="Равнобедренный треугольник 3"/>
          <p:cNvSpPr/>
          <p:nvPr/>
        </p:nvSpPr>
        <p:spPr>
          <a:xfrm>
            <a:off x="2643120" y="4857840"/>
            <a:ext cx="214560" cy="214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авнобедренный треугольник 4"/>
          <p:cNvSpPr/>
          <p:nvPr/>
        </p:nvSpPr>
        <p:spPr>
          <a:xfrm>
            <a:off x="7143840" y="485784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571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1214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178596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242892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00024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57200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5143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571500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3"/>
          <p:cNvSpPr/>
          <p:nvPr/>
        </p:nvSpPr>
        <p:spPr>
          <a:xfrm>
            <a:off x="6286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4"/>
          <p:cNvSpPr/>
          <p:nvPr/>
        </p:nvSpPr>
        <p:spPr>
          <a:xfrm>
            <a:off x="6929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750096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6"/>
          <p:cNvSpPr/>
          <p:nvPr/>
        </p:nvSpPr>
        <p:spPr>
          <a:xfrm>
            <a:off x="8072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7" descr="колокольчик.jpg"/>
          <p:cNvPicPr/>
          <p:nvPr/>
        </p:nvPicPr>
        <p:blipFill>
          <a:blip r:embed="rId1"/>
          <a:stretch/>
        </p:blipFill>
        <p:spPr>
          <a:xfrm>
            <a:off x="714240" y="3714840"/>
            <a:ext cx="40032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колокольчик.jpg"/>
          <p:cNvPicPr/>
          <p:nvPr/>
        </p:nvPicPr>
        <p:blipFill>
          <a:blip r:embed="rId2"/>
          <a:stretch/>
        </p:blipFill>
        <p:spPr>
          <a:xfrm>
            <a:off x="1285920" y="3714840"/>
            <a:ext cx="39996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9"/>
          <p:cNvSpPr/>
          <p:nvPr/>
        </p:nvSpPr>
        <p:spPr>
          <a:xfrm>
            <a:off x="571680" y="350028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1214280" y="350028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2"/>
          <p:cNvSpPr/>
          <p:nvPr/>
        </p:nvSpPr>
        <p:spPr>
          <a:xfrm flipH="1">
            <a:off x="2071440" y="37148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3"/>
          <p:cNvSpPr/>
          <p:nvPr/>
        </p:nvSpPr>
        <p:spPr>
          <a:xfrm flipH="1">
            <a:off x="6571800" y="3786120"/>
            <a:ext cx="14292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24"/>
          <p:cNvSpPr/>
          <p:nvPr/>
        </p:nvSpPr>
        <p:spPr>
          <a:xfrm rot="7845000">
            <a:off x="311760" y="2838960"/>
            <a:ext cx="2090880" cy="2536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Дуга 25"/>
          <p:cNvSpPr/>
          <p:nvPr/>
        </p:nvSpPr>
        <p:spPr>
          <a:xfrm rot="7845000">
            <a:off x="5383800" y="2923200"/>
            <a:ext cx="2090880" cy="2536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уга 26"/>
          <p:cNvSpPr/>
          <p:nvPr/>
        </p:nvSpPr>
        <p:spPr>
          <a:xfrm rot="7845000">
            <a:off x="2070360" y="3413520"/>
            <a:ext cx="156348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уга 27"/>
          <p:cNvSpPr/>
          <p:nvPr/>
        </p:nvSpPr>
        <p:spPr>
          <a:xfrm rot="7845000">
            <a:off x="4284720" y="3485160"/>
            <a:ext cx="156384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уга 28"/>
          <p:cNvSpPr/>
          <p:nvPr/>
        </p:nvSpPr>
        <p:spPr>
          <a:xfrm rot="7845000">
            <a:off x="7151760" y="3485160"/>
            <a:ext cx="156384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9" descr=""/>
          <p:cNvPicPr/>
          <p:nvPr/>
        </p:nvPicPr>
        <p:blipFill>
          <a:blip r:embed="rId3"/>
          <a:stretch/>
        </p:blipFill>
        <p:spPr>
          <a:xfrm>
            <a:off x="0" y="0"/>
            <a:ext cx="4824360" cy="32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"/>
          <p:cNvPicPr/>
          <p:nvPr/>
        </p:nvPicPr>
        <p:blipFill>
          <a:blip r:embed="rId4"/>
          <a:stretch/>
        </p:blipFill>
        <p:spPr>
          <a:xfrm>
            <a:off x="5929200" y="428760"/>
            <a:ext cx="1571760" cy="25160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2"/>
          <p:cNvSpPr/>
          <p:nvPr/>
        </p:nvSpPr>
        <p:spPr>
          <a:xfrm>
            <a:off x="357120" y="3214800"/>
            <a:ext cx="378612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3"/>
          <p:cNvSpPr/>
          <p:nvPr/>
        </p:nvSpPr>
        <p:spPr>
          <a:xfrm>
            <a:off x="4500720" y="3286080"/>
            <a:ext cx="442908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71680" y="500040"/>
          <a:ext cx="8001000" cy="50720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с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с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с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ж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2"/>
          <p:cNvSpPr/>
          <p:nvPr/>
        </p:nvSpPr>
        <p:spPr>
          <a:xfrm>
            <a:off x="57168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57184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7168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57184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7168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57184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57168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57184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57200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6572160" y="50004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457200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6572160" y="178596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457200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6572160" y="307188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457200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6572160" y="435780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Найди слово в сло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933480" y="2109960"/>
            <a:ext cx="2852640" cy="11095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2"/>
          <a:stretch/>
        </p:blipFill>
        <p:spPr>
          <a:xfrm>
            <a:off x="4803840" y="2073240"/>
            <a:ext cx="3101760" cy="11397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tretch/>
        </p:blipFill>
        <p:spPr>
          <a:xfrm>
            <a:off x="2189160" y="3468600"/>
            <a:ext cx="40784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Картинки с сай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500040" y="157176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емо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kot.ru/pazl_teremok_myagkiy_30_detaley_p27565_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900igr.net/fotografii/skazki-i-igry/Teremok-1.files/009-Priskakala-ljagushka-kvakush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900igr.net/kartinki/skazki-i-igry/Teremok-1.files/012-Pribezhala-k-teremochku-myshka-norushka-i-stala-v-nej-zh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чи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forum.materinstvo.ru/index.php?show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=1165078&amp;st=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900igr.net/fotografii/skazki-i-igry/Teremok-1.files/013-Prishjol-k-teremochku-Mish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xrest.ru/preview/792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ч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ivanivanich.ru/disc.php?i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=26&amp;pg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weblancer.net/users/Kutepov_23/portfolio/90615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к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implywigs.co.uk/catalogue/brushes-comb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Ш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shkolu.ru/user/ivka42009/file/65984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уш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moszipper.ru/index.php?productID=2353&amp;discus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ш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ablor.ru/blogs/fruktovaya-otgadka/2121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0T17:45:49Z</dcterms:modified>
  <cp:revision>17</cp:revision>
  <dc:subject/>
  <dc:title>Знакомство  с буквой Ш, ш. Программа «Начальная школа ХХI века»</dc:title>
</cp:coreProperties>
</file>