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C86-893B-428F-8B6B-06404962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B4B-9303-418B-B7ED-906EEB53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6FC-CC11-434C-A01F-CD7A14FB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765-EDDC-405B-AEC2-C1E4A5BF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B947-5C77-4EF6-90FC-557EFCA7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DA2F-872A-4E1A-9C02-04C98689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89D2-B93F-4DEF-A1BD-3D0A9E1B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1788-227C-4961-84B0-49ADE2AD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ACF0-7D9B-4106-BD7C-D5259FB2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3CEA-5C6A-4AEF-811F-35A78C1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0CD3-6BD4-47A5-ACDB-C1C6084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7A1-A463-4AEF-B5B7-CDD043A7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5E6C-5003-480F-BF16-8DFDC89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2539-41A1-400D-A0E2-749B7CD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9F8E-391C-4DE4-8523-2D200CD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55AC-FB56-42BD-BC65-B638F5D1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FA77-5BA6-46ED-8AFB-2006BAEF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565-2094-448D-861A-645F4481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EA2-4723-4A40-BE8A-76F60DB3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ECF-F290-4258-9C6A-E5BC6FD9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0C8-FE74-49C9-962E-340A8275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F91-59A9-4300-9AFD-9FBEA99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C96-6E5E-44C3-9F40-6EA261C9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581-8592-432F-8B9A-8385851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7F71-4F5D-491A-8179-3EC4D9F80B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9EDD-7CB0-4CD6-8A14-ADD2881466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714320"/>
            <a:ext cx="7991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23 ФЕВРАЛЯ – ДЕНЬ ЗАЩИТНИКА ОТЕЧЕСТВ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28840" y="292896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313992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портивно-музыкальный праздни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313992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таршей и подготовительной гру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14240" y="1429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бюджетное дошкольное образовательное учреждение центр развития ребенка – детский сад №44 «Золуш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508720" y="4581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бачева Т.М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структор по физической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492360" y="587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рый Ос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785880" y="3571920"/>
            <a:ext cx="3448080" cy="31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9 конкурс -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«Н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выносливость»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9640" y="1285920"/>
            <a:ext cx="794556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жимание от пола десять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9" descr="P1150342"/>
          <p:cNvPicPr/>
          <p:nvPr/>
        </p:nvPicPr>
        <p:blipFill>
          <a:blip r:embed="rId1"/>
          <a:stretch/>
        </p:blipFill>
        <p:spPr>
          <a:xfrm>
            <a:off x="1143000" y="1857240"/>
            <a:ext cx="6667560" cy="414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10 конкурс –«На гибкость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213920"/>
            <a:ext cx="8089920" cy="5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ещенные руки и ноги, присесть и встать десять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9" descr="P1150344"/>
          <p:cNvPicPr/>
          <p:nvPr/>
        </p:nvPicPr>
        <p:blipFill>
          <a:blip r:embed="rId1"/>
          <a:stretch/>
        </p:blipFill>
        <p:spPr>
          <a:xfrm>
            <a:off x="826920" y="1989000"/>
            <a:ext cx="6769440" cy="446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11 конкурс –«На равновесие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1356840"/>
            <a:ext cx="7802640" cy="5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азать «ласточку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P1150343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453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2"/>
          <a:stretch/>
        </p:blipFill>
        <p:spPr>
          <a:xfrm>
            <a:off x="7020000" y="5143680"/>
            <a:ext cx="188892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12 конкурс – «Жучо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зание, сидя на полу, с опорой на слегка расставленные стопы впереди и руки сзади за спиной. Мяч на жив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P1150310"/>
          <p:cNvPicPr/>
          <p:nvPr/>
        </p:nvPicPr>
        <p:blipFill>
          <a:blip r:embed="rId1"/>
          <a:stretch/>
        </p:blipFill>
        <p:spPr>
          <a:xfrm>
            <a:off x="826920" y="2492280"/>
            <a:ext cx="6445440" cy="417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13 конкурс –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«Передай флажок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3640" y="1904760"/>
            <a:ext cx="24019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флажком оббежать ориентир и передать друг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P1150298"/>
          <p:cNvPicPr/>
          <p:nvPr/>
        </p:nvPicPr>
        <p:blipFill>
          <a:blip r:embed="rId1"/>
          <a:stretch/>
        </p:blipFill>
        <p:spPr>
          <a:xfrm>
            <a:off x="324000" y="1484280"/>
            <a:ext cx="6013440" cy="496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ВРУЧЕНИЕ МЕДАЛЕ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8" descr="P1150315"/>
          <p:cNvPicPr/>
          <p:nvPr/>
        </p:nvPicPr>
        <p:blipFill>
          <a:blip r:embed="rId1"/>
          <a:stretch/>
        </p:blipFill>
        <p:spPr>
          <a:xfrm>
            <a:off x="428760" y="385776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1150320"/>
          <p:cNvPicPr/>
          <p:nvPr/>
        </p:nvPicPr>
        <p:blipFill>
          <a:blip r:embed="rId2"/>
          <a:stretch/>
        </p:blipFill>
        <p:spPr>
          <a:xfrm>
            <a:off x="5143680" y="9288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P1150324"/>
          <p:cNvPicPr/>
          <p:nvPr/>
        </p:nvPicPr>
        <p:blipFill>
          <a:blip r:embed="rId3"/>
          <a:stretch/>
        </p:blipFill>
        <p:spPr>
          <a:xfrm>
            <a:off x="500040" y="9288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P1150351"/>
          <p:cNvPicPr/>
          <p:nvPr/>
        </p:nvPicPr>
        <p:blipFill>
          <a:blip r:embed="rId4"/>
          <a:stretch/>
        </p:blipFill>
        <p:spPr>
          <a:xfrm>
            <a:off x="5143680" y="387504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5"/>
          <a:stretch/>
        </p:blipFill>
        <p:spPr>
          <a:xfrm>
            <a:off x="2438280" y="2511360"/>
            <a:ext cx="460224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501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1 конкурс -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«Будьте  внимательны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2040" y="1857240"/>
            <a:ext cx="392760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м четыре флажка и показываем ц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ний - хлоп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леный – топ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тый – молч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ый – «ура» крич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7" descr="P115032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28760" y="2428920"/>
            <a:ext cx="4644720" cy="32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2 конкурс –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«Не урони картошку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440" y="1857240"/>
            <a:ext cx="7429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умело ребята обращаются с лож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P1150267"/>
          <p:cNvPicPr/>
          <p:nvPr/>
        </p:nvPicPr>
        <p:blipFill>
          <a:blip r:embed="rId1"/>
          <a:stretch/>
        </p:blipFill>
        <p:spPr>
          <a:xfrm>
            <a:off x="1000080" y="2928960"/>
            <a:ext cx="5745240" cy="371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3 конкурс – «Займи место в ракете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2565000"/>
            <a:ext cx="3927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836640"/>
            <a:ext cx="82342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центре зала лежат обручи. По сигналу нужно занять место в ракете. Чья команда быстр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P1150282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9640" y="2565360"/>
            <a:ext cx="720108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8520" y="244440"/>
            <a:ext cx="77007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4 конкурс – «Загадк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684360" y="1413000"/>
            <a:ext cx="806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Можешь ты солдатом стать           4. Моряком ты можешь ст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вать, ездить и летать                   Чтоб границу охраня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в строю ходить охота                       И служить не на зем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дет тебя солдат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пехота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А на военном…</a:t>
            </a:r>
            <a:r>
              <a:rPr b="0" lang="ru-RU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6699ff"/>
                </a:solidFill>
                <a:latin typeface="Arial"/>
              </a:rPr>
              <a:t>корабле</a:t>
            </a:r>
            <a:r>
              <a:rPr b="0" lang="ru-RU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нова в бой машина мчится          5. Подрасту и вслед за бра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ут землю гусеницы                       Тоже стану я солда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 машина в поле чистом                  Буду помогать 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яется… 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танкистом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Охранять свою… 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страну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Брат сказал: «не торопис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учше в школе ты уч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ешь ты отлични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нешь… 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пограничником</a:t>
            </a:r>
            <a:r>
              <a:rPr b="0" lang="ru-RU" sz="20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4"/>
          <p:cNvSpPr/>
          <p:nvPr/>
        </p:nvSpPr>
        <p:spPr>
          <a:xfrm>
            <a:off x="5202360" y="2728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5 конкурс – «Перетяни канат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920" y="1213920"/>
            <a:ext cx="780264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е команды крепко берутся за разные концы каната и стараются перетянуть одна другую на свою сторону, через черту (ленту), на по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P1150304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2276640"/>
            <a:ext cx="7272360" cy="43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6 конкурс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 «Передай мяч капитану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28840"/>
            <a:ext cx="864216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ой команде выдается мяч, который нужно передать сзади стоящему ребенку через голову вверх, а самому встать назад. Пока мяч не дойдет до капит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P115028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2541600"/>
            <a:ext cx="5689440" cy="381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7254720" y="514368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7 конкурс – «Танк и три танкиста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640" y="1214280"/>
            <a:ext cx="8089920" cy="7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ужно встать в обруч и взять его двумя руками, оббежать ориентир, вернуться за вторым танкистом, затем за третьим. Чья команда быстре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P1150273"/>
          <p:cNvPicPr/>
          <p:nvPr/>
        </p:nvPicPr>
        <p:blipFill>
          <a:blip r:embed="rId1"/>
          <a:srcRect l="0" t="0" r="0" b="-14909"/>
          <a:stretch/>
        </p:blipFill>
        <p:spPr>
          <a:xfrm>
            <a:off x="611280" y="2421000"/>
            <a:ext cx="7272360" cy="443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8 конкурс -  «Попади в цель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00360" y="1125360"/>
            <a:ext cx="2616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сание мешочка с песком в обруч, на расстоянии два метра (обруч лежит на пол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P1150302"/>
          <p:cNvPicPr/>
          <p:nvPr/>
        </p:nvPicPr>
        <p:blipFill>
          <a:blip r:embed="rId1"/>
          <a:stretch/>
        </p:blipFill>
        <p:spPr>
          <a:xfrm>
            <a:off x="500040" y="1857240"/>
            <a:ext cx="5364360" cy="478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7072200" y="5000760"/>
            <a:ext cx="18892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3:27:31Z</dcterms:created>
  <dc:creator>Чайка</dc:creator>
  <dc:description/>
  <dc:language>en-US</dc:language>
  <cp:lastModifiedBy>Татьяна</cp:lastModifiedBy>
  <dcterms:modified xsi:type="dcterms:W3CDTF">2012-12-10T13:20:36Z</dcterms:modified>
  <cp:revision>23</cp:revision>
  <dc:subject/>
  <dc:title>Слайд 1</dc:title>
</cp:coreProperties>
</file>