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47F-7799-4C9A-8F3D-B61CC6D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C40-4CEA-40D5-832F-F35C075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6D9-2064-4B61-9409-FA8092D5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706-8C3A-4AE3-A734-1EE94F2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C0EF-C59F-44FE-A3C0-B3C9C8A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2EA-1EF3-4D54-AC0A-B3D5E41C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C152-C5EC-473B-A521-8A0C9588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2CA-F3D9-4E7A-B394-E9343B3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41AC-034C-4D7D-BE6A-F2E9A27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FBBB-6A12-4C1A-AA44-F63BDAA7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B9B9-A265-4B3E-9CE9-6F843C8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85F-7D39-4BEC-B3E5-BDD3526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46A3-80D5-4BC3-91A4-F1F5164E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77BB-175F-4A7C-A82C-44DD586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72D3-9823-4C5F-9A2A-DA01595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2CDC-F02A-4FE6-A443-7BEA3FA0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E90F-9309-4AAE-9E80-C12BEDAD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58E-408B-4652-B2E8-4C4F608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637-FD75-4353-AB32-55B5086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762-7BA5-4B9A-9476-99C514F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875-ED72-4080-A43A-8D594EA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475-4498-4AB6-B7FF-885B55A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A9F-F251-4F68-A4D0-7E3EE292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DED-AD6F-470B-8AA2-CB9CB59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DB2-E684-411D-A675-31BDCCAC16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6B2-1E7C-4EDE-8891-3E80DFAB82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714320"/>
            <a:ext cx="7991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23 ФЕВРАЛЯ – ДЕНЬ ЗАЩИТНИКА ОТЕЧЕСТ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313992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портивно-музыкальный праздн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313992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таршей и подготовительной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14240" y="1429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бюджетное дошкольное образовательное учреждение центр развития ребенка – детский сад №44 «Золуш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508720" y="4581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бачева Т.М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структор по физиче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492360" y="587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рый Ос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785880" y="3571920"/>
            <a:ext cx="3448080" cy="31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9 конкурс -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Н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выносливость»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285920"/>
            <a:ext cx="794556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жимание от пола десять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P1150342"/>
          <p:cNvPicPr/>
          <p:nvPr/>
        </p:nvPicPr>
        <p:blipFill>
          <a:blip r:embed="rId1"/>
          <a:stretch/>
        </p:blipFill>
        <p:spPr>
          <a:xfrm>
            <a:off x="1143000" y="1857240"/>
            <a:ext cx="6667560" cy="414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0 конкурс –«На гибкость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213920"/>
            <a:ext cx="808992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ещенные руки и ноги, присесть и встать десять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9" descr="P1150344"/>
          <p:cNvPicPr/>
          <p:nvPr/>
        </p:nvPicPr>
        <p:blipFill>
          <a:blip r:embed="rId1"/>
          <a:stretch/>
        </p:blipFill>
        <p:spPr>
          <a:xfrm>
            <a:off x="826920" y="1989000"/>
            <a:ext cx="6769440" cy="446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1 конкурс –«На равновесие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356840"/>
            <a:ext cx="78026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зать «ласточк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P1150343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453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2"/>
          <a:stretch/>
        </p:blipFill>
        <p:spPr>
          <a:xfrm>
            <a:off x="7020000" y="5143680"/>
            <a:ext cx="188892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12 конкурс – «Жучо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зание, сидя на полу, с опорой на слегка расставленные стопы впереди и руки сзади за спиной. Мяч на жив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P1150310"/>
          <p:cNvPicPr/>
          <p:nvPr/>
        </p:nvPicPr>
        <p:blipFill>
          <a:blip r:embed="rId1"/>
          <a:stretch/>
        </p:blipFill>
        <p:spPr>
          <a:xfrm>
            <a:off x="826920" y="2492280"/>
            <a:ext cx="6445440" cy="41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13 конкурс –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Передай флажок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3640" y="1904760"/>
            <a:ext cx="2401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флажком оббежать ориентир и передать друг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P1150298"/>
          <p:cNvPicPr/>
          <p:nvPr/>
        </p:nvPicPr>
        <p:blipFill>
          <a:blip r:embed="rId1"/>
          <a:stretch/>
        </p:blipFill>
        <p:spPr>
          <a:xfrm>
            <a:off x="324000" y="1484280"/>
            <a:ext cx="6013440" cy="496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ВРУЧЕНИЕ МЕДАЛЕ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8" descr="P1150315"/>
          <p:cNvPicPr/>
          <p:nvPr/>
        </p:nvPicPr>
        <p:blipFill>
          <a:blip r:embed="rId1"/>
          <a:stretch/>
        </p:blipFill>
        <p:spPr>
          <a:xfrm>
            <a:off x="428760" y="385776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1150320"/>
          <p:cNvPicPr/>
          <p:nvPr/>
        </p:nvPicPr>
        <p:blipFill>
          <a:blip r:embed="rId2"/>
          <a:stretch/>
        </p:blipFill>
        <p:spPr>
          <a:xfrm>
            <a:off x="514368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P1150324"/>
          <p:cNvPicPr/>
          <p:nvPr/>
        </p:nvPicPr>
        <p:blipFill>
          <a:blip r:embed="rId3"/>
          <a:stretch/>
        </p:blipFill>
        <p:spPr>
          <a:xfrm>
            <a:off x="50004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P1150351"/>
          <p:cNvPicPr/>
          <p:nvPr/>
        </p:nvPicPr>
        <p:blipFill>
          <a:blip r:embed="rId4"/>
          <a:stretch/>
        </p:blipFill>
        <p:spPr>
          <a:xfrm>
            <a:off x="5143680" y="387504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2438280" y="2511360"/>
            <a:ext cx="460224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501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 конкурс -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«Будьте  внимательны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2040" y="1857240"/>
            <a:ext cx="39276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м четыре флажка и показываем ц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ий - хлоп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ый – топ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тый – молч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ый – «ура» кри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7" descr="P115032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28760" y="2428920"/>
            <a:ext cx="4644720" cy="32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2 конкурс –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«Не урони картош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440" y="1857240"/>
            <a:ext cx="7429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умело ребята обращаются с лож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P1150267"/>
          <p:cNvPicPr/>
          <p:nvPr/>
        </p:nvPicPr>
        <p:blipFill>
          <a:blip r:embed="rId1"/>
          <a:stretch/>
        </p:blipFill>
        <p:spPr>
          <a:xfrm>
            <a:off x="1000080" y="2928960"/>
            <a:ext cx="5745240" cy="37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3 конкурс – «Займи место в ракете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565000"/>
            <a:ext cx="3927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8234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нтре зала лежат обручи. По сигналу нужно занять место в ракете. Чья команда быстр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P1150282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9640" y="2565360"/>
            <a:ext cx="720108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8520" y="244440"/>
            <a:ext cx="77007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4 конкурс – «Загад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84360" y="1413000"/>
            <a:ext cx="806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Можешь ты солдатом стать           4. Моряком ты можешь ст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вать, ездить и летать                   Чтоб границу охран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 строю ходить охота                       И служить не на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дет тебя солдат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пехота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А на военном…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6699ff"/>
                </a:solidFill>
                <a:latin typeface="Arial"/>
              </a:rPr>
              <a:t>корабле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нова в бой машина мчится          5. Подрасту и вслед за бр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ут землю гусеницы                       Тоже стану я солд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 машина в поле чистом                  Буду помогать 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яется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танкистом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Охранять свою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страну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Брат сказал: «не торопис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чше в школе ты уч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ешь ты отлични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ешь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пограничником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4"/>
          <p:cNvSpPr/>
          <p:nvPr/>
        </p:nvSpPr>
        <p:spPr>
          <a:xfrm>
            <a:off x="5202360" y="272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5 конкурс – «Перетяни канат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1213920"/>
            <a:ext cx="780264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е команды крепко берутся за разные концы каната и стараются перетянуть одна другую на свою сторону, через черту (ленту), на п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P115030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2276640"/>
            <a:ext cx="7272360" cy="43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6 конкурс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 «Передай мяч капитану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28840"/>
            <a:ext cx="864216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ой команде выдается мяч, который нужно передать сзади стоящему ребенку через голову вверх, а самому встать назад. Пока мяч не дойдет до капит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P115028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541600"/>
            <a:ext cx="5689440" cy="38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7254720" y="514368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7 конкурс – «Танк и три танкиста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1214280"/>
            <a:ext cx="8089920" cy="7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жно встать в обруч и взять его двумя руками, оббежать ориентир, вернуться за вторым танкистом, затем за третьим. Чья команда быстр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1150273"/>
          <p:cNvPicPr/>
          <p:nvPr/>
        </p:nvPicPr>
        <p:blipFill>
          <a:blip r:embed="rId1"/>
          <a:srcRect l="0" t="0" r="0" b="-14909"/>
          <a:stretch/>
        </p:blipFill>
        <p:spPr>
          <a:xfrm>
            <a:off x="611280" y="2421000"/>
            <a:ext cx="7272360" cy="44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8 конкурс -  «Попади в цель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00360" y="1125360"/>
            <a:ext cx="2616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сание мешочка с песком в обруч, на расстоянии два метра (обруч лежит на пол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P1150302"/>
          <p:cNvPicPr/>
          <p:nvPr/>
        </p:nvPicPr>
        <p:blipFill>
          <a:blip r:embed="rId1"/>
          <a:stretch/>
        </p:blipFill>
        <p:spPr>
          <a:xfrm>
            <a:off x="500040" y="1857240"/>
            <a:ext cx="5364360" cy="47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3:27:31Z</dcterms:created>
  <dc:creator>Чайка</dc:creator>
  <dc:description/>
  <dc:language>en-US</dc:language>
  <cp:lastModifiedBy>Татьяна</cp:lastModifiedBy>
  <dcterms:modified xsi:type="dcterms:W3CDTF">2012-12-10T13:20:36Z</dcterms:modified>
  <cp:revision>23</cp:revision>
  <dc:subject/>
  <dc:title>Слайд 1</dc:title>
</cp:coreProperties>
</file>