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3.wmf" ContentType="image/x-wmf"/>
  <Override PartName="/ppt/media/image26.wmf" ContentType="image/x-wmf"/>
  <Override PartName="/ppt/media/image4.wmf" ContentType="image/x-wmf"/>
  <Override PartName="/ppt/media/image27.wmf" ContentType="image/x-wmf"/>
  <Override PartName="/ppt/media/image5.wmf" ContentType="image/x-wmf"/>
  <Override PartName="/ppt/media/image28.wmf" ContentType="image/x-wmf"/>
  <Override PartName="/ppt/media/applause.wav" ContentType="audio/x-wav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drumroll.wav" ContentType="audio/x-wav"/>
  <Override PartName="/ppt/media/image25.wmf" ContentType="image/x-wmf"/>
  <Override PartName="/ppt/media/image29.wmf" ContentType="image/x-wmf"/>
  <Override PartName="/ppt/media/image1.png" ContentType="image/png"/>
  <Override PartName="/ppt/media/image12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  <p:custShowLst>
    <p:custShow name="Presentación personalizada 1" id="0">
      <p:sldLst>
        <p:sld r:id="rId5"/>
      </p:sldLst>
    </p:custShow>
    <p:custShow name="Copia de Presentación personalizada 1" id="1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12AE-9F1F-4EB8-8B6F-568E0893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0C06-BB8A-4156-9C8F-974B92EB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0C28-3AD8-4F71-A05F-158D930C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8DB2-CF6B-4808-B147-F3F7DC803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5B9C-E8E0-41D7-B121-CA9EB534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8A0B-97A4-49A5-ABB0-2F892E9E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A5E1-C3BF-4953-B839-2BAE2548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75F4-014D-4D23-AAF8-CC779507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5868-37DE-4E7D-853D-BA4A9EBD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CA12-120F-4C64-A4E9-6DA6F76C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E519-367A-4D6A-80B1-F578FDD0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ADFC-4646-48CA-9AF1-5EB0DAD0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C534-32C4-48DC-9C08-2D36C094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79C8-BFDE-4871-961A-F3B51A75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426C-F9DA-4974-9D0D-F31AD8FE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0255-6C5C-48C2-8D2C-F35A91ED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D20A-2CB6-41C5-85E0-856A958F6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3811-2D31-4883-A140-41754369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63EE-7DBF-45D9-9969-5C3F81AA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FC51-2BD1-43BF-97DC-5C3CF809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7C6C-0A7C-4484-A2CE-B29F9BA3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2566-A593-4FA1-BB2A-894522D1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EC13-38CB-4708-B10F-146EB454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81F4-B73D-447D-B626-E0C28D89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290A-0C47-4D6C-B529-197DD015BB3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6791-01CF-4606-A8D3-C02900CECD1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134136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221304"/>
                </a:solidFill>
                <a:latin typeface="Viner Hand ITC"/>
              </a:rPr>
              <a:t>The English Alphabet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19280" y="299736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iner Hand ITC"/>
              </a:rPr>
              <a:t>Miscellaneo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79640" y="436572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iner Hand ITC"/>
              </a:rPr>
              <a:t>Juan Ráez Padilla Universidad de Jaén (Sp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9966ff"/>
                </a:solidFill>
                <a:latin typeface="Viner Hand ITC"/>
              </a:rPr>
              <a:t>I</a:t>
            </a:r>
            <a:r>
              <a:rPr b="0" lang="es-ES" sz="7200" spc="-1" strike="noStrike">
                <a:solidFill>
                  <a:srgbClr val="9966ff"/>
                </a:solidFill>
                <a:latin typeface="Viner Hand ITC"/>
              </a:rPr>
              <a:t>ce-cream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033720" y="1752480"/>
            <a:ext cx="36846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7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7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6666ff"/>
                </a:solidFill>
                <a:latin typeface="Viner Hand ITC"/>
              </a:rPr>
              <a:t>J</a:t>
            </a:r>
            <a:r>
              <a:rPr b="0" lang="es-ES" sz="7200" spc="-1" strike="noStrike">
                <a:solidFill>
                  <a:srgbClr val="6666ff"/>
                </a:solidFill>
                <a:latin typeface="Viner Hand ITC"/>
              </a:rPr>
              <a:t>et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879640" y="1752480"/>
            <a:ext cx="399276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7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7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0066ff"/>
                </a:solidFill>
                <a:latin typeface="Viner Hand ITC"/>
              </a:rPr>
              <a:t>K</a:t>
            </a:r>
            <a:r>
              <a:rPr b="0" lang="es-ES" sz="7200" spc="-1" strike="noStrike">
                <a:solidFill>
                  <a:srgbClr val="0066ff"/>
                </a:solidFill>
                <a:latin typeface="Viner Hand ITC"/>
              </a:rPr>
              <a:t>ite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327400" y="1752480"/>
            <a:ext cx="50972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ffcc00"/>
                </a:solidFill>
                <a:latin typeface="Viner Hand ITC"/>
              </a:rPr>
              <a:t>L</a:t>
            </a:r>
            <a:r>
              <a:rPr b="0" lang="es-ES" sz="7200" spc="-1" strike="noStrike">
                <a:solidFill>
                  <a:srgbClr val="ffcc00"/>
                </a:solidFill>
                <a:latin typeface="Viner Hand ITC"/>
              </a:rPr>
              <a:t>emon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33720" y="1752480"/>
            <a:ext cx="36846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75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75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777777"/>
                </a:solidFill>
                <a:latin typeface="Viner Hand ITC"/>
              </a:rPr>
              <a:t>M</a:t>
            </a:r>
            <a:r>
              <a:rPr b="0" lang="es-ES" sz="7200" spc="-1" strike="noStrike">
                <a:solidFill>
                  <a:srgbClr val="777777"/>
                </a:solidFill>
                <a:latin typeface="Viner Hand ITC"/>
              </a:rPr>
              <a:t>ouse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19200" y="1752480"/>
            <a:ext cx="49136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75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75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ff0000"/>
                </a:solidFill>
                <a:latin typeface="Viner Hand ITC"/>
              </a:rPr>
              <a:t>N</a:t>
            </a:r>
            <a:r>
              <a:rPr b="0" lang="es-ES" sz="7200" spc="-1" strike="noStrike">
                <a:solidFill>
                  <a:srgbClr val="ff0000"/>
                </a:solidFill>
                <a:latin typeface="Viner Hand ITC"/>
              </a:rPr>
              <a:t>eedle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033720" y="1752480"/>
            <a:ext cx="36846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9933ff"/>
                </a:solidFill>
                <a:latin typeface="Viner Hand ITC"/>
              </a:rPr>
              <a:t>O</a:t>
            </a:r>
            <a:r>
              <a:rPr b="0" lang="es-ES" sz="7200" spc="-1" strike="noStrike">
                <a:solidFill>
                  <a:srgbClr val="9933ff"/>
                </a:solidFill>
                <a:latin typeface="Viner Hand ITC"/>
              </a:rPr>
              <a:t>ctopus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03480" y="1752480"/>
            <a:ext cx="37465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75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75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ffcc00"/>
                </a:solidFill>
                <a:latin typeface="Viner Hand ITC"/>
              </a:rPr>
              <a:t>P</a:t>
            </a:r>
            <a:r>
              <a:rPr b="0" lang="es-ES" sz="7200" spc="-1" strike="noStrike">
                <a:solidFill>
                  <a:srgbClr val="ffcc00"/>
                </a:solidFill>
                <a:latin typeface="Viner Hand ITC"/>
              </a:rPr>
              <a:t>en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38084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3333cc"/>
                </a:solidFill>
                <a:latin typeface="Viner Hand ITC"/>
              </a:rPr>
              <a:t>Q</a:t>
            </a:r>
            <a:r>
              <a:rPr b="0" lang="es-ES" sz="7200" spc="-1" strike="noStrike">
                <a:solidFill>
                  <a:srgbClr val="3333cc"/>
                </a:solidFill>
                <a:latin typeface="Viner Hand ITC"/>
              </a:rPr>
              <a:t>uill</a:t>
            </a:r>
            <a:r>
              <a:rPr b="0" lang="es-ES" sz="8800" spc="-1" strike="noStrike">
                <a:solidFill>
                  <a:srgbClr val="3333cc"/>
                </a:solidFill>
                <a:latin typeface="Viner Hand ITC"/>
              </a:rPr>
              <a:t> </a:t>
            </a:r>
            <a:r>
              <a:rPr b="0" lang="es-ES" sz="7200" spc="-1" strike="noStrike">
                <a:solidFill>
                  <a:srgbClr val="3333cc"/>
                </a:solidFill>
                <a:latin typeface="Viner Hand ITC"/>
              </a:rPr>
              <a:t>pen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27240" y="1752480"/>
            <a:ext cx="369756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75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75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ffcc00"/>
                </a:solidFill>
                <a:latin typeface="Viner Hand ITC"/>
              </a:rPr>
              <a:t>R</a:t>
            </a:r>
            <a:r>
              <a:rPr b="0" lang="es-ES" sz="7200" spc="-1" strike="noStrike">
                <a:solidFill>
                  <a:srgbClr val="ffcc00"/>
                </a:solidFill>
                <a:latin typeface="Viner Hand ITC"/>
              </a:rPr>
              <a:t>ing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87480" y="1752480"/>
            <a:ext cx="41767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7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7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0000"/>
                </a:solidFill>
                <a:latin typeface="Viner Hand ITC"/>
              </a:rPr>
              <a:t>A</a:t>
            </a:r>
            <a:r>
              <a:rPr b="0" lang="es-ES" sz="7200" spc="-1" strike="noStrike">
                <a:solidFill>
                  <a:srgbClr val="cc0000"/>
                </a:solidFill>
                <a:latin typeface="Viner Hand ITC"/>
              </a:rPr>
              <a:t>pple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695680" y="1752480"/>
            <a:ext cx="43606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ff0000"/>
                </a:solidFill>
                <a:latin typeface="Viner Hand ITC"/>
              </a:rPr>
              <a:t>S</a:t>
            </a:r>
            <a:r>
              <a:rPr b="0" lang="es-ES" sz="7200" spc="-1" strike="noStrike">
                <a:solidFill>
                  <a:srgbClr val="ff0000"/>
                </a:solidFill>
                <a:latin typeface="Viner Hand ITC"/>
              </a:rPr>
              <a:t>ailboat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968560" y="1752480"/>
            <a:ext cx="381636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7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7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ffcc00"/>
                </a:solidFill>
                <a:latin typeface="Viner Hand ITC"/>
              </a:rPr>
              <a:t>T</a:t>
            </a:r>
            <a:r>
              <a:rPr b="0" lang="es-ES" sz="7200" spc="-1" strike="noStrike">
                <a:solidFill>
                  <a:srgbClr val="ffcc00"/>
                </a:solidFill>
                <a:latin typeface="Viner Hand ITC"/>
              </a:rPr>
              <a:t>ea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911320" y="1752480"/>
            <a:ext cx="39308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7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7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9900ff"/>
                </a:solidFill>
                <a:latin typeface="Viner Hand ITC"/>
              </a:rPr>
              <a:t>U</a:t>
            </a:r>
            <a:r>
              <a:rPr b="0" lang="es-ES" sz="7200" spc="-1" strike="noStrike">
                <a:solidFill>
                  <a:srgbClr val="9900ff"/>
                </a:solidFill>
                <a:latin typeface="Viner Hand ITC"/>
              </a:rPr>
              <a:t>mbrella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7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7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6600"/>
                </a:solidFill>
                <a:latin typeface="Viner Hand ITC"/>
              </a:rPr>
              <a:t>V</a:t>
            </a:r>
            <a:r>
              <a:rPr b="0" lang="es-ES" sz="7200" spc="-1" strike="noStrike">
                <a:solidFill>
                  <a:srgbClr val="cc6600"/>
                </a:solidFill>
                <a:latin typeface="Viner Hand ITC"/>
              </a:rPr>
              <a:t>iolin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727360" y="1752480"/>
            <a:ext cx="429876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7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7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6600"/>
                </a:solidFill>
                <a:latin typeface="Viner Hand ITC"/>
              </a:rPr>
              <a:t>W</a:t>
            </a:r>
            <a:r>
              <a:rPr b="0" lang="es-ES" sz="7200" spc="-1" strike="noStrike">
                <a:solidFill>
                  <a:srgbClr val="cc6600"/>
                </a:solidFill>
                <a:latin typeface="Viner Hand ITC"/>
              </a:rPr>
              <a:t>alrus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359080" y="1752480"/>
            <a:ext cx="50353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75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75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ff6600"/>
                </a:solidFill>
                <a:latin typeface="Viner Hand ITC"/>
              </a:rPr>
              <a:t>X</a:t>
            </a:r>
            <a:r>
              <a:rPr b="0" lang="es-ES" sz="7200" spc="-1" strike="noStrike">
                <a:solidFill>
                  <a:srgbClr val="ff6600"/>
                </a:solidFill>
                <a:latin typeface="Viner Hand ITC"/>
              </a:rPr>
              <a:t>ylophone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81200" y="1752480"/>
            <a:ext cx="45896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75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75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ff9900"/>
                </a:solidFill>
                <a:latin typeface="Viner Hand ITC"/>
              </a:rPr>
              <a:t>Y</a:t>
            </a:r>
            <a:r>
              <a:rPr b="0" lang="es-ES" sz="7200" spc="-1" strike="noStrike">
                <a:solidFill>
                  <a:srgbClr val="ff9900"/>
                </a:solidFill>
                <a:latin typeface="Viner Hand ITC"/>
              </a:rPr>
              <a:t>o-yo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727360" y="1752480"/>
            <a:ext cx="429876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7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7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33cc33"/>
                </a:solidFill>
                <a:latin typeface="Viner Hand ITC"/>
              </a:rPr>
              <a:t>Z</a:t>
            </a:r>
            <a:r>
              <a:rPr b="0" lang="es-ES" sz="7200" spc="-1" strike="noStrike">
                <a:solidFill>
                  <a:srgbClr val="33cc33"/>
                </a:solidFill>
                <a:latin typeface="Viner Hand ITC"/>
              </a:rPr>
              <a:t>ebra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7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7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139760" y="380880"/>
          <a:ext cx="747252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9760" y="380880"/>
                    <a:ext cx="74725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3300"/>
                </a:solidFill>
                <a:latin typeface="Viner Hand ITC"/>
              </a:rPr>
              <a:t>B</a:t>
            </a:r>
            <a:r>
              <a:rPr b="0" lang="es-ES" sz="7200" spc="-1" strike="noStrike">
                <a:solidFill>
                  <a:srgbClr val="cc3300"/>
                </a:solidFill>
                <a:latin typeface="Viner Hand ITC"/>
              </a:rPr>
              <a:t>oot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174760" y="1752480"/>
            <a:ext cx="540396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7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7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ff9933"/>
                </a:solidFill>
                <a:latin typeface="Viner Hand ITC"/>
              </a:rPr>
              <a:t>C</a:t>
            </a:r>
            <a:r>
              <a:rPr b="0" lang="es-ES" sz="7200" spc="-1" strike="noStrike">
                <a:solidFill>
                  <a:srgbClr val="ff9933"/>
                </a:solidFill>
                <a:latin typeface="Viner Hand ITC"/>
              </a:rPr>
              <a:t>rab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757600" y="1752480"/>
            <a:ext cx="42368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0099ff"/>
                </a:solidFill>
                <a:latin typeface="Viner Hand ITC"/>
              </a:rPr>
              <a:t>D</a:t>
            </a:r>
            <a:r>
              <a:rPr b="0" lang="es-ES" sz="7200" spc="-1" strike="noStrike">
                <a:solidFill>
                  <a:srgbClr val="0099ff"/>
                </a:solidFill>
                <a:latin typeface="Viner Hand ITC"/>
              </a:rPr>
              <a:t>olphin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11400" y="1752480"/>
            <a:ext cx="37306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7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7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ffcc00"/>
                </a:solidFill>
                <a:latin typeface="Viner Hand ITC"/>
              </a:rPr>
              <a:t>E</a:t>
            </a:r>
            <a:r>
              <a:rPr b="0" lang="es-ES" sz="7200" spc="-1" strike="noStrike">
                <a:solidFill>
                  <a:srgbClr val="ffcc00"/>
                </a:solidFill>
                <a:latin typeface="Viner Hand ITC"/>
              </a:rPr>
              <a:t>gg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50960" y="1752480"/>
            <a:ext cx="465156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7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7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3399ff"/>
                </a:solidFill>
                <a:latin typeface="Viner Hand ITC"/>
              </a:rPr>
              <a:t>F</a:t>
            </a:r>
            <a:r>
              <a:rPr b="0" lang="es-ES" sz="7200" spc="-1" strike="noStrike">
                <a:solidFill>
                  <a:srgbClr val="3399ff"/>
                </a:solidFill>
                <a:latin typeface="Viner Hand ITC"/>
              </a:rPr>
              <a:t>ly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49400" y="1752480"/>
            <a:ext cx="40528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7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7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ffcc00"/>
                </a:solidFill>
                <a:latin typeface="Viner Hand ITC"/>
              </a:rPr>
              <a:t>G</a:t>
            </a:r>
            <a:r>
              <a:rPr b="0" lang="es-ES" sz="7200" spc="-1" strike="noStrike">
                <a:solidFill>
                  <a:srgbClr val="ffcc00"/>
                </a:solidFill>
                <a:latin typeface="Viner Hand ITC"/>
              </a:rPr>
              <a:t>olf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757600" y="1752480"/>
            <a:ext cx="42368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6600"/>
                </a:solidFill>
                <a:latin typeface="Viner Hand ITC"/>
              </a:rPr>
              <a:t>H</a:t>
            </a:r>
            <a:r>
              <a:rPr b="0" lang="es-ES" sz="7200" spc="-1" strike="noStrike">
                <a:solidFill>
                  <a:srgbClr val="cc6600"/>
                </a:solidFill>
                <a:latin typeface="Viner Hand ITC"/>
              </a:rPr>
              <a:t>ammer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898720" y="1752480"/>
            <a:ext cx="39546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an Ráez Padilla                Universidad de Jaén (Spain)</a:t>
            </a:r>
          </a:p>
        </p:txBody>
      </p:sp>
    </p:spTree>
  </p:cSld>
  <p:transition spd="med">
    <p:pull dir="l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7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7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2T22:07:10Z</dcterms:created>
  <dc:creator> '</dc:creator>
  <dc:description/>
  <dc:language>en-US</dc:language>
  <cp:lastModifiedBy> '</cp:lastModifiedBy>
  <dcterms:modified xsi:type="dcterms:W3CDTF">2006-06-18T11:02:58Z</dcterms:modified>
  <cp:revision>9</cp:revision>
  <dc:subject/>
  <dc:title>The English Alphabet</dc:title>
</cp:coreProperties>
</file>