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7526-E251-46D1-9525-77B140BF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3A8-9F9D-49CE-BCEC-1965CE71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B63-70D3-4858-BDEF-4C9125C7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5F2-F8DA-4419-BA5B-01282182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24A0-E8C1-4FDE-BB91-55023480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8C54-E3F3-42DC-9277-6686CD81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E33-1B29-4198-B991-3FA96486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463-8E0B-4056-904E-7A115D37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CDC-63A5-464E-9E21-875F5F79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FF7-611D-407C-A696-8698BCD5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1C8-A96D-4911-8542-C380C99E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8C4-F8D0-4BCE-A8AB-9BE7790A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2707-3F25-474E-94F3-58DD8F851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49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2,3,4,5,6,7,8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18900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узначн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43280" y="1197000"/>
            <a:ext cx="5689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333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333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333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333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2720" y="333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557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92720" y="1557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19280" y="1557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1557360"/>
            <a:ext cx="1079280" cy="100800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43280" y="1557360"/>
            <a:ext cx="1079280" cy="100800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551664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436572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321300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36572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3280" y="5516640"/>
            <a:ext cx="1079280" cy="100800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4365720"/>
            <a:ext cx="1079280" cy="100800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1640" y="321300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88000" y="3284640"/>
            <a:ext cx="396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– это 1 десяток и 7 един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ree"/>
          <p:cNvSpPr/>
          <p:nvPr/>
        </p:nvSpPr>
        <p:spPr>
          <a:xfrm>
            <a:off x="324000" y="333360"/>
            <a:ext cx="1081080" cy="865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ree"/>
          <p:cNvSpPr/>
          <p:nvPr/>
        </p:nvSpPr>
        <p:spPr>
          <a:xfrm>
            <a:off x="1258920" y="333360"/>
            <a:ext cx="1081080" cy="865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ree"/>
          <p:cNvSpPr/>
          <p:nvPr/>
        </p:nvSpPr>
        <p:spPr>
          <a:xfrm>
            <a:off x="2195640" y="333360"/>
            <a:ext cx="1081080" cy="865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ree"/>
          <p:cNvSpPr/>
          <p:nvPr/>
        </p:nvSpPr>
        <p:spPr>
          <a:xfrm>
            <a:off x="3276720" y="404640"/>
            <a:ext cx="1081080" cy="8654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ree"/>
          <p:cNvSpPr/>
          <p:nvPr/>
        </p:nvSpPr>
        <p:spPr>
          <a:xfrm>
            <a:off x="4427640" y="404640"/>
            <a:ext cx="1081080" cy="8654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ree"/>
          <p:cNvSpPr/>
          <p:nvPr/>
        </p:nvSpPr>
        <p:spPr>
          <a:xfrm>
            <a:off x="324000" y="1484280"/>
            <a:ext cx="1081080" cy="865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ree"/>
          <p:cNvSpPr/>
          <p:nvPr/>
        </p:nvSpPr>
        <p:spPr>
          <a:xfrm>
            <a:off x="1403280" y="1557360"/>
            <a:ext cx="1081080" cy="865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ree"/>
          <p:cNvSpPr/>
          <p:nvPr/>
        </p:nvSpPr>
        <p:spPr>
          <a:xfrm>
            <a:off x="2484360" y="1557360"/>
            <a:ext cx="1081080" cy="865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ree"/>
          <p:cNvSpPr/>
          <p:nvPr/>
        </p:nvSpPr>
        <p:spPr>
          <a:xfrm>
            <a:off x="3564000" y="1557360"/>
            <a:ext cx="1081080" cy="865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ree"/>
          <p:cNvSpPr/>
          <p:nvPr/>
        </p:nvSpPr>
        <p:spPr>
          <a:xfrm>
            <a:off x="4716360" y="1557360"/>
            <a:ext cx="1081080" cy="865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ree"/>
          <p:cNvSpPr/>
          <p:nvPr/>
        </p:nvSpPr>
        <p:spPr>
          <a:xfrm>
            <a:off x="324000" y="5516640"/>
            <a:ext cx="1081080" cy="865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ree"/>
          <p:cNvSpPr/>
          <p:nvPr/>
        </p:nvSpPr>
        <p:spPr>
          <a:xfrm>
            <a:off x="324000" y="4437000"/>
            <a:ext cx="1081080" cy="865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ree"/>
          <p:cNvSpPr/>
          <p:nvPr/>
        </p:nvSpPr>
        <p:spPr>
          <a:xfrm>
            <a:off x="395280" y="3284640"/>
            <a:ext cx="1081080" cy="865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ree"/>
          <p:cNvSpPr/>
          <p:nvPr/>
        </p:nvSpPr>
        <p:spPr>
          <a:xfrm>
            <a:off x="2627280" y="5589720"/>
            <a:ext cx="1081080" cy="865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ree"/>
          <p:cNvSpPr/>
          <p:nvPr/>
        </p:nvSpPr>
        <p:spPr>
          <a:xfrm>
            <a:off x="2627280" y="4365720"/>
            <a:ext cx="1081080" cy="865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ree"/>
          <p:cNvSpPr/>
          <p:nvPr/>
        </p:nvSpPr>
        <p:spPr>
          <a:xfrm>
            <a:off x="2627280" y="3357720"/>
            <a:ext cx="1081080" cy="865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ree"/>
          <p:cNvSpPr/>
          <p:nvPr/>
        </p:nvSpPr>
        <p:spPr>
          <a:xfrm>
            <a:off x="1476360" y="3789360"/>
            <a:ext cx="1081080" cy="865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ree"/>
          <p:cNvSpPr/>
          <p:nvPr/>
        </p:nvSpPr>
        <p:spPr>
          <a:xfrm>
            <a:off x="1547640" y="5229360"/>
            <a:ext cx="1081440" cy="865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335772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– это 1 десяток и 8 един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95280" y="33336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33336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71640" y="33336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95640" y="40464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40464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413000"/>
            <a:ext cx="93636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64000" y="141300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1484280"/>
            <a:ext cx="93636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148428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19280" y="148428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5734080"/>
            <a:ext cx="93636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4581360"/>
            <a:ext cx="93636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3500280"/>
            <a:ext cx="93636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47640" y="573408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573408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76360" y="465300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47640" y="357336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1640" y="357336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458136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3500280"/>
            <a:ext cx="403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9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– это 1 десяток и 9 един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95280" y="189000"/>
            <a:ext cx="1225440" cy="107928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189000"/>
            <a:ext cx="1225440" cy="107928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3280" y="189000"/>
            <a:ext cx="1225440" cy="107928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189000"/>
            <a:ext cx="1225440" cy="107928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2720" y="189000"/>
            <a:ext cx="1225440" cy="107928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1268280"/>
            <a:ext cx="1225440" cy="1079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92720" y="1268280"/>
            <a:ext cx="1225440" cy="1079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1268280"/>
            <a:ext cx="1225440" cy="1079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43280" y="1268280"/>
            <a:ext cx="1225440" cy="1079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67280" y="1268280"/>
            <a:ext cx="1225440" cy="1079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5229360"/>
            <a:ext cx="1225440" cy="107928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4076640"/>
            <a:ext cx="1225440" cy="1079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92360" y="5229360"/>
            <a:ext cx="1225440" cy="107928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4076640"/>
            <a:ext cx="1225440" cy="1079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16360" y="5229360"/>
            <a:ext cx="1225440" cy="107928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16360" y="4076640"/>
            <a:ext cx="1225440" cy="1079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40360" y="4076640"/>
            <a:ext cx="1225440" cy="1079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64000" y="4076640"/>
            <a:ext cx="1225800" cy="1079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64000" y="5229360"/>
            <a:ext cx="1225800" cy="107928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40360" y="5229360"/>
            <a:ext cx="1225440" cy="107928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48360" y="2708280"/>
            <a:ext cx="36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– это 2 дес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000" y="549360"/>
            <a:ext cx="43196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сять –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иннадцать –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енадцать -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инадцать –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тырнадцать –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ятнадцать –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естнадцать –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мнадцать –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емнадцать –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вятнадцать –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адцать -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87280" y="476280"/>
            <a:ext cx="1152720" cy="9367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1052640"/>
            <a:ext cx="1152360" cy="9363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1557360"/>
            <a:ext cx="1152360" cy="9367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51640" y="1989000"/>
            <a:ext cx="1152360" cy="9367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48360" y="2492280"/>
            <a:ext cx="1152720" cy="9367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2060640"/>
            <a:ext cx="1152720" cy="9367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5640" y="2565360"/>
            <a:ext cx="1152360" cy="9367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3141720"/>
            <a:ext cx="1152720" cy="9367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3860640"/>
            <a:ext cx="1152720" cy="9367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59640" y="4365720"/>
            <a:ext cx="1152360" cy="9363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544500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еся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260280"/>
            <a:ext cx="1224000" cy="1008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260280"/>
            <a:ext cx="1224000" cy="1008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9280" y="260280"/>
            <a:ext cx="1223640" cy="1008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260280"/>
            <a:ext cx="1224000" cy="1008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08720" y="260280"/>
            <a:ext cx="1224000" cy="1008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341360"/>
            <a:ext cx="1224000" cy="1008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1341360"/>
            <a:ext cx="1224000" cy="1008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59280" y="1341360"/>
            <a:ext cx="1223640" cy="1008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1341360"/>
            <a:ext cx="1224000" cy="1008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1341360"/>
            <a:ext cx="1224000" cy="1008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4292640"/>
            <a:ext cx="1224000" cy="1008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3068640"/>
            <a:ext cx="352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это 1десяток и 1 еди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333360"/>
            <a:ext cx="1008000" cy="1008000"/>
          </a:xfrm>
          <a:prstGeom prst="smileyFace">
            <a:avLst>
              <a:gd name="adj" fmla="val 928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333360"/>
            <a:ext cx="1008360" cy="1008000"/>
          </a:xfrm>
          <a:prstGeom prst="smileyFace">
            <a:avLst>
              <a:gd name="adj" fmla="val 928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404640"/>
            <a:ext cx="1008000" cy="1008360"/>
          </a:xfrm>
          <a:prstGeom prst="smileyFace">
            <a:avLst>
              <a:gd name="adj" fmla="val 928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333360"/>
            <a:ext cx="1008000" cy="1008000"/>
          </a:xfrm>
          <a:prstGeom prst="smileyFace">
            <a:avLst>
              <a:gd name="adj" fmla="val 928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360" y="333360"/>
            <a:ext cx="1008360" cy="1008000"/>
          </a:xfrm>
          <a:prstGeom prst="smileyFace">
            <a:avLst>
              <a:gd name="adj" fmla="val 928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557360"/>
            <a:ext cx="1008000" cy="1008000"/>
          </a:xfrm>
          <a:prstGeom prst="smileyFace">
            <a:avLst>
              <a:gd name="adj" fmla="val 928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8000" y="1557360"/>
            <a:ext cx="1008360" cy="1008000"/>
          </a:xfrm>
          <a:prstGeom prst="smileyFace">
            <a:avLst>
              <a:gd name="adj" fmla="val 928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1628640"/>
            <a:ext cx="1008000" cy="1008360"/>
          </a:xfrm>
          <a:prstGeom prst="smileyFace">
            <a:avLst>
              <a:gd name="adj" fmla="val 928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1628640"/>
            <a:ext cx="1008000" cy="1008360"/>
          </a:xfrm>
          <a:prstGeom prst="smileyFace">
            <a:avLst>
              <a:gd name="adj" fmla="val 928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628640"/>
            <a:ext cx="1008360" cy="1008360"/>
          </a:xfrm>
          <a:prstGeom prst="smileyFace">
            <a:avLst>
              <a:gd name="adj" fmla="val 928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4437000"/>
            <a:ext cx="1008000" cy="1008000"/>
          </a:xfrm>
          <a:prstGeom prst="smileyFace">
            <a:avLst>
              <a:gd name="adj" fmla="val 928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4508640"/>
            <a:ext cx="1008000" cy="1008000"/>
          </a:xfrm>
          <a:prstGeom prst="smileyFace">
            <a:avLst>
              <a:gd name="adj" fmla="val 928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3357720"/>
            <a:ext cx="360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– это 1 десяток и 2 един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404640"/>
            <a:ext cx="1079280" cy="936720"/>
          </a:xfrm>
          <a:custGeom>
            <a:avLst/>
            <a:gdLst>
              <a:gd name="textAreaLeft" fmla="*/ 253440 w 1079280"/>
              <a:gd name="textAreaRight" fmla="*/ 825120 w 1079280"/>
              <a:gd name="textAreaTop" fmla="*/ 110160 h 936720"/>
              <a:gd name="textAreaBottom" fmla="*/ 587520 h 936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6360" y="476280"/>
            <a:ext cx="1079280" cy="936720"/>
          </a:xfrm>
          <a:custGeom>
            <a:avLst/>
            <a:gdLst>
              <a:gd name="textAreaLeft" fmla="*/ 253440 w 1079280"/>
              <a:gd name="textAreaRight" fmla="*/ 825120 w 1079280"/>
              <a:gd name="textAreaTop" fmla="*/ 110160 h 936720"/>
              <a:gd name="textAreaBottom" fmla="*/ 587520 h 936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476280"/>
            <a:ext cx="1079640" cy="936720"/>
          </a:xfrm>
          <a:custGeom>
            <a:avLst/>
            <a:gdLst>
              <a:gd name="textAreaLeft" fmla="*/ 253800 w 1079640"/>
              <a:gd name="textAreaRight" fmla="*/ 825120 w 1079640"/>
              <a:gd name="textAreaTop" fmla="*/ 110160 h 936720"/>
              <a:gd name="textAreaBottom" fmla="*/ 587520 h 936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549360"/>
            <a:ext cx="1079280" cy="936720"/>
          </a:xfrm>
          <a:custGeom>
            <a:avLst/>
            <a:gdLst>
              <a:gd name="textAreaLeft" fmla="*/ 253440 w 1079280"/>
              <a:gd name="textAreaRight" fmla="*/ 825120 w 1079280"/>
              <a:gd name="textAreaTop" fmla="*/ 110160 h 936720"/>
              <a:gd name="textAreaBottom" fmla="*/ 587520 h 936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549360"/>
            <a:ext cx="1079640" cy="936720"/>
          </a:xfrm>
          <a:custGeom>
            <a:avLst/>
            <a:gdLst>
              <a:gd name="textAreaLeft" fmla="*/ 253800 w 1079640"/>
              <a:gd name="textAreaRight" fmla="*/ 825120 w 1079640"/>
              <a:gd name="textAreaTop" fmla="*/ 110160 h 936720"/>
              <a:gd name="textAreaBottom" fmla="*/ 587520 h 936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700280"/>
            <a:ext cx="1079280" cy="936720"/>
          </a:xfrm>
          <a:custGeom>
            <a:avLst/>
            <a:gdLst>
              <a:gd name="textAreaLeft" fmla="*/ 253440 w 1079280"/>
              <a:gd name="textAreaRight" fmla="*/ 825120 w 1079280"/>
              <a:gd name="textAreaTop" fmla="*/ 110160 h 936720"/>
              <a:gd name="textAreaBottom" fmla="*/ 587520 h 936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1700280"/>
            <a:ext cx="1079640" cy="936720"/>
          </a:xfrm>
          <a:custGeom>
            <a:avLst/>
            <a:gdLst>
              <a:gd name="textAreaLeft" fmla="*/ 253800 w 1079640"/>
              <a:gd name="textAreaRight" fmla="*/ 825120 w 1079640"/>
              <a:gd name="textAreaTop" fmla="*/ 110160 h 936720"/>
              <a:gd name="textAreaBottom" fmla="*/ 587520 h 936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7640" y="1700280"/>
            <a:ext cx="1079640" cy="936720"/>
          </a:xfrm>
          <a:custGeom>
            <a:avLst/>
            <a:gdLst>
              <a:gd name="textAreaLeft" fmla="*/ 253800 w 1079640"/>
              <a:gd name="textAreaRight" fmla="*/ 825120 w 1079640"/>
              <a:gd name="textAreaTop" fmla="*/ 110160 h 936720"/>
              <a:gd name="textAreaBottom" fmla="*/ 587520 h 936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1773360"/>
            <a:ext cx="1079280" cy="936360"/>
          </a:xfrm>
          <a:custGeom>
            <a:avLst/>
            <a:gdLst>
              <a:gd name="textAreaLeft" fmla="*/ 253440 w 1079280"/>
              <a:gd name="textAreaRight" fmla="*/ 825120 w 1079280"/>
              <a:gd name="textAreaTop" fmla="*/ 109800 h 936360"/>
              <a:gd name="textAreaBottom" fmla="*/ 587520 h 936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1773360"/>
            <a:ext cx="1079280" cy="936360"/>
          </a:xfrm>
          <a:custGeom>
            <a:avLst/>
            <a:gdLst>
              <a:gd name="textAreaLeft" fmla="*/ 253440 w 1079280"/>
              <a:gd name="textAreaRight" fmla="*/ 825120 w 1079280"/>
              <a:gd name="textAreaTop" fmla="*/ 109800 h 936360"/>
              <a:gd name="textAreaBottom" fmla="*/ 587520 h 936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5084640"/>
            <a:ext cx="1079640" cy="936720"/>
          </a:xfrm>
          <a:custGeom>
            <a:avLst/>
            <a:gdLst>
              <a:gd name="textAreaLeft" fmla="*/ 253800 w 1079640"/>
              <a:gd name="textAreaRight" fmla="*/ 825120 w 1079640"/>
              <a:gd name="textAreaTop" fmla="*/ 110160 h 936720"/>
              <a:gd name="textAreaBottom" fmla="*/ 587520 h 936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4437000"/>
            <a:ext cx="1079640" cy="936720"/>
          </a:xfrm>
          <a:custGeom>
            <a:avLst/>
            <a:gdLst>
              <a:gd name="textAreaLeft" fmla="*/ 253800 w 1079640"/>
              <a:gd name="textAreaRight" fmla="*/ 825120 w 1079640"/>
              <a:gd name="textAreaTop" fmla="*/ 110160 h 936720"/>
              <a:gd name="textAreaBottom" fmla="*/ 587520 h 936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5229360"/>
            <a:ext cx="1079280" cy="936360"/>
          </a:xfrm>
          <a:custGeom>
            <a:avLst/>
            <a:gdLst>
              <a:gd name="textAreaLeft" fmla="*/ 253440 w 1079280"/>
              <a:gd name="textAreaRight" fmla="*/ 825120 w 1079280"/>
              <a:gd name="textAreaTop" fmla="*/ 109800 h 936360"/>
              <a:gd name="textAreaBottom" fmla="*/ 587520 h 936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8360" y="350028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3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– это 1десяток и 3 един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260280"/>
            <a:ext cx="936360" cy="9367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48360" y="333360"/>
            <a:ext cx="936360" cy="9367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404640"/>
            <a:ext cx="936720" cy="9367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16360" y="333360"/>
            <a:ext cx="936360" cy="9367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67280" y="404640"/>
            <a:ext cx="936360" cy="9367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35280" y="1413000"/>
            <a:ext cx="936360" cy="93636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1413000"/>
            <a:ext cx="936360" cy="93636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1413000"/>
            <a:ext cx="936720" cy="93636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1484280"/>
            <a:ext cx="936360" cy="9367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19640" y="1341360"/>
            <a:ext cx="936720" cy="9367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936720" cy="9367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3933720"/>
            <a:ext cx="936360" cy="9367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5229360"/>
            <a:ext cx="936360" cy="93636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68360" y="5084640"/>
            <a:ext cx="936720" cy="9367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56000" y="3141720"/>
            <a:ext cx="39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4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– это 1 десяток и 4 един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Cloud"/>
          <p:cNvSpPr/>
          <p:nvPr/>
        </p:nvSpPr>
        <p:spPr>
          <a:xfrm>
            <a:off x="250920" y="333360"/>
            <a:ext cx="1295280" cy="868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loud"/>
          <p:cNvSpPr/>
          <p:nvPr/>
        </p:nvSpPr>
        <p:spPr>
          <a:xfrm>
            <a:off x="1692360" y="333360"/>
            <a:ext cx="1295280" cy="868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loud"/>
          <p:cNvSpPr/>
          <p:nvPr/>
        </p:nvSpPr>
        <p:spPr>
          <a:xfrm>
            <a:off x="3132000" y="404640"/>
            <a:ext cx="1295640" cy="8686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loud"/>
          <p:cNvSpPr/>
          <p:nvPr/>
        </p:nvSpPr>
        <p:spPr>
          <a:xfrm>
            <a:off x="4716360" y="404640"/>
            <a:ext cx="1295640" cy="8686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loud"/>
          <p:cNvSpPr/>
          <p:nvPr/>
        </p:nvSpPr>
        <p:spPr>
          <a:xfrm>
            <a:off x="6227640" y="404640"/>
            <a:ext cx="1295640" cy="8686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loud"/>
          <p:cNvSpPr/>
          <p:nvPr/>
        </p:nvSpPr>
        <p:spPr>
          <a:xfrm>
            <a:off x="250920" y="1557360"/>
            <a:ext cx="1295280" cy="868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loud"/>
          <p:cNvSpPr/>
          <p:nvPr/>
        </p:nvSpPr>
        <p:spPr>
          <a:xfrm>
            <a:off x="1763640" y="1557360"/>
            <a:ext cx="1295640" cy="868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loud"/>
          <p:cNvSpPr/>
          <p:nvPr/>
        </p:nvSpPr>
        <p:spPr>
          <a:xfrm>
            <a:off x="3348000" y="1557360"/>
            <a:ext cx="1295280" cy="868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loud"/>
          <p:cNvSpPr/>
          <p:nvPr/>
        </p:nvSpPr>
        <p:spPr>
          <a:xfrm>
            <a:off x="4932360" y="1484280"/>
            <a:ext cx="1295280" cy="868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loud"/>
          <p:cNvSpPr/>
          <p:nvPr/>
        </p:nvSpPr>
        <p:spPr>
          <a:xfrm>
            <a:off x="6516720" y="1557360"/>
            <a:ext cx="1295280" cy="868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loud"/>
          <p:cNvSpPr/>
          <p:nvPr/>
        </p:nvSpPr>
        <p:spPr>
          <a:xfrm>
            <a:off x="395280" y="5516640"/>
            <a:ext cx="1295280" cy="868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loud"/>
          <p:cNvSpPr/>
          <p:nvPr/>
        </p:nvSpPr>
        <p:spPr>
          <a:xfrm>
            <a:off x="468360" y="4149720"/>
            <a:ext cx="1295280" cy="868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loud"/>
          <p:cNvSpPr/>
          <p:nvPr/>
        </p:nvSpPr>
        <p:spPr>
          <a:xfrm>
            <a:off x="1835280" y="4797360"/>
            <a:ext cx="1295280" cy="868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loud"/>
          <p:cNvSpPr/>
          <p:nvPr/>
        </p:nvSpPr>
        <p:spPr>
          <a:xfrm>
            <a:off x="3203640" y="4149720"/>
            <a:ext cx="1295280" cy="868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loud"/>
          <p:cNvSpPr/>
          <p:nvPr/>
        </p:nvSpPr>
        <p:spPr>
          <a:xfrm>
            <a:off x="3276720" y="5445000"/>
            <a:ext cx="1295280" cy="868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3429000"/>
            <a:ext cx="32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– это 1 десяток и 5 един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5280" y="26028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19280" y="260280"/>
            <a:ext cx="93492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43280" y="333360"/>
            <a:ext cx="93492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404640"/>
            <a:ext cx="93528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92720" y="333360"/>
            <a:ext cx="93492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1413000"/>
            <a:ext cx="93492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1413000"/>
            <a:ext cx="93492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1413000"/>
            <a:ext cx="93492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1413000"/>
            <a:ext cx="93492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0" y="1413000"/>
            <a:ext cx="93528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5589720"/>
            <a:ext cx="93492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08640"/>
            <a:ext cx="93492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3500280"/>
            <a:ext cx="93492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3500280"/>
            <a:ext cx="93492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79640" y="4508640"/>
            <a:ext cx="93492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79640" y="5589720"/>
            <a:ext cx="93492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3213000"/>
            <a:ext cx="424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6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– это 1 десяток и 6 един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7:17:55Z</dcterms:created>
  <dc:creator>470</dc:creator>
  <dc:description/>
  <dc:language>en-US</dc:language>
  <cp:lastModifiedBy>470</cp:lastModifiedBy>
  <dcterms:modified xsi:type="dcterms:W3CDTF">2009-02-20T08:16:47Z</dcterms:modified>
  <cp:revision>2</cp:revision>
  <dc:subject/>
  <dc:title>Слайд 1</dc:title>
</cp:coreProperties>
</file>