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09EA-4985-4F37-B937-9264FE7D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0C96-684E-4420-A12A-2842C921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5C13-E5E5-4BE2-AA5A-4E357A7F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3631-CDE1-483B-ADA0-AB6F5D26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FE2F-C4C1-4A24-92AE-BA680469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EFFD-815A-409E-AD39-C15A4491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203C-2BD2-4372-B118-FB62EED0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C05F-A20D-4A33-8896-CF0DBE2E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432C-9AFC-44D8-8865-081338FF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5B53-00A6-4FD4-9D1E-1F7E73AB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3D1E-1A76-4A11-9C7F-2EBF260A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B9E0-E48E-4FC7-8667-6DF301E2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AE2A-4CCB-44F1-ACB0-1B0F571001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netherlands.destinations.ru/hague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netherlands.destinations.ru/delft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netherlands.destinations.ru/maastricht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netherlands.destinations.ru/rotterdam" TargetMode="External"/><Relationship Id="rId3" Type="http://schemas.openxmlformats.org/officeDocument/2006/relationships/hyperlink" Target="http://click02.begun.ru/click.jsp?url=Lr8WXJSSk5IMmJ7xGxGaa33Zz6IDQ88Q6GES3xIfruGb*stbMGZ7WK7-h1Mdo*rzTKxsykwlvqVXzMfE3A2koxO8L2xvSFY9rUgtTC4CJwVEMEU*UvnS8-KNrhtaNS59ouJ3ZUkSLv7PeWKSFm7F0wTedfED5xCUXc8SLlBeXnm7AtuDEDLN0QJwvSlHgyfydHGbbpYcTU-masp3eSOL3S9woxw9cxZTec4Qo97oAMylYDjUcPLz1RdIKF9PetL5t7yVOqIQM0OUeDs927left3fH-eCYnyF7d2ZvErdQbo71LtlxDcKpEh5Cq*IbGP9AQp-MegS1WlBobOuB51H8lFd-HhZA3xDxdX3IA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duchyofluxembourg.com/" TargetMode="External"/><Relationship Id="rId2" Type="http://schemas.openxmlformats.org/officeDocument/2006/relationships/hyperlink" Target="http://ostranah.ru/luxembourg/flag.php" TargetMode="External"/><Relationship Id="rId3" Type="http://schemas.openxmlformats.org/officeDocument/2006/relationships/image" Target="../media/image19.png"/><Relationship Id="rId4" Type="http://schemas.openxmlformats.org/officeDocument/2006/relationships/hyperlink" Target="http://ostranah.ru/luxembourg/emblem.php" TargetMode="Externa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duchyofluxembourg.com/foto/func,detail/id,53/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duchyofluxembourg.com/foto/func,detail/id,22/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duchyofluxembourg.com/foto/func,detail/id,40/" TargetMode="External"/><Relationship Id="rId6" Type="http://schemas.openxmlformats.org/officeDocument/2006/relationships/image" Target="../media/image23.jpeg"/><Relationship Id="rId7" Type="http://schemas.openxmlformats.org/officeDocument/2006/relationships/hyperlink" Target="http://duchyofluxembourg.com/foto/func,detail/id,30/" TargetMode="External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duchyofluxembourg.com/foto/func,detail/id,35/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duchyofluxembourg.com/foto/func,detail/id,40/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duchyofluxembourg.com/foto/func,detail/id,39/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duchyofluxembourg.com/foto/func,detail/id,38/" TargetMode="External"/><Relationship Id="rId6" Type="http://schemas.openxmlformats.org/officeDocument/2006/relationships/image" Target="../media/image28.jpeg"/><Relationship Id="rId7" Type="http://schemas.openxmlformats.org/officeDocument/2006/relationships/hyperlink" Target="http://duchyofluxembourg.com/foto/func,detail/id,37/" TargetMode="External"/><Relationship Id="rId8" Type="http://schemas.openxmlformats.org/officeDocument/2006/relationships/image" Target="../media/image29.jpeg"/><Relationship Id="rId9" Type="http://schemas.openxmlformats.org/officeDocument/2006/relationships/hyperlink" Target="http://duchyofluxembourg.com/foto/func,detail/id,36/" TargetMode="External"/><Relationship Id="rId10" Type="http://schemas.openxmlformats.org/officeDocument/2006/relationships/image" Target="../media/image30.jpeg"/><Relationship Id="rId11" Type="http://schemas.openxmlformats.org/officeDocument/2006/relationships/hyperlink" Target="http://duchyofluxembourg.com/foto/func,detail/id,35/" TargetMode="External"/><Relationship Id="rId12" Type="http://schemas.openxmlformats.org/officeDocument/2006/relationships/image" Target="../media/image25.jpeg"/><Relationship Id="rId13" Type="http://schemas.openxmlformats.org/officeDocument/2006/relationships/hyperlink" Target="http://duchyofluxembourg.com/foto/func,detail/id,34/" TargetMode="External"/><Relationship Id="rId14" Type="http://schemas.openxmlformats.org/officeDocument/2006/relationships/image" Target="../media/image31.jpe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uchyofluxembourg.com/foto/func,detail/id,21/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duchyofluxembourg.com/foto/func,detail/id,20/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duchyofluxembourg.com/foto/func,detail/id,20/" TargetMode="External"/><Relationship Id="rId6" Type="http://schemas.openxmlformats.org/officeDocument/2006/relationships/image" Target="../media/image33.jpeg"/><Relationship Id="rId7" Type="http://schemas.openxmlformats.org/officeDocument/2006/relationships/hyperlink" Target="http://duchyofluxembourg.com/foto/func,detail/id,18/" TargetMode="External"/><Relationship Id="rId8" Type="http://schemas.openxmlformats.org/officeDocument/2006/relationships/image" Target="../media/image34.jpeg"/><Relationship Id="rId9" Type="http://schemas.openxmlformats.org/officeDocument/2006/relationships/hyperlink" Target="http://duchyofluxembourg.com/foto/func,detail/id,19/" TargetMode="External"/><Relationship Id="rId10" Type="http://schemas.openxmlformats.org/officeDocument/2006/relationships/image" Target="../media/image35.jpeg"/><Relationship Id="rId11" Type="http://schemas.openxmlformats.org/officeDocument/2006/relationships/hyperlink" Target="http://duchyofluxembourg.com/foto/func,detail/id,17/" TargetMode="External"/><Relationship Id="rId12" Type="http://schemas.openxmlformats.org/officeDocument/2006/relationships/image" Target="../media/image36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Что такое БЕНИЛЮКС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7120" y="121428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Бе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льг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Ни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дерланд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Люкс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ембур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14" descr="Нидерланды - лучшие достопримечательности"/>
          <p:cNvPicPr/>
          <p:nvPr/>
        </p:nvPicPr>
        <p:blipFill>
          <a:blip r:embed="rId1"/>
          <a:stretch/>
        </p:blipFill>
        <p:spPr>
          <a:xfrm>
            <a:off x="1857240" y="1643040"/>
            <a:ext cx="5500800" cy="47862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0" y="11880"/>
            <a:ext cx="914400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Tahoma"/>
                <a:ea typeface="Calibri"/>
                <a:hlinkClick r:id="rId2"/>
              </a:rPr>
              <a:t>Гаага</a:t>
            </a:r>
            <a:br>
              <a:rPr sz="1600"/>
            </a:br>
            <a:r>
              <a:rPr b="0" lang="ru-RU" sz="1600" spc="-1" strike="noStrike">
                <a:solidFill>
                  <a:srgbClr val="272727"/>
                </a:solidFill>
                <a:latin typeface="Tahoma"/>
                <a:ea typeface="Calibri"/>
              </a:rPr>
              <a:t>Не смотря на то, что Амстердам является национальной столицей, Гаага была всегда местом нахождения парламента, правительства страны и официальной резиденцией голландских монархов. В очаровательном центре города располагаются множество правительственных зданий, отличных музеев, роскошных особняков, великолепных площадей и пар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0" y="204840"/>
            <a:ext cx="9144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Tahoma"/>
                <a:ea typeface="Calibri"/>
                <a:hlinkClick r:id="rId1"/>
              </a:rPr>
              <a:t>Дельфт</a:t>
            </a:r>
            <a:br>
              <a:rPr sz="1600"/>
            </a:br>
            <a:r>
              <a:rPr b="0" lang="ru-RU" sz="1600" spc="-1" strike="noStrike">
                <a:solidFill>
                  <a:srgbClr val="272727"/>
                </a:solidFill>
                <a:latin typeface="Tahoma"/>
                <a:ea typeface="Calibri"/>
              </a:rPr>
              <a:t>Дельфт, наверное, самый красивый город во всей Голландии. Фасады зданий, построенных в готическом стиле и стиле эпохи Возрождения, отражают его многовековую красоту, а воздух наполнен ощущением спокойств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2" descr="Нидерланды - лучшие достопримечательности"/>
          <p:cNvPicPr/>
          <p:nvPr/>
        </p:nvPicPr>
        <p:blipFill>
          <a:blip r:embed="rId2"/>
          <a:stretch/>
        </p:blipFill>
        <p:spPr>
          <a:xfrm>
            <a:off x="1214280" y="1500120"/>
            <a:ext cx="6786720" cy="5143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16" descr="Нидерланды - лучшие достопримечательности"/>
          <p:cNvPicPr/>
          <p:nvPr/>
        </p:nvPicPr>
        <p:blipFill>
          <a:blip r:embed="rId1"/>
          <a:stretch/>
        </p:blipFill>
        <p:spPr>
          <a:xfrm>
            <a:off x="1428840" y="1643040"/>
            <a:ext cx="6500880" cy="45007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0" y="133560"/>
            <a:ext cx="9144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Tahoma"/>
                <a:ea typeface="Calibri"/>
                <a:hlinkClick r:id="rId2"/>
              </a:rPr>
              <a:t>Маастрихт</a:t>
            </a:r>
            <a:br>
              <a:rPr sz="1600"/>
            </a:br>
            <a:r>
              <a:rPr b="0" lang="ru-RU" sz="1600" spc="-1" strike="noStrike">
                <a:solidFill>
                  <a:srgbClr val="272727"/>
                </a:solidFill>
                <a:latin typeface="Tahoma"/>
                <a:ea typeface="Calibri"/>
              </a:rPr>
              <a:t>Маастрихт, основанный римлянами в 50 г. до н. э., является самым старым городом в Голландии. Маастрихт привлекает туристов со всего мира не только своей богатой историей, но и своей особенной красот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17" descr="Нидерланды - лучшие достопримечательности"/>
          <p:cNvPicPr/>
          <p:nvPr/>
        </p:nvPicPr>
        <p:blipFill>
          <a:blip r:embed="rId1"/>
          <a:stretch/>
        </p:blipFill>
        <p:spPr>
          <a:xfrm>
            <a:off x="1071720" y="1643040"/>
            <a:ext cx="7286400" cy="48578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0" y="117360"/>
            <a:ext cx="9144000" cy="13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Tahoma"/>
                <a:ea typeface="Calibri"/>
                <a:hlinkClick r:id="rId2"/>
              </a:rPr>
              <a:t>Роттердам</a:t>
            </a:r>
            <a:br>
              <a:rPr sz="1600"/>
            </a:br>
            <a:r>
              <a:rPr b="0" lang="ru-RU" sz="1600" spc="-1" strike="noStrike">
                <a:solidFill>
                  <a:srgbClr val="272727"/>
                </a:solidFill>
                <a:latin typeface="Tahoma"/>
                <a:ea typeface="Calibri"/>
              </a:rPr>
              <a:t>Роттердам - это самый современный город в Нидерландах, который сильно отличается от всех других городов страны. Здесь вместо характерных для Голландии узеньких улиц и извилистых каналов располагаются просторные, шикарные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ahoma"/>
                <a:ea typeface="Calibri"/>
                <a:hlinkClick r:id="rId3"/>
              </a:rPr>
              <a:t>торговые пассажи</a:t>
            </a:r>
            <a:r>
              <a:rPr b="0" lang="ru-RU" sz="1600" spc="-1" strike="noStrike">
                <a:solidFill>
                  <a:srgbClr val="272727"/>
                </a:solidFill>
                <a:latin typeface="Tahoma"/>
                <a:ea typeface="Calibri"/>
              </a:rPr>
              <a:t>, современные здания и самая занятая гавань океа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0" y="188100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Официальное название страны</a:t>
            </a: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—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Великое герцогство Люксембург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 (Grand Duche de Luxembourg, Grand Duchy of Luxembourg). В переводе со старонемецкого Люксембург означает </a:t>
            </a: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малый замок</a:t>
            </a: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. Люксембург </a:t>
            </a: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 западно-европейское государство. На севере и западе граничит с Бельгией, на востоке - с Германией, на юге - с Францией. Вместе с Бельгией и Нидерландами Люксембург входит в так называемый Бенилюкс. </a:t>
            </a:r>
            <a:br>
              <a:rPr sz="1800"/>
            </a:b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Площадь Люксембурга 2600 кв. км, больше любой другой европейской карликовой страны. Население страны около 440 тысяч человек, средняя плотность населения около 164 человек на кв. км, официальные языки - немецкий и французский. Помимо двух государственных языков, граждане Люксембурга в бытовых ситуациях часто говорят на люксембургском языке (нижне-германский диалект с сильным французским влиянием), и, кроме того, многие владеют английским. На одной газетной полосе зачастую можно видеть материалы на разных язы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3240"/>
            <a:ext cx="91440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Люксембур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Calibri"/>
                <a:ea typeface="Times New Roman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3" descr="Флаг Люксембург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4200" y="21420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Герб Люксембурга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143840" y="142920"/>
            <a:ext cx="1762200" cy="1714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285840" y="571680"/>
            <a:ext cx="85010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род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Люксембур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толица) - был основан более 1000 лет назад. Это красивый, аккуратный и оживленный город. Самые разнообразные по архитектуре мосты, конусы и шпили дворцов и кирх, памятники, парки, здания разных времен и стилей образуют очень гармоничный ансамбль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лица является культурным центром герцогства, здесь действует Национальная библиотека, Муниципальный театр, консерватория, Симфонический оркестр люксембургского радио и киностудия. Особого внимания заслуживает Национальный музей. В нем собрано множество экспонатов: мраморный бюст Септимия Севера, бронзовые статуэтки римской эпохи, надгробия и фрагменты средневековой скульптуры, коллекция минералов, предметы декоративно-прикладного искусства, интерьеры XVIII-XIX вв. и прекрасные картины немецких, нидерландских и голландских мастеров живописи (Л. Кранах, Й. ван Клеве, Ф. Хале, А. Остаде и др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3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http://duchyofluxembourg.com/components/com_datsogallery/img_thumbnails/luxemburg12_20070108_126551091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28800" y="285840"/>
            <a:ext cx="2928960" cy="30718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2" descr="http://duchyofluxembourg.com/components/com_datsogallery/img_thumbnails/echtenach0_20070108_115633381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2040" y="35712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3" descr="http://duchyofluxembourg.com/components/com_datsogallery/img_thumbnails/clervaux6_20070108_1447973825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57160" y="3571920"/>
            <a:ext cx="3071880" cy="30002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http://duchyofluxembourg.com/components/com_datsogallery/img_thumbnails/echtenach8_20070108_1522203252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072040" y="3643200"/>
            <a:ext cx="3214800" cy="300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http://duchyofluxembourg.com/components/com_datsogallery/img_thumbnails/clervaux1_20070108_190417949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85840"/>
            <a:ext cx="3929040" cy="61434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" descr="http://duchyofluxembourg.com/components/com_datsogallery/img_pictures/luxemburg7_20070108_1425006453.jpg"/>
          <p:cNvPicPr/>
          <p:nvPr/>
        </p:nvPicPr>
        <p:blipFill>
          <a:blip r:embed="rId3"/>
          <a:stretch/>
        </p:blipFill>
        <p:spPr>
          <a:xfrm>
            <a:off x="4786200" y="357120"/>
            <a:ext cx="4214880" cy="607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22" descr="http://duchyofluxembourg.com/components/com_datsogallery/img_thumbnails/clervaux6_20070108_144797382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57920" y="428760"/>
            <a:ext cx="3000240" cy="28810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3" descr="http://duchyofluxembourg.com/components/com_datsogallery/img_thumbnails/clervaux5_20070108_141810091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00240" y="3643200"/>
            <a:ext cx="2000520" cy="22384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4" descr="http://duchyofluxembourg.com/components/com_datsogallery/img_thumbnails/clervaux4_20070108_1658860188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43160" y="428760"/>
            <a:ext cx="2500560" cy="29289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5" descr="http://duchyofluxembourg.com/components/com_datsogallery/img_thumbnails/clervaux3_20070108_2074280034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143680" y="3643200"/>
            <a:ext cx="1857240" cy="22147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6" descr="http://duchyofluxembourg.com/components/com_datsogallery/img_thumbnails/clervaux2_20070108_2069471142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85840" y="428760"/>
            <a:ext cx="2714400" cy="29527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7" descr="http://duchyofluxembourg.com/components/com_datsogallery/img_thumbnails/clervaux1_20070108_1904179493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215120" y="3500280"/>
            <a:ext cx="1714680" cy="23576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8" descr="http://duchyofluxembourg.com/components/com_datsogallery/img_thumbnails/clervaux0_20070108_1851821166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42960" y="3643200"/>
            <a:ext cx="2000160" cy="223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7286760" y="357120"/>
          <a:ext cx="333360" cy="249480"/>
        </p:xfrm>
        <a:graphic>
          <a:graphicData uri="http://schemas.openxmlformats.org/drawingml/2006/table">
            <a:tbl>
              <a:tblPr/>
              <a:tblGrid>
                <a:gridCol w="98640"/>
                <a:gridCol w="100800"/>
                <a:gridCol w="98640"/>
                <a:gridCol w="36000"/>
              </a:tblGrid>
              <a:tr h="24948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7286760" y="357120"/>
          <a:ext cx="333360" cy="249480"/>
        </p:xfrm>
        <a:graphic>
          <a:graphicData uri="http://schemas.openxmlformats.org/drawingml/2006/table">
            <a:tbl>
              <a:tblPr/>
              <a:tblGrid>
                <a:gridCol w="98640"/>
                <a:gridCol w="100800"/>
                <a:gridCol w="98640"/>
                <a:gridCol w="36000"/>
              </a:tblGrid>
              <a:tr h="24948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ер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анд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2" descr="http://duchyofluxembourg.com/components/com_datsogallery/img_thumbnails/vianden5_20070108_163610232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1071720"/>
            <a:ext cx="2428920" cy="26431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3" descr="http://duchyofluxembourg.com/components/com_datsogallery/img_thumbnails/vianden4_20070108_193394180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00840" y="1000080"/>
            <a:ext cx="2571840" cy="2643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http://duchyofluxembourg.com/components/com_datsogallery/img_thumbnails/vianden4_20070108_1933941808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4200" y="3929040"/>
            <a:ext cx="2381400" cy="27147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http://duchyofluxembourg.com/components/com_datsogallery/img_thumbnails/vianden2_20070108_1798401937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72120" y="3857760"/>
            <a:ext cx="2500560" cy="27860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http://duchyofluxembourg.com/components/com_datsogallery/img_thumbnails/vianden3_20070108_1025323148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071880" y="1071720"/>
            <a:ext cx="2428920" cy="25714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7" descr="http://duchyofluxembourg.com/components/com_datsogallery/img_thumbnails/vianden1_20070108_1067715126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071880" y="3786120"/>
            <a:ext cx="2500200" cy="3071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бенилюкс карта"/>
          <p:cNvPicPr/>
          <p:nvPr/>
        </p:nvPicPr>
        <p:blipFill>
          <a:blip r:embed="rId1"/>
          <a:stretch/>
        </p:blipFill>
        <p:spPr>
          <a:xfrm>
            <a:off x="214200" y="142920"/>
            <a:ext cx="8572680" cy="6429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http://duchyofluxembourg.com/components/com_datsogallery/img_thumbnails/echtenach4_20070108_1765282618.jpg"/>
          <p:cNvPicPr/>
          <p:nvPr/>
        </p:nvPicPr>
        <p:blipFill>
          <a:blip r:embed="rId1"/>
          <a:stretch/>
        </p:blipFill>
        <p:spPr>
          <a:xfrm>
            <a:off x="500040" y="1143000"/>
            <a:ext cx="3429000" cy="31431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хтерн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3" descr="http://duchyofluxembourg.com/components/com_datsogallery/img_thumbnails/echtenach3_20070108_1705654229.jpg"/>
          <p:cNvPicPr/>
          <p:nvPr/>
        </p:nvPicPr>
        <p:blipFill>
          <a:blip r:embed="rId2"/>
          <a:stretch/>
        </p:blipFill>
        <p:spPr>
          <a:xfrm>
            <a:off x="500040" y="4357800"/>
            <a:ext cx="2357640" cy="23572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4" descr="http://duchyofluxembourg.com/components/com_datsogallery/img_thumbnails/echtenach6_20070108_1490962593.jpg"/>
          <p:cNvPicPr/>
          <p:nvPr/>
        </p:nvPicPr>
        <p:blipFill>
          <a:blip r:embed="rId3"/>
          <a:stretch/>
        </p:blipFill>
        <p:spPr>
          <a:xfrm>
            <a:off x="4714920" y="1143000"/>
            <a:ext cx="3714840" cy="30718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http://duchyofluxembourg.com/components/com_datsogallery/img_thumbnails/echtenach2_20070108_1529246496.jpg"/>
          <p:cNvPicPr/>
          <p:nvPr/>
        </p:nvPicPr>
        <p:blipFill>
          <a:blip r:embed="rId4"/>
          <a:stretch/>
        </p:blipFill>
        <p:spPr>
          <a:xfrm>
            <a:off x="6072120" y="4357800"/>
            <a:ext cx="2714760" cy="23810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6" descr="http://duchyofluxembourg.com/components/com_datsogallery/img_thumbnails/echtenach8_20070108_1522203252.jpg"/>
          <p:cNvPicPr/>
          <p:nvPr/>
        </p:nvPicPr>
        <p:blipFill>
          <a:blip r:embed="rId5"/>
          <a:stretch/>
        </p:blipFill>
        <p:spPr>
          <a:xfrm>
            <a:off x="3143160" y="4357800"/>
            <a:ext cx="2714760" cy="2381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Бель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ельгия, или правильнее Королевство Бельгия, – небольшая западноевропейская страна. Ее площадь составляет – 30,51 тыс. км2. Территория Королевства Бельгия мала даже по европейским меркам. На первый взгляд это западноевропейское государство с красивыми домиками и коттеджами, ухоженными полями и широкими автострадами производит впечатление игрушечног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ельгия - эта маленькая страна, где самый отдаленный город страны находится всего в 2-х часах езды на поезде. Бельгия предложит Вам собственную культуру, свободную от влияния больших европейских столиц, местные говоры, возникшие на основе старинных диалектов, средневековые памятники, домики с занавесками на окнах, каналы с живописными мостами, увитыми плющом, "кролик в пиве", "писающий мальчик" и знаменитый на весь мир музей Мини - Европы, где сосредоточены более 100 миниатюрных макетов памятников истории и архитектуры Европы - все это Бельги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3" descr="Флаг Бельгии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9050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Герб Бельгии"/>
          <p:cNvPicPr/>
          <p:nvPr/>
        </p:nvPicPr>
        <p:blipFill>
          <a:blip r:embed="rId2"/>
          <a:stretch/>
        </p:blipFill>
        <p:spPr>
          <a:xfrm>
            <a:off x="7215120" y="214200"/>
            <a:ext cx="1690920" cy="128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857160" y="21420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Брюссель –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столица Бельг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http://img.turizm.ru/belgium/img/3.jpg"/>
          <p:cNvPicPr/>
          <p:nvPr/>
        </p:nvPicPr>
        <p:blipFill>
          <a:blip r:embed="rId1"/>
          <a:stretch/>
        </p:blipFill>
        <p:spPr>
          <a:xfrm>
            <a:off x="6072120" y="928800"/>
            <a:ext cx="2500560" cy="43574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http://img.turizm.ru/belgium/img/8.jpg"/>
          <p:cNvPicPr/>
          <p:nvPr/>
        </p:nvPicPr>
        <p:blipFill>
          <a:blip r:embed="rId2"/>
          <a:stretch/>
        </p:blipFill>
        <p:spPr>
          <a:xfrm>
            <a:off x="857160" y="1000080"/>
            <a:ext cx="5000760" cy="28576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3390840" y="39830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ролевский дворец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 flipH="1" flipV="1" rot="10800000">
            <a:off x="3570840" y="5244840"/>
            <a:ext cx="44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мвол столицы - Маннекен-Пис (скульптура писающего мальчика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http://img.turizm.ru/belgium/img/4.jpg"/>
          <p:cNvPicPr/>
          <p:nvPr/>
        </p:nvPicPr>
        <p:blipFill>
          <a:blip r:embed="rId1"/>
          <a:stretch/>
        </p:blipFill>
        <p:spPr>
          <a:xfrm>
            <a:off x="785880" y="571680"/>
            <a:ext cx="4143240" cy="48574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" descr="http://img.turizm.ru/belgium/img/9.jpg"/>
          <p:cNvPicPr/>
          <p:nvPr/>
        </p:nvPicPr>
        <p:blipFill>
          <a:blip r:embed="rId2"/>
          <a:stretch/>
        </p:blipFill>
        <p:spPr>
          <a:xfrm>
            <a:off x="5286240" y="500040"/>
            <a:ext cx="3643560" cy="492912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1000080" y="572940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рк "Холм искусств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 flipV="1" rot="10800000">
            <a:off x="5213160" y="5702040"/>
            <a:ext cx="36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рковь Св. Иакова, собор Нотр-Д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3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Дозорная башня"/>
          <p:cNvPicPr/>
          <p:nvPr/>
        </p:nvPicPr>
        <p:blipFill>
          <a:blip r:embed="rId1"/>
          <a:stretch/>
        </p:blipFill>
        <p:spPr>
          <a:xfrm>
            <a:off x="642960" y="857160"/>
            <a:ext cx="3500280" cy="4714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Музей Грютхузе"/>
          <p:cNvPicPr/>
          <p:nvPr/>
        </p:nvPicPr>
        <p:blipFill>
          <a:blip r:embed="rId2"/>
          <a:stretch/>
        </p:blipFill>
        <p:spPr>
          <a:xfrm>
            <a:off x="5072040" y="857160"/>
            <a:ext cx="3262320" cy="47865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285840" y="5643720"/>
            <a:ext cx="8286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Брюгг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 который часто называют "маленькая Венеция", - один из самых удивительных городов Европы. По городу протянулись каналы, через которые перекинуты живописные мосты, увитые плющом. Вдоль каналов расположились небольшие средневековые домики. Весь город проникнут атмосферой романтизма и средневековой истории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http://img.turizm.ru/belgium/img/14.jpg"/>
          <p:cNvPicPr/>
          <p:nvPr/>
        </p:nvPicPr>
        <p:blipFill>
          <a:blip r:embed="rId1"/>
          <a:stretch/>
        </p:blipFill>
        <p:spPr>
          <a:xfrm>
            <a:off x="357120" y="714240"/>
            <a:ext cx="3929040" cy="46436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http://img.turizm.ru/belgium/img/15.jpg"/>
          <p:cNvPicPr/>
          <p:nvPr/>
        </p:nvPicPr>
        <p:blipFill>
          <a:blip r:embed="rId2"/>
          <a:stretch/>
        </p:blipFill>
        <p:spPr>
          <a:xfrm>
            <a:off x="5000760" y="714240"/>
            <a:ext cx="3500280" cy="46436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357120" y="5643720"/>
            <a:ext cx="82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ент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ород с 250 тысячным населением является формальной столицей Фланд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28560" y="214200"/>
            <a:ext cx="471492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идерланды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(Голландия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28760" y="2214360"/>
            <a:ext cx="82152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ременная территория Нидерландов была заселена в эпоху неолита. Во 2-й половине 1 тыс. до н.э. здесь жили кельтские племена. К началу нашей эры сюда переселились и германские племена, наиболее многочисленными из которых были фризы. Сперва фризы обосновались на побережье Северного моря т. е. на территории нынешней Фрисландии и Гронингена. В последующие века распространились на запад и юг. В свою очередь германские племена батавов расселились в устье Рейна и Мааса и на расположенных там островах. образованием Франкского королевства в 5 в. территория Нидерландов вошла в его состав, а затем - в империю Карла Великого. Карл I покорил фризов и саксов. Практиковалось переселение саксов с обжитых ими земель во Франкское государство, а земли их раздавали франкам. Фризам же в основном удалось сохранить свои земли. Именно в составе Франкского королевства население было обращено в христианство франкскими и англосаксонскими миссионера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Флаг Нидерландов (Голландии)"/>
          <p:cNvPicPr/>
          <p:nvPr/>
        </p:nvPicPr>
        <p:blipFill>
          <a:blip r:embed="rId1"/>
          <a:stretch/>
        </p:blipFill>
        <p:spPr>
          <a:xfrm>
            <a:off x="428760" y="214200"/>
            <a:ext cx="2143080" cy="15717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Герб Нидерландов (Голландии)"/>
          <p:cNvPicPr/>
          <p:nvPr/>
        </p:nvPicPr>
        <p:blipFill>
          <a:blip r:embed="rId2"/>
          <a:stretch/>
        </p:blipFill>
        <p:spPr>
          <a:xfrm>
            <a:off x="7143840" y="142920"/>
            <a:ext cx="1857240" cy="2000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0" y="100800"/>
            <a:ext cx="914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72727"/>
                </a:solidFill>
                <a:latin typeface="Tahoma"/>
                <a:ea typeface="Calibri"/>
              </a:rPr>
              <a:t>Столица Нидерландов, 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  <a:ea typeface="Calibri"/>
              </a:rPr>
              <a:t>Амстердам,</a:t>
            </a:r>
            <a:r>
              <a:rPr b="0" lang="ru-RU" sz="1600" spc="-1" strike="noStrike">
                <a:solidFill>
                  <a:srgbClr val="272727"/>
                </a:solidFill>
                <a:latin typeface="Tahoma"/>
                <a:ea typeface="Calibri"/>
              </a:rPr>
              <a:t> лежит на берегах залива Эй и реки Амстель. Возникшее в конце XII века маленькое рыбацкое поселение разрослось и превратилось в самый крупный город страны, её финансовый и культурный центр. Население Амстердама достигает полутора миллиона человек, учитывая пригороды. Хотя Амстердам и является столицей Нидерландов, столицей провинции, где он находится, является другой город Голландии </a:t>
            </a:r>
            <a:r>
              <a:rPr b="0" lang="ru-RU" sz="1600" spc="-1" strike="noStrike">
                <a:solidFill>
                  <a:srgbClr val="272727"/>
                </a:solidFill>
                <a:latin typeface="Calibri"/>
                <a:ea typeface="Calibri"/>
              </a:rPr>
              <a:t>–</a:t>
            </a:r>
            <a:r>
              <a:rPr b="0" lang="ru-RU" sz="1600" spc="-1" strike="noStrike">
                <a:solidFill>
                  <a:srgbClr val="272727"/>
                </a:solidFill>
                <a:latin typeface="Tahoma"/>
                <a:ea typeface="Calibri"/>
              </a:rPr>
              <a:t> Харлем. А правительство страны располагается в Гааг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2" descr="Амстердам - описание"/>
          <p:cNvPicPr/>
          <p:nvPr/>
        </p:nvPicPr>
        <p:blipFill>
          <a:blip r:embed="rId1"/>
          <a:stretch/>
        </p:blipFill>
        <p:spPr>
          <a:xfrm>
            <a:off x="1500120" y="1928880"/>
            <a:ext cx="6429600" cy="450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1:09:02Z</dcterms:created>
  <dc:creator>Марина</dc:creator>
  <dc:description/>
  <dc:language>en-US</dc:language>
  <cp:lastModifiedBy>Марина</cp:lastModifiedBy>
  <dcterms:modified xsi:type="dcterms:W3CDTF">2010-05-03T10:05:09Z</dcterms:modified>
  <cp:revision>13</cp:revision>
  <dc:subject/>
  <dc:title>Что такое БЕНИЛЮКС?</dc:title>
</cp:coreProperties>
</file>