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293-A980-421E-A1E2-8534D07E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51B-BE93-4599-AF3D-42107CEB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220-3B22-48C4-A4F0-DC3A623B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381-A753-4C38-B26E-D9E023D4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47A-973C-45D7-97A4-7D4AC3A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704-A7E7-4CBC-B83C-37F3F8A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83C-63A8-4556-BE20-8F2B0BD7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C63-EF17-4655-9485-957C999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87B-F058-4593-A2CE-F67191D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F6D-B40C-47F0-B348-EB84E54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114-4B78-494F-A02C-9247F65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F58-2CD7-480F-828D-C09E9A1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BFB-84B7-409F-B261-6FAE2A3C1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netherlands.destinations.ru/hagu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therlands.destinations.ru/delf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netherlands.destinations.ru/maastricht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netherlands.destinations.ru/rotterdam" TargetMode="External"/><Relationship Id="rId3" Type="http://schemas.openxmlformats.org/officeDocument/2006/relationships/hyperlink" Target="http://click02.begun.ru/click.jsp?url=Lr8WXJSSk5IMmJ7xGxGaa33Zz6IDQ88Q6GES3xIfruGb*stbMGZ7WK7-h1Mdo*rzTKxsykwlvqVXzMfE3A2koxO8L2xvSFY9rUgtTC4CJwVEMEU*UvnS8-KNrhtaNS59ouJ3ZUkSLv7PeWKSFm7F0wTedfED5xCUXc8SLlBeXnm7AtuDEDLN0QJwvSlHgyfydHGbbpYcTU-masp3eSOL3S9woxw9cxZTec4Qo97oAMylYDjUcPLz1RdIKF9PetL5t7yVOqIQM0OUeDs927left3fH-eCYnyF7d2ZvErdQbo71LtlxDcKpEh5Cq*IbGP9AQp-MegS1WlBobOuB51H8lFd-HhZA3xDxdX3IA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uchyofluxembourg.com/" TargetMode="External"/><Relationship Id="rId2" Type="http://schemas.openxmlformats.org/officeDocument/2006/relationships/hyperlink" Target="http://ostranah.ru/luxembourg/flag.php" TargetMode="External"/><Relationship Id="rId3" Type="http://schemas.openxmlformats.org/officeDocument/2006/relationships/image" Target="../media/image19.png"/><Relationship Id="rId4" Type="http://schemas.openxmlformats.org/officeDocument/2006/relationships/hyperlink" Target="http://ostranah.ru/luxembourg/emblem.php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53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duchyofluxembourg.com/foto/func,detail/id,22/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duchyofluxembourg.com/foto/func,detail/id,40/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duchyofluxembourg.com/foto/func,detail/id,30/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35/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40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duchyofluxembourg.com/foto/func,detail/id,39/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duchyofluxembourg.com/foto/func,detail/id,38/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duchyofluxembourg.com/foto/func,detail/id,37/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duchyofluxembourg.com/foto/func,detail/id,36/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duchyofluxembourg.com/foto/func,detail/id,35/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duchyofluxembourg.com/foto/func,detail/id,34/" TargetMode="External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uchyofluxembourg.com/foto/func,detail/id,21/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duchyofluxembourg.com/foto/func,detail/id,20/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duchyofluxembourg.com/foto/func,detail/id,20/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duchyofluxembourg.com/foto/func,detail/id,18/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duchyofluxembourg.com/foto/func,detail/id,19/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duchyofluxembourg.com/foto/func,detail/id,17/" TargetMode="External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БЕНИЛЮК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е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ь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и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ерланд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юкс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ембур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857240" y="1643040"/>
            <a:ext cx="5500800" cy="4786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118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Гаага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Не смотря на то, что Амстердам является национальной столицей, Гаага была всегда местом нахождения парламента, правительства страны и официальной резиденцией голландских монархов. В очаровательном центре города располагаются множество правительственных зданий, отличных музеев, роскошных особняков, великолепных площадей и пар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20484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1"/>
              </a:rPr>
              <a:t>Дельфт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Дельфт, наверное, самый красивый город во всей Голландии. Фасады зданий, построенных в готическом стиле и стиле эпохи Возрождения, отражают его многовековую красоту, а воздух наполнен ощущением споко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Нидерланды - лучшие достопримечательности"/>
          <p:cNvPicPr/>
          <p:nvPr/>
        </p:nvPicPr>
        <p:blipFill>
          <a:blip r:embed="rId2"/>
          <a:stretch/>
        </p:blipFill>
        <p:spPr>
          <a:xfrm>
            <a:off x="1214280" y="1500120"/>
            <a:ext cx="6786720" cy="514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6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428840" y="1643040"/>
            <a:ext cx="6500880" cy="450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13356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Маастрихт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Маастрихт, основанный римлянами в 50 г. до н. э., является самым старым городом в Голландии. Маастрихт привлекает туристов со всего мира не только своей богатой историей, но и своей особенной крас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7" descr="Нидерланды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1071720" y="1643040"/>
            <a:ext cx="7286400" cy="485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17360"/>
            <a:ext cx="914400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2"/>
              </a:rPr>
              <a:t>Роттердам</a:t>
            </a:r>
            <a:br>
              <a:rPr sz="1600"/>
            </a:b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Роттердам - это самый современный город в Нидерландах, который сильно отличается от всех других городов страны. Здесь вместо характерных для Голландии узеньких улиц и извилистых каналов располагаются просторные, шикарны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ahoma"/>
                <a:ea typeface="Calibri"/>
                <a:hlinkClick r:id="rId3"/>
              </a:rPr>
              <a:t>торговые пассажи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, современные здания и самая занятая гавань оке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18810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Официальное название страны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Великое герцогство Люксембург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(Grand Duche de Luxembourg, Grand Duchy of Luxembourg). В переводе со старонемецкого Люксембург означает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малый замок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. Люксембург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западно-европейское государство. На севере и западе граничит с Бельгией, на востоке - с Германией, на юге - с Францией. Вместе с Бельгией и Нидерландами Люксембург входит в так называемый Бенилюкс.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Площадь Люксембурга 2600 кв. км, больше любой другой европейской карликовой страны. Население страны около 440 тысяч человек, средняя плотность населения около 164 человек на кв. км, официальные языки - немецкий и французский. Помимо двух государственных языков, граждане Люксембурга в бытовых ситуациях часто говорят на люксембургском языке (нижне-германский диалект с сильным французским влиянием), и, кроме того, многие владеют английским. На одной газетной полосе зачастую можно видеть материалы на разных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3240"/>
            <a:ext cx="9144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юксембу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Флаг Люксембург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Герб Люксембург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142920"/>
            <a:ext cx="1762200" cy="171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571680"/>
            <a:ext cx="8501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од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юксембур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олица) - был основан более 1000 лет назад. Это красивый, аккуратный и оживленный город. Самые разнообразные по архитектуре мосты, конусы и шпили дворцов и кирх, памятники, парки, здания разных времен и стилей образуют очень гармоничный ансамбл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является культурным центром герцогства, здесь действует Национальная библиотека, Муниципальный театр, консерватория, Симфонический оркестр люксембургского радио и киностудия. Особого внимания заслуживает Национальный музей. В нем собрано множество экспонатов: мраморный бюст Септимия Севера, бронзовые статуэтки римской эпохи, надгробия и фрагменты средневековой скульптуры, коллекция минералов, предметы декоративно-прикладного искусства, интерьеры XVIII-XIX вв. и прекрасные картины немецких, нидерландских и голландских мастеров живописи (Л. Кранах, Й. ван Клеве, Ф. Хале, А. Остаде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duchyofluxembourg.com/components/com_datsogallery/img_thumbnails/luxemburg12_20070108_12655109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http://duchyofluxembourg.com/components/com_datsogallery/img_thumbnails/echtenach0_20070108_115633381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357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http://duchyofluxembourg.com/components/com_datsogallery/img_thumbnails/clervaux6_20070108_144797382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7160" y="357192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duchyofluxembourg.com/components/com_datsogallery/img_thumbnails/echtenach8_20070108_152220325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72040" y="3643200"/>
            <a:ext cx="3214800" cy="30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duchyofluxembourg.com/components/com_datsogallery/img_thumbnails/clervaux1_20070108_19041794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3929040" cy="6143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http://duchyofluxembourg.com/components/com_datsogallery/img_pictures/luxemburg7_20070108_1425006453.jpg"/>
          <p:cNvPicPr/>
          <p:nvPr/>
        </p:nvPicPr>
        <p:blipFill>
          <a:blip r:embed="rId3"/>
          <a:stretch/>
        </p:blipFill>
        <p:spPr>
          <a:xfrm>
            <a:off x="4786200" y="357120"/>
            <a:ext cx="4214880" cy="607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2" descr="http://duchyofluxembourg.com/components/com_datsogallery/img_thumbnails/clervaux6_20070108_14479738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428760"/>
            <a:ext cx="3000240" cy="2881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3" descr="http://duchyofluxembourg.com/components/com_datsogallery/img_thumbnails/clervaux5_20070108_14181009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643200"/>
            <a:ext cx="2000520" cy="2238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4" descr="http://duchyofluxembourg.com/components/com_datsogallery/img_thumbnails/clervaux4_20070108_165886018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428760"/>
            <a:ext cx="250056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5" descr="http://duchyofluxembourg.com/components/com_datsogallery/img_thumbnails/clervaux3_20070108_207428003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3680" y="3643200"/>
            <a:ext cx="1857240" cy="221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6" descr="http://duchyofluxembourg.com/components/com_datsogallery/img_thumbnails/clervaux2_20070108_206947114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5840" y="428760"/>
            <a:ext cx="27144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7" descr="http://duchyofluxembourg.com/components/com_datsogallery/img_thumbnails/clervaux1_20070108_1904179493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5120" y="3500280"/>
            <a:ext cx="1714680" cy="235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8" descr="http://duchyofluxembourg.com/components/com_datsogallery/img_thumbnails/clervaux0_20070108_1851821166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2960" y="3643200"/>
            <a:ext cx="2000160" cy="22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7286760" y="357120"/>
          <a:ext cx="333360" cy="249480"/>
        </p:xfrm>
        <a:graphic>
          <a:graphicData uri="http://schemas.openxmlformats.org/drawingml/2006/table">
            <a:tbl>
              <a:tblPr/>
              <a:tblGrid>
                <a:gridCol w="98640"/>
                <a:gridCol w="100800"/>
                <a:gridCol w="98640"/>
                <a:gridCol w="36000"/>
              </a:tblGrid>
              <a:tr h="249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286760" y="357120"/>
          <a:ext cx="333360" cy="249480"/>
        </p:xfrm>
        <a:graphic>
          <a:graphicData uri="http://schemas.openxmlformats.org/drawingml/2006/table">
            <a:tbl>
              <a:tblPr/>
              <a:tblGrid>
                <a:gridCol w="98640"/>
                <a:gridCol w="100800"/>
                <a:gridCol w="98640"/>
                <a:gridCol w="36000"/>
              </a:tblGrid>
              <a:tr h="249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ер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анд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http://duchyofluxembourg.com/components/com_datsogallery/img_thumbnails/vianden5_20070108_16361023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071720"/>
            <a:ext cx="2428920" cy="2643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http://duchyofluxembourg.com/components/com_datsogallery/img_thumbnails/vianden4_20070108_19339418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1000080"/>
            <a:ext cx="257184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http://duchyofluxembourg.com/components/com_datsogallery/img_thumbnails/vianden4_20070108_193394180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200" y="3929040"/>
            <a:ext cx="238140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duchyofluxembourg.com/components/com_datsogallery/img_thumbnails/vianden2_20070108_179840193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385776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http://duchyofluxembourg.com/components/com_datsogallery/img_thumbnails/vianden3_20070108_1025323148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71880" y="1071720"/>
            <a:ext cx="2428920" cy="2571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http://duchyofluxembourg.com/components/com_datsogallery/img_thumbnails/vianden1_20070108_1067715126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71880" y="3786120"/>
            <a:ext cx="250020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бенилюкс карта"/>
          <p:cNvPicPr/>
          <p:nvPr/>
        </p:nvPicPr>
        <p:blipFill>
          <a:blip r:embed="rId1"/>
          <a:stretch/>
        </p:blipFill>
        <p:spPr>
          <a:xfrm>
            <a:off x="214200" y="14292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http://duchyofluxembourg.com/components/com_datsogallery/img_thumbnails/echtenach4_20070108_1765282618.jpg"/>
          <p:cNvPicPr/>
          <p:nvPr/>
        </p:nvPicPr>
        <p:blipFill>
          <a:blip r:embed="rId1"/>
          <a:stretch/>
        </p:blipFill>
        <p:spPr>
          <a:xfrm>
            <a:off x="500040" y="1143000"/>
            <a:ext cx="342900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хтерн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duchyofluxembourg.com/components/com_datsogallery/img_thumbnails/echtenach3_20070108_1705654229.jpg"/>
          <p:cNvPicPr/>
          <p:nvPr/>
        </p:nvPicPr>
        <p:blipFill>
          <a:blip r:embed="rId2"/>
          <a:stretch/>
        </p:blipFill>
        <p:spPr>
          <a:xfrm>
            <a:off x="500040" y="435780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http://duchyofluxembourg.com/components/com_datsogallery/img_thumbnails/echtenach6_20070108_1490962593.jpg"/>
          <p:cNvPicPr/>
          <p:nvPr/>
        </p:nvPicPr>
        <p:blipFill>
          <a:blip r:embed="rId3"/>
          <a:stretch/>
        </p:blipFill>
        <p:spPr>
          <a:xfrm>
            <a:off x="4714920" y="1143000"/>
            <a:ext cx="3714840" cy="3071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http://duchyofluxembourg.com/components/com_datsogallery/img_thumbnails/echtenach2_20070108_1529246496.jpg"/>
          <p:cNvPicPr/>
          <p:nvPr/>
        </p:nvPicPr>
        <p:blipFill>
          <a:blip r:embed="rId4"/>
          <a:stretch/>
        </p:blipFill>
        <p:spPr>
          <a:xfrm>
            <a:off x="6072120" y="4357800"/>
            <a:ext cx="2714760" cy="2381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http://duchyofluxembourg.com/components/com_datsogallery/img_thumbnails/echtenach8_20070108_1522203252.jpg"/>
          <p:cNvPicPr/>
          <p:nvPr/>
        </p:nvPicPr>
        <p:blipFill>
          <a:blip r:embed="rId5"/>
          <a:stretch/>
        </p:blipFill>
        <p:spPr>
          <a:xfrm>
            <a:off x="3143160" y="4357800"/>
            <a:ext cx="2714760" cy="238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Бель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ьгия, или правильнее Королевство Бельгия, – небольшая западноевропейская страна. Ее площадь составляет – 30,51 тыс. км2. Территория Королевства Бельгия мала даже по европейским меркам. На первый взгляд это западноевропейское государство с красивыми домиками и коттеджами, ухоженными полями и широкими автострадами производит впечатление игрушеч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ьгия - эта маленькая страна, где самый отдаленный город страны находится всего в 2-х часах езды на поезде. Бельгия предложит Вам собственную культуру, свободную от влияния больших европейских столиц, местные говоры, возникшие на основе старинных диалектов, средневековые памятники, домики с занавесками на окнах, каналы с живописными мостами, увитыми плющом, "кролик в пиве", "писающий мальчик" и знаменитый на весь мир музей Мини - Европы, где сосредоточены более 100 миниатюрных макетов памятников истории и архитектуры Европы - все это Бельг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Флаг Бельгии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905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Герб Бельгии"/>
          <p:cNvPicPr/>
          <p:nvPr/>
        </p:nvPicPr>
        <p:blipFill>
          <a:blip r:embed="rId2"/>
          <a:stretch/>
        </p:blipFill>
        <p:spPr>
          <a:xfrm>
            <a:off x="7215120" y="214200"/>
            <a:ext cx="169092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57160" y="2142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рюссель 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олица Бель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http://img.turizm.ru/belgium/img/3.jpg"/>
          <p:cNvPicPr/>
          <p:nvPr/>
        </p:nvPicPr>
        <p:blipFill>
          <a:blip r:embed="rId1"/>
          <a:stretch/>
        </p:blipFill>
        <p:spPr>
          <a:xfrm>
            <a:off x="6072120" y="928800"/>
            <a:ext cx="2500560" cy="4357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http://img.turizm.ru/belgium/img/8.jpg"/>
          <p:cNvPicPr/>
          <p:nvPr/>
        </p:nvPicPr>
        <p:blipFill>
          <a:blip r:embed="rId2"/>
          <a:stretch/>
        </p:blipFill>
        <p:spPr>
          <a:xfrm>
            <a:off x="857160" y="1000080"/>
            <a:ext cx="500076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390840" y="3983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левский дворе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 flipH="1" flipV="1" rot="10800000">
            <a:off x="3570840" y="5244840"/>
            <a:ext cx="44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 столицы - Маннекен-Пис (скульптура писающего мальчик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http://img.turizm.ru/belgium/img/4.jpg"/>
          <p:cNvPicPr/>
          <p:nvPr/>
        </p:nvPicPr>
        <p:blipFill>
          <a:blip r:embed="rId1"/>
          <a:stretch/>
        </p:blipFill>
        <p:spPr>
          <a:xfrm>
            <a:off x="785880" y="571680"/>
            <a:ext cx="4143240" cy="4857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http://img.turizm.ru/belgium/img/9.jpg"/>
          <p:cNvPicPr/>
          <p:nvPr/>
        </p:nvPicPr>
        <p:blipFill>
          <a:blip r:embed="rId2"/>
          <a:stretch/>
        </p:blipFill>
        <p:spPr>
          <a:xfrm>
            <a:off x="5286240" y="500040"/>
            <a:ext cx="3643560" cy="4929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1000080" y="57294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к "Холм искусств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 flipV="1" rot="10800000">
            <a:off x="5213160" y="570204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рковь Св. Иакова, собор Нотр-Д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Дозорная башня"/>
          <p:cNvPicPr/>
          <p:nvPr/>
        </p:nvPicPr>
        <p:blipFill>
          <a:blip r:embed="rId1"/>
          <a:stretch/>
        </p:blipFill>
        <p:spPr>
          <a:xfrm>
            <a:off x="642960" y="857160"/>
            <a:ext cx="350028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Музей Грютхузе"/>
          <p:cNvPicPr/>
          <p:nvPr/>
        </p:nvPicPr>
        <p:blipFill>
          <a:blip r:embed="rId2"/>
          <a:stretch/>
        </p:blipFill>
        <p:spPr>
          <a:xfrm>
            <a:off x="5072040" y="857160"/>
            <a:ext cx="3262320" cy="4786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85840" y="5643720"/>
            <a:ext cx="828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рюгг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который часто называют "маленькая Венеция", - один из самых удивительных городов Европы. По городу протянулись каналы, через которые перекинуты живописные мосты, увитые плющом. Вдоль каналов расположились небольшие средневековые домики. Весь город проникнут атмосферой романтизма и средневековой истории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img.turizm.ru/belgium/img/14.jpg"/>
          <p:cNvPicPr/>
          <p:nvPr/>
        </p:nvPicPr>
        <p:blipFill>
          <a:blip r:embed="rId1"/>
          <a:stretch/>
        </p:blipFill>
        <p:spPr>
          <a:xfrm>
            <a:off x="357120" y="714240"/>
            <a:ext cx="3929040" cy="4643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http://img.turizm.ru/belgium/img/15.jpg"/>
          <p:cNvPicPr/>
          <p:nvPr/>
        </p:nvPicPr>
        <p:blipFill>
          <a:blip r:embed="rId2"/>
          <a:stretch/>
        </p:blipFill>
        <p:spPr>
          <a:xfrm>
            <a:off x="5000760" y="714240"/>
            <a:ext cx="3500280" cy="4643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57120" y="564372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т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род с 250 тысячным населением является формальной столицей Фланд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149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идерланд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Голланд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15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ая территория Нидерландов была заселена в эпоху неолита. Во 2-й половине 1 тыс. до н.э. здесь жили кельтские племена. К началу нашей эры сюда переселились и германские племена, наиболее многочисленными из которых были фризы. Сперва фризы обосновались на побережье Северного моря т. е. на территории нынешней Фрисландии и Гронингена. В последующие века распространились на запад и юг. В свою очередь германские племена батавов расселились в устье Рейна и Мааса и на расположенных там островах. образованием Франкского королевства в 5 в. территория Нидерландов вошла в его состав, а затем - в империю Карла Великого. Карл I покорил фризов и саксов. Практиковалось переселение саксов с обжитых ими земель во Франкское государство, а земли их раздавали франкам. Фризам же в основном удалось сохранить свои земли. Именно в составе Франкского королевства население было обращено в христианство франкскими и англосаксонскими миссионер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Флаг Нидерландов (Голландии)"/>
          <p:cNvPicPr/>
          <p:nvPr/>
        </p:nvPicPr>
        <p:blipFill>
          <a:blip r:embed="rId1"/>
          <a:stretch/>
        </p:blipFill>
        <p:spPr>
          <a:xfrm>
            <a:off x="428760" y="214200"/>
            <a:ext cx="214308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Герб Нидерландов (Голландии)"/>
          <p:cNvPicPr/>
          <p:nvPr/>
        </p:nvPicPr>
        <p:blipFill>
          <a:blip r:embed="rId2"/>
          <a:stretch/>
        </p:blipFill>
        <p:spPr>
          <a:xfrm>
            <a:off x="7143840" y="142920"/>
            <a:ext cx="185724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10080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Столица Нидерландов,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  <a:ea typeface="Calibri"/>
              </a:rPr>
              <a:t>Амстердам,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 лежит на берегах залива Эй и реки Амстель. Возникшее в конце XII века маленькое рыбацкое поселение разрослось и превратилось в самый крупный город страны, её финансовый и культурный центр. Население Амстердама достигает полутора миллиона человек, учитывая пригороды. Хотя Амстердам и является столицей Нидерландов, столицей провинции, где он находится, является другой город Голландии </a:t>
            </a:r>
            <a:r>
              <a:rPr b="0" lang="ru-RU" sz="1600" spc="-1" strike="noStrike">
                <a:solidFill>
                  <a:srgbClr val="272727"/>
                </a:solidFill>
                <a:latin typeface="Calibri"/>
                <a:ea typeface="Calibri"/>
              </a:rPr>
              <a:t>–</a:t>
            </a:r>
            <a:r>
              <a:rPr b="0" lang="ru-RU" sz="1600" spc="-1" strike="noStrike">
                <a:solidFill>
                  <a:srgbClr val="272727"/>
                </a:solidFill>
                <a:latin typeface="Tahoma"/>
                <a:ea typeface="Calibri"/>
              </a:rPr>
              <a:t> Харлем. А правительство страны располагается в Га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Амстердам - описание"/>
          <p:cNvPicPr/>
          <p:nvPr/>
        </p:nvPicPr>
        <p:blipFill>
          <a:blip r:embed="rId1"/>
          <a:stretch/>
        </p:blipFill>
        <p:spPr>
          <a:xfrm>
            <a:off x="1500120" y="1928880"/>
            <a:ext cx="6429600" cy="45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1:09:02Z</dcterms:created>
  <dc:creator>Марина</dc:creator>
  <dc:description/>
  <dc:language>en-US</dc:language>
  <cp:lastModifiedBy>Марина</cp:lastModifiedBy>
  <dcterms:modified xsi:type="dcterms:W3CDTF">2010-05-03T10:05:09Z</dcterms:modified>
  <cp:revision>13</cp:revision>
  <dc:subject/>
  <dc:title>Что такое БЕНИЛЮКС?</dc:title>
</cp:coreProperties>
</file>