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F63-06AB-47F1-AAFD-6B70465A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33E-91A8-42EE-BA06-0C5C2D2A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A50-7C48-4B55-949A-F830FA48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B34-182B-427F-A3B2-BD818ED1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CED-9855-4654-9B0C-D8F0E2ED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157-6F0E-403C-A52B-1EC80B8E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CFEE-EB9B-43B0-8A82-0821857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AB3-C768-4E40-8921-63ECA19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0455-C629-4B3F-88B8-735FD4C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5134-8F3E-4D58-96AE-BA28DAF0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F59-80E9-4692-BF91-7381AB15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E77-272C-488A-AD71-B11E9AB4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19A0-31E3-496A-83CD-71A0AFDC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3BA-C440-4BB2-87CD-12DF789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820-9D58-44A6-8D88-24DC146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95A5-BBD5-494C-9F23-CF465CEC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BC1-F11E-41D8-B23A-58E7E9E3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30E-5AD1-435C-9F48-9A765D7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5FE-A10D-4328-9ACB-731819E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ED2-0EEC-425F-AD00-4814CEE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67D-65EF-45E6-AF43-0259D9EE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62E-B1A4-4B1C-A3F2-165B7B8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016-800C-4ED4-AB98-E9B588A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07C-1138-47BC-8388-4B0D613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1F4B-70FF-4410-878D-EE9C21073F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A57B-B21F-46B6-AFAF-4FBF67412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 урока по теме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ЯГКИЙ ЗНАК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оставила учитель-логопед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роздова И. Н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нкт -Петербу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лебедь"/>
          <p:cNvPicPr/>
          <p:nvPr/>
        </p:nvPicPr>
        <p:blipFill>
          <a:blip r:embed="rId1"/>
          <a:stretch/>
        </p:blipFill>
        <p:spPr>
          <a:xfrm>
            <a:off x="1785960" y="2000160"/>
            <a:ext cx="56260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ая птица мож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ботать почтальон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олубь"/>
          <p:cNvPicPr/>
          <p:nvPr/>
        </p:nvPicPr>
        <p:blipFill>
          <a:blip r:embed="rId1"/>
          <a:stretch/>
        </p:blipFill>
        <p:spPr>
          <a:xfrm>
            <a:off x="2195640" y="1700280"/>
            <a:ext cx="45511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 будет лиш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овите зимующих и перелётных пти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5" descr="голубь"/>
          <p:cNvPicPr/>
          <p:nvPr/>
        </p:nvPicPr>
        <p:blipFill>
          <a:blip r:embed="rId1"/>
          <a:stretch/>
        </p:blipFill>
        <p:spPr>
          <a:xfrm>
            <a:off x="324000" y="2421000"/>
            <a:ext cx="181584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лебедь"/>
          <p:cNvPicPr/>
          <p:nvPr/>
        </p:nvPicPr>
        <p:blipFill>
          <a:blip r:embed="rId2"/>
          <a:stretch/>
        </p:blipFill>
        <p:spPr>
          <a:xfrm>
            <a:off x="2916360" y="249228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снегирь"/>
          <p:cNvPicPr/>
          <p:nvPr/>
        </p:nvPicPr>
        <p:blipFill>
          <a:blip r:embed="rId3"/>
          <a:stretch/>
        </p:blipFill>
        <p:spPr>
          <a:xfrm>
            <a:off x="6372360" y="2708280"/>
            <a:ext cx="1895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Игра в мяч</a:t>
            </a:r>
            <a:br>
              <a:rPr sz="4400"/>
            </a:b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 «Один – мног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бей- воробьи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бедь-леб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ица- синицы         Кукушка-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а- вороны         Скворец- сквор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ока- сороки          Аист-а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убь- голуби           Журавль-жура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ятел- дятлы            Ласточка-лас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Задания-карточки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Вставить Ь туда, где он нужен. Записать слова в тетрадь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ас_,  воз_,  лев_,  пыл_,  пар_,   окун_,   кон_,  стол_,слон_, выс_, звер_, огон_,ден_лебед-, снегир_,дятел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чего нужен мягкий зна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звуков обозначает мягкий зна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думайте слово, в котором букв будет больше, чем зв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ЛОДЦЫ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Логопедическая тема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: обозначение мягкости согласных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на письме  буквой -Ь-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мматическая т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сическая те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зимующие и перелётные пт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учить детей обозначать мягкость согласных на письме буквой –Ь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ление навыка правописания ь знака в конце сл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фонематического слу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звуко-буквенного анали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логового анализа и си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ование множественного числа имен существи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вязной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7"/>
                </a:solidFill>
                <a:latin typeface="Arial Black"/>
              </a:rPr>
              <a:t>Даны несколько картинок в  которых в конце пишется</a:t>
            </a:r>
            <a:br>
              <a:rPr sz="2800"/>
            </a:br>
            <a:r>
              <a:rPr b="0" i="1" lang="ru-RU" sz="2800" spc="-1" strike="noStrike">
                <a:solidFill>
                  <a:srgbClr val="ffffb7"/>
                </a:solidFill>
                <a:latin typeface="Arial Black"/>
              </a:rPr>
              <a:t> –Ь- и не пишется. Определи лишний предмет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28800" y="6858000"/>
            <a:ext cx="6516720" cy="29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766160" y="5876280"/>
            <a:ext cx="51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именам сущ. подобрать родственные сл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3143160" y="8286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14" descr="глухарь.BMP"/>
          <p:cNvPicPr/>
          <p:nvPr/>
        </p:nvPicPr>
        <p:blipFill>
          <a:blip r:embed="rId1"/>
          <a:stretch/>
        </p:blipFill>
        <p:spPr>
          <a:xfrm>
            <a:off x="826920" y="1916280"/>
            <a:ext cx="15433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ворон 2.jpg"/>
          <p:cNvPicPr/>
          <p:nvPr/>
        </p:nvPicPr>
        <p:blipFill>
          <a:blip r:embed="rId2"/>
          <a:stretch/>
        </p:blipFill>
        <p:spPr>
          <a:xfrm>
            <a:off x="2916360" y="155736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гусь дикий.BMP"/>
          <p:cNvPicPr/>
          <p:nvPr/>
        </p:nvPicPr>
        <p:blipFill>
          <a:blip r:embed="rId3"/>
          <a:stretch/>
        </p:blipFill>
        <p:spPr>
          <a:xfrm>
            <a:off x="5929200" y="1428840"/>
            <a:ext cx="2000520" cy="1743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журавль.jpg"/>
          <p:cNvPicPr/>
          <p:nvPr/>
        </p:nvPicPr>
        <p:blipFill>
          <a:blip r:embed="rId4"/>
          <a:stretch/>
        </p:blipFill>
        <p:spPr>
          <a:xfrm>
            <a:off x="928800" y="3643200"/>
            <a:ext cx="1422360" cy="1941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8" descr="воробей.BMP"/>
          <p:cNvPicPr/>
          <p:nvPr/>
        </p:nvPicPr>
        <p:blipFill>
          <a:blip r:embed="rId5"/>
          <a:stretch/>
        </p:blipFill>
        <p:spPr>
          <a:xfrm>
            <a:off x="3429000" y="3714840"/>
            <a:ext cx="1817640" cy="1476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9" descr="свиристель.jpg"/>
          <p:cNvPicPr/>
          <p:nvPr/>
        </p:nvPicPr>
        <p:blipFill>
          <a:blip r:embed="rId6"/>
          <a:stretch/>
        </p:blipFill>
        <p:spPr>
          <a:xfrm>
            <a:off x="6643800" y="3786120"/>
            <a:ext cx="1388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Прочитать слова парами .Сравнить по звучанию и написанию. Устно составить предложени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КАТ-ПЛАК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Сигнальщик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м, карусель, степь, дым, столб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ерь, гусь, постель, пар, кол, гря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лощадь, трость, час, винт, ма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втомобиль, журн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оставить слова из слогов и записать в тетрадь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  жу р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  глу  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с ки то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  ку  ку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в ны 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названии каких птиц в единственном числе пишется –ь-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Отгадай загадки</a:t>
            </a:r>
            <a:br>
              <a:rPr sz="4400"/>
            </a:br>
            <a:r>
              <a:rPr b="0" i="1" lang="ru-RU" sz="2000" spc="-1" strike="noStrike">
                <a:solidFill>
                  <a:srgbClr val="ffffb7"/>
                </a:solidFill>
                <a:latin typeface="Arial Black"/>
              </a:rPr>
              <a:t>Звуко-буквенный разбор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ый год я к вам леч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имовать у вас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о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ещё красней зим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рко-красный галстук м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снегирь"/>
          <p:cNvPicPr/>
          <p:nvPr/>
        </p:nvPicPr>
        <p:blipFill>
          <a:blip r:embed="rId1"/>
          <a:stretch/>
        </p:blipFill>
        <p:spPr>
          <a:xfrm>
            <a:off x="3286080" y="2214720"/>
            <a:ext cx="27828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доль по речке, по вод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лывет цариц вер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Шея длинна, нос кра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ая пти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48:09Z</dcterms:created>
  <dc:creator>Настя</dc:creator>
  <dc:description/>
  <dc:language>en-US</dc:language>
  <cp:lastModifiedBy>Main</cp:lastModifiedBy>
  <dcterms:modified xsi:type="dcterms:W3CDTF">2012-12-10T08:33:22Z</dcterms:modified>
  <cp:revision>9</cp:revision>
  <dc:subject/>
  <dc:title>Даны несколько картинок в  которых в конце пишется  –Ь- и не пишется. Определи лишний предмет </dc:title>
</cp:coreProperties>
</file>