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856AC3D5-5A1F-4166-B831-97810D0E67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D308E552-455E-409B-9C91-1EA2AB3907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F30DF0A3-FF3E-41BE-909C-2B7FE2E81F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445C77C1-1A49-444E-A775-41A428CCEB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6CD7FF2A-8A6A-49EA-92B4-7A8B16D0D3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6C2B98FD-56E2-4B97-A640-9393C40A5A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ECE-2082-40C5-892D-B17090B8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D73-55A6-4402-BF61-E03078C3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82C2-9655-4C2A-831E-3445C29D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2A7-9497-4369-9D0F-843ADDC9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39D-2149-4513-9FA6-9B11F9AB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889-D489-4D79-B703-DED25B16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90D-E69D-47DF-87DE-E327B3AB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4D7-36C2-4F96-A5CF-D1C519A1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388-7F2C-45F5-9082-C19DDF4A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E969-61A6-4C42-BE8A-244A6750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E9C-B1E4-49D6-96F7-394E0F0E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261-C98A-45BA-ADF0-10D114B4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641E269C-BD65-4AB7-AEC2-F621378F70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мпетентностный подход - это как привидение: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е о нем говорят, но мало кто его видел…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.Д. Элько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22228b"/>
                </a:solidFill>
                <a:latin typeface="Calibri"/>
              </a:rPr>
              <a:t>«ФОРМИРОВАНИЕ КЛЮЧЕВЫХ КОМПЕТЕНЦИЙ УЧАЩИХСЯ на уроках МАТЕМАТИКИ»</a:t>
            </a:r>
            <a:r>
              <a:rPr b="1" i="1" lang="ru-RU" sz="3600" spc="-1" strike="noStrike">
                <a:solidFill>
                  <a:srgbClr val="22228b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1800" spc="-1" strike="noStrike">
                <a:solidFill>
                  <a:srgbClr val="22228b"/>
                </a:solidFill>
                <a:latin typeface="Calibri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1800" spc="-1" strike="noStrike">
                <a:solidFill>
                  <a:srgbClr val="22228b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22228b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22228b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22228b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БОУ «ЛГ №27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ементьев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общекультурн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3280" y="1768320"/>
            <a:ext cx="92901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задач с информационно –  познавательной, исторической, экологической, здоровьесберегающей  направлен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составленных задач происходит на уроке учениками  с использованием слов: по сравнению с…, в отличие от…, предположим, вероятно, по-моему…, это имеет отношение к…, я делаю вывод…, я не согласен с…, я предпочитаю…, моя задача состоит 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общекультурн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2920" y="1767960"/>
            <a:ext cx="9069480" cy="532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получить суточную норму белков, школьнику необходимо съедать 200 гр. мяса в день. Сколько кг мяса необходимо съедать школьнику для нормального развития? Во сколько раз вес съеденного мяса превышает вес среднего школьника, если он весит в среднем  в 40 кг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ш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200 *365=73000(гр) мяса в го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73 000:1000=73 (к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73 : 40= 1,825 (раз) ≈ 2 (ра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73 кг;  1,825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)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три зимних месяца в школе гриппом переболело 25%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следующем году в школе сделать прививку против гриппа, то количество заболевших уменьшится на 15%. Сколько учащихся не заболеет, если в школе 800 учащихся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учебно-познавательн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76360" y="2556000"/>
            <a:ext cx="906912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ие практико-ориентированных задач  с практическим содержанием, ориентирующих учащихся на математические исследования явлений реального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ставлении задач учащиеся, анализируя, сравнивая, синтезируя, обобщая, конкретизируя фактический материал, сами получают из него новую ин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щиеся развивают умения организации целеполагания, планирования, анализа, рефлексии, самооценки учебно-познавательн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учебно-познавательн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2920" y="1767960"/>
            <a:ext cx="9069480" cy="53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,Italic"/>
              </a:rPr>
              <a:t>«Мама старше Юли в 3 раза, а Юля старше сестры Светы на 5 лет. Вместе им 55 лет. Сколько лет маме и сколько девочкам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Полезно дать ученикам уже составленные урав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а) (х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5)+х+3х=5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б) х+(х+5)+3(х+5)=55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в) х+(х+5)+3х=5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,Italic"/>
              </a:rPr>
              <a:t>Ответить на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а) Какая величина принята за неизвестное в каждом случа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б) Правильно ли составлены уравнения? Если есть ошибочно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    уравнение, найди его и укажи, в чем ошиб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в) Чем различаются между собой правильно составленны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Italic"/>
              </a:rPr>
              <a:t>    уравн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учебно-познавательн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Объект 2" descr=""/>
          <p:cNvPicPr/>
          <p:nvPr/>
        </p:nvPicPr>
        <p:blipFill>
          <a:blip r:embed="rId1"/>
          <a:stretch/>
        </p:blipFill>
        <p:spPr>
          <a:xfrm>
            <a:off x="274680" y="1670040"/>
            <a:ext cx="92962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информационн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000" y="177948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0840" indent="-33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при составлении задач различных источников информации: книги, газеты, журналы, справочники, энциклопедии, интер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дея навыками использования информационных устройств, ориентируясь в информационных потоках, уметь выделять в них главное и необходим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5" descr="4.png"/>
          <p:cNvPicPr/>
          <p:nvPr/>
        </p:nvPicPr>
        <p:blipFill>
          <a:blip r:embed="rId1"/>
          <a:stretch/>
        </p:blipFill>
        <p:spPr>
          <a:xfrm>
            <a:off x="7112160" y="2994120"/>
            <a:ext cx="27432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информационн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2640" indent="-51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рожайное время года (осенью) цены на овощи понизились в среднем на 35 %, а к зиме они повысились на 15% по сравнению с прошлогодними ценами. На сколько процентов подорожали овощи по сравнению с осен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Апельсины подорожали на 25%. Скольк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ельсинов можно теперь купить на те же деньги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оторые раньше покупали 4,5 к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социально-трудов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 algn="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 на применение геометрического 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 на стоимость тов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, встречающи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пределенно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ональ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коммуникативн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разумевает использование различных коллективных приёмов на занятиях математико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бота в группе, па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искусс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идактические игры и друг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ичного само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формирования готовности к самообразованию учащимся необходимо предлагать самостоятельно изучить некоторый теоретический материал, составить задачу , формировать умения работать самостоятельно с различными источниками информации, а имен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спользовать доклады, короткие сообщения учащихся по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ботать со справочник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спользовать Интернет-ресурс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готавливать през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2640" indent="-512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это способность     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ученика использовать усвоенные знания, учебные умения и навыки, а также способы деятельности в жизни для решения практических и теоретических задач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1277926087_8e28bea376c3.jpg"/>
          <p:cNvPicPr/>
          <p:nvPr/>
        </p:nvPicPr>
        <p:blipFill>
          <a:blip r:embed="rId1"/>
          <a:stretch/>
        </p:blipFill>
        <p:spPr>
          <a:xfrm>
            <a:off x="144360" y="4932360"/>
            <a:ext cx="2571840" cy="23572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4968720" y="611280"/>
            <a:ext cx="4967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Arial"/>
              </a:rPr>
              <a:t>Компетенция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Анализ входной контрольной работы по математ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br>
              <a:rPr sz="44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 выполнения КР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03280" y="1768320"/>
          <a:ext cx="9069480" cy="5042160"/>
        </p:xfrm>
        <a:graphic>
          <a:graphicData uri="http://schemas.openxmlformats.org/drawingml/2006/table">
            <a:tbl>
              <a:tblPr/>
              <a:tblGrid>
                <a:gridCol w="3097080"/>
                <a:gridCol w="1368360"/>
                <a:gridCol w="1440000"/>
                <a:gridCol w="1584360"/>
                <a:gridCol w="1579680"/>
              </a:tblGrid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исал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ли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: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 и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%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ыпол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%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ач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0012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пустили ошиб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16000" y="1768320"/>
          <a:ext cx="9648720" cy="5653080"/>
        </p:xfrm>
        <a:graphic>
          <a:graphicData uri="http://schemas.openxmlformats.org/drawingml/2006/table">
            <a:tbl>
              <a:tblPr/>
              <a:tblGrid>
                <a:gridCol w="4825800"/>
                <a:gridCol w="48229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1) Математическая задач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ходе решения задач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ходе решения задачи-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2) Пример на все дейс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определении порядка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йствии-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и выполнении умножения-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читания-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ложения-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ления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определении поряд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йствии-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и выполнении умножения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читания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ложения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ления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,5%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3) В преобразовании величи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лины –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ремени –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сс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 %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лин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3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ремени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сс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%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пустили ошиб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0360" y="1619280"/>
          <a:ext cx="9285120" cy="5272200"/>
        </p:xfrm>
        <a:graphic>
          <a:graphicData uri="http://schemas.openxmlformats.org/drawingml/2006/table">
            <a:tbl>
              <a:tblPr/>
              <a:tblGrid>
                <a:gridCol w="4641840"/>
                <a:gridCol w="4643280"/>
              </a:tblGrid>
              <a:tr h="917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4) Решение уравн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хождении неизв. вычитаемого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лимого –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числитель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и нахождени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изв. уменьшаемого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читаемого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лимого –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лителя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%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66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5) Геометрическая задач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нахождении периметра-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лощади -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%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нахождении длины прямоуг-ка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лощади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%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числительная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65744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авнительная таблица качества выполнения и успеваемости в конце 4 класса и на начало 5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03280" y="2050920"/>
          <a:ext cx="9069480" cy="4611960"/>
        </p:xfrm>
        <a:graphic>
          <a:graphicData uri="http://schemas.openxmlformats.org/drawingml/2006/table">
            <a:tbl>
              <a:tblPr/>
              <a:tblGrid>
                <a:gridCol w="1814400"/>
                <a:gridCol w="1814760"/>
                <a:gridCol w="1812600"/>
                <a:gridCol w="1814760"/>
                <a:gridCol w="1812960"/>
              </a:tblGrid>
              <a:tr h="922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певае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2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88,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2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85,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2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2420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 выполненных работ показал, ч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ошибки, допущенные при выполнении работы таков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нание таблицы умн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ложении, делении и умножении натураль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хождении периметра, площ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формлении решения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равнении </a:t>
            </a:r>
            <a:r>
              <a:rPr b="1" lang="ru-RU" sz="3200" spc="-1" strike="noStrike">
                <a:solidFill>
                  <a:srgbClr val="000000"/>
                </a:solidFill>
                <a:latin typeface="Script MT Bold"/>
                <a:ea typeface="Times New Roman"/>
              </a:rPr>
              <a:t>величи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воде из одной единицы измерения в друг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оприятия, направленные на устранение допущенных ошиб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ально проанализировать результаты данной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ршенствовать навыки вычислительной техники с использованием заданий устного счета; карточек – консульта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ть задания по теме «Периметр фигур» в устном сч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Arial"/>
              </a:rPr>
              <a:t>Ключевые компетенции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ностно–смысл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культур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о–познаватель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–труд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ого совершенств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атематическая компет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пособность структурировать данные (ситуацию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членять математические отнош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вать математическую модель ситуа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ировать и преобразовывать 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претировать полученные результ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Arial"/>
              </a:rPr>
              <a:t>Устный счет: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920" y="1619280"/>
            <a:ext cx="906948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55000"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 Найдите сум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199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23 м 9 см + 48 м 96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199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14ч 37 мин + 8 ч 46 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199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5 лет 7 мес. + 9 лет 6 м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199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23 кг 46 г + 18 кг 957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. Выполните действ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12 кг 65 г – 3 кг 75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16 р. 7 к – 12 р. 9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38 мин 16 с – 29 мин 48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29 сут 9 ч – 17 сут 18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Arial"/>
              </a:rPr>
              <a:t>Устный счет: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2920" y="1619280"/>
            <a:ext cx="906948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199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 Выполните умно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6 ц 78 кг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7 р 9 к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6 ч 15 мин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4 сут. 6 ч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199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. Выполните деление (устно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3 кг :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8 р 10 к :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5 ц 40 кг : 6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3 ч 20 мин :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Arial"/>
              </a:rPr>
              <a:t>Задача:</a:t>
            </a:r>
            <a:r>
              <a:rPr b="1" lang="ru-RU" sz="49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2640" indent="-512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360360" y="1908000"/>
            <a:ext cx="921708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 сказки «Красная шапочка» француз Шарль Перро родился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628 г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 «Сказки о Рыбаке и рыбк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С. Пушкин родился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71 г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зж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автор сказки «Три медведя» Л.Н. Толстой родилс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 29 лет позж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С. Пушкина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лет прошло со дн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ждения авторов любим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тских сказок до наши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н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Arial"/>
              </a:rPr>
              <a:t>Формирование ценностно-смысловой компетенции.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2124000"/>
            <a:ext cx="878508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 решении задач  прикладного характе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ина комнаты 7м 60 см, а ширина 6 м. Сколько рулонов обоев потребуется для оклейки комнаты, если длина 10м при ширине рулона 50 с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учебно-познавательной компетен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2920" y="1768320"/>
            <a:ext cx="906948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па Карло решил купить для Буратино новую курточку за 2000 рублей, но пока он копил деньги, цены на одежду выросли на 25%. Сколько теперь должен заплатить папа Карло за новую курт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атино и Мальвина собирали грибы. Буратино собрал 1,59 кг, что составило 30%. Сколько килограммов грибов собрала Мальви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priklyucheniya_buratino.jpg"/>
          <p:cNvPicPr/>
          <p:nvPr/>
        </p:nvPicPr>
        <p:blipFill>
          <a:blip r:embed="rId1"/>
          <a:stretch/>
        </p:blipFill>
        <p:spPr>
          <a:xfrm>
            <a:off x="5326200" y="4923000"/>
            <a:ext cx="2928960" cy="2184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bur_karlo.jpg"/>
          <p:cNvPicPr/>
          <p:nvPr/>
        </p:nvPicPr>
        <p:blipFill>
          <a:blip r:embed="rId2"/>
          <a:stretch/>
        </p:blipFill>
        <p:spPr>
          <a:xfrm>
            <a:off x="1254240" y="4923000"/>
            <a:ext cx="32144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08:35:03Z</dcterms:created>
  <dc:creator>User</dc:creator>
  <dc:description/>
  <dc:language>en-US</dc:language>
  <cp:lastModifiedBy>User</cp:lastModifiedBy>
  <dcterms:modified xsi:type="dcterms:W3CDTF">2012-12-10T19:25:42Z</dcterms:modified>
  <cp:revision>224</cp:revision>
  <dc:subject/>
  <dc:title>Слайд 1</dc:title>
</cp:coreProperties>
</file>