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20D01B5-D4A0-4690-B8CF-A7D188933E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F1F150F-5DAA-4BCE-81FE-ED01E47FE3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8DD19A2-A224-401B-93C5-AFF2540D41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C7B1400-DF8E-43A4-8732-97AFDD2BFB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1C80830-1C53-47CD-923D-59ECE2D32F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5A70370-6897-484F-B9A3-431F2DEC03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F9A-C4C1-441D-B457-D349D84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DB3-C1F2-4EED-8200-395E2402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80B-7CF9-47D1-BCBA-28AB1A72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0B1-260E-48CC-9378-036A9E80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360-095B-4B6A-BC43-043B4F6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134-41CF-41E1-8DCC-2565030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A73-C9A5-4FB3-A6B5-487E67EF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A6F-E64B-4AC6-9A04-49A54E6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2CF-A6DC-44A1-9B00-D37B40F5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94C-0645-4B1E-9A33-17619C8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F9A-720C-44F0-AA74-2B9EDA2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167-41AE-4B51-8443-39BE3F1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92C2664-EB5C-4687-9C2E-4E9E54B4A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мпетентностный подход - это как привидение: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 о нем говорят, но мало кто его видел…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Д. Эльк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Calibri"/>
              </a:rPr>
              <a:t>«ФОРМИРОВАНИЕ КЛЮЧЕВЫХ КОМПЕТЕНЦИЙ УЧАЩИХСЯ на уроках МАТЕМАТИКИ»</a:t>
            </a:r>
            <a:r>
              <a:rPr b="1" i="1" lang="ru-RU" sz="3600" spc="-1" strike="noStrike">
                <a:solidFill>
                  <a:srgbClr val="22228b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ЛГ №2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ментье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общекультур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3280" y="1768320"/>
            <a:ext cx="92901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задач с информационно –  познавательной, исторической, экологической, здоровьесберегающей  направл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оставленных задач происходит на уроке учениками  с использованием слов: по сравнению с…, в отличие от…, предположим, вероятно, по-моему…, это имеет отношение к…, я делаю вывод…, я не согласен с…, я предпочитаю…, моя задача состои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общекультур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" y="1767960"/>
            <a:ext cx="906948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олучить суточную норму белков, школьнику необходимо съедать 200 гр. мяса в день. Сколько кг мяса необходимо съедать школьнику для нормального развития? Во сколько раз вес съеденного мяса превышает вес среднего школьника, если он весит в среднем  в 40 к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00 *365=73000(гр) мяса в г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73 000:1000=73 (к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73 : 40= 1,825 (раз) ≈ 2 (р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73 кг;  1,82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три зимних месяца в школе гриппом переболело 25%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ледующем году в школе сделать прививку против гриппа, то количество заболевших уменьшится на 15%. Сколько учащихся не заболеет, если в школе 800 учащихся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76360" y="2556000"/>
            <a:ext cx="90691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рактико-ориентированных задач  с практическим содержанием, ориентирующих учащихся на математические исследования явлений реального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ставлении задач учащиеся, анализируя, сравнивая, синтезируя, обобщая, конкретизируя фактический материал, сами получают из него новую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развивают умения организации целеполагания, планирования, анализа, рефлексии, самооценки учебно-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7960"/>
            <a:ext cx="9069480" cy="53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,Italic"/>
              </a:rPr>
              <a:t>«Мама старше Юли в 3 раза, а Юля старше сестры Светы на 5 лет. Вместе им 55 лет. Сколько лет маме и сколько девочкам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Полезно дать ученикам уже составленные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а) (х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5)+х+3х=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б) х+(х+5)+3(х+5)=5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в) х+(х+5)+3х=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Ответить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а) Какая величина принята за неизвестное в каждом случа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б) Правильно ли составлены уравнения? Если есть ошибочно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уравнение, найди его и укажи, в чем ошиб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в) Чем различаются между собой правильно составленн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у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2" descr=""/>
          <p:cNvPicPr/>
          <p:nvPr/>
        </p:nvPicPr>
        <p:blipFill>
          <a:blip r:embed="rId1"/>
          <a:stretch/>
        </p:blipFill>
        <p:spPr>
          <a:xfrm>
            <a:off x="274680" y="1670040"/>
            <a:ext cx="9296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информацион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7794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ри составлении задач различных источников информации: книги, газеты, журналы, справочники, энциклопедии,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я навыками использования информационных устройств, ориентируясь в информационных потоках, уметь выделять в них главное и необход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5" descr="4.png"/>
          <p:cNvPicPr/>
          <p:nvPr/>
        </p:nvPicPr>
        <p:blipFill>
          <a:blip r:embed="rId1"/>
          <a:stretch/>
        </p:blipFill>
        <p:spPr>
          <a:xfrm>
            <a:off x="7112160" y="2994120"/>
            <a:ext cx="27432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информацион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рожайное время года (осенью) цены на овощи понизились в среднем на 35 %, а к зиме они повысились на 15% по сравнению с прошлогодними ценами. На сколько процентов подорожали овощи по сравнению с осен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Апельсины подорожали на 25%. Скольк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ельсинов можно теперь купить на те же деньг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торые раньше покупали 4,5 к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социально-трудов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применение геометрического 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стоимость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, встречаю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ределен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коммуникатив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умевает использование различных коллективных приёмов на занятиях математик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та в группе,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скусс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дактические игры и друг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чного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ирования готовности к самообразованию учащимся необходимо предлагать самостоятельно изучить некоторый теоретический материал, составить задачу , формировать умения работать самостоятельно с различными источниками информации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ть доклады, короткие сообщения учащихс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ть со справочни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ть Интернет-ресур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готавливать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это способность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ученика использовать усвоенные знания, учебные умения и навыки, а также способы деятельности в жизни для решения практических и теоретических зада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1277926087_8e28bea376c3.jpg"/>
          <p:cNvPicPr/>
          <p:nvPr/>
        </p:nvPicPr>
        <p:blipFill>
          <a:blip r:embed="rId1"/>
          <a:stretch/>
        </p:blipFill>
        <p:spPr>
          <a:xfrm>
            <a:off x="144360" y="4932360"/>
            <a:ext cx="2571840" cy="2357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4968720" y="611280"/>
            <a:ext cx="4967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Компетенц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нализ входной контрольной работы 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выполнения КР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3280" y="1768320"/>
          <a:ext cx="9069480" cy="5042160"/>
        </p:xfrm>
        <a:graphic>
          <a:graphicData uri="http://schemas.openxmlformats.org/drawingml/2006/table">
            <a:tbl>
              <a:tblPr/>
              <a:tblGrid>
                <a:gridCol w="3097080"/>
                <a:gridCol w="1368360"/>
                <a:gridCol w="1440000"/>
                <a:gridCol w="1584360"/>
                <a:gridCol w="1579680"/>
              </a:tblGrid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исал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и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%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%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устили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6000" y="1768320"/>
          <a:ext cx="9648720" cy="5653080"/>
        </p:xfrm>
        <a:graphic>
          <a:graphicData uri="http://schemas.openxmlformats.org/drawingml/2006/table">
            <a:tbl>
              <a:tblPr/>
              <a:tblGrid>
                <a:gridCol w="4825800"/>
                <a:gridCol w="4822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) Математическая зада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ходе решения задач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ходе решения задачи-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) Пример на все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определении порядк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и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выполнении умноже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ения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определении поряд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и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выполнении умнож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5%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) В преобразовании велич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ины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ремени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с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 %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и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ремени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сс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%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устили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0360" y="1619280"/>
          <a:ext cx="9285120" cy="5272200"/>
        </p:xfrm>
        <a:graphic>
          <a:graphicData uri="http://schemas.openxmlformats.org/drawingml/2006/table">
            <a:tbl>
              <a:tblPr/>
              <a:tblGrid>
                <a:gridCol w="4641840"/>
                <a:gridCol w="4643280"/>
              </a:tblGrid>
              <a:tr h="91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) Решение уравн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хождении неизв. вычитаемог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мого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сл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нахождени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изв. уменьшаемого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емого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мого 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тел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66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) Геометрическая зада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нахождении периметра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ощади 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нахождении длины прямоуг-ка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ощади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слительна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65744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ая таблица качества выполнения и успеваемости в конце 4 класса и на начало 5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03280" y="2050920"/>
          <a:ext cx="9069480" cy="4611960"/>
        </p:xfrm>
        <a:graphic>
          <a:graphicData uri="http://schemas.openxmlformats.org/drawingml/2006/table">
            <a:tbl>
              <a:tblPr/>
              <a:tblGrid>
                <a:gridCol w="1814400"/>
                <a:gridCol w="1814760"/>
                <a:gridCol w="1812600"/>
                <a:gridCol w="1814760"/>
                <a:gridCol w="1812960"/>
              </a:tblGrid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2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8,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выполненных работ показал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ошибки, допущенные при выполнении работы тако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ние таблицы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ложении, делении и умножении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хождении периметра,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формлении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равнении </a:t>
            </a:r>
            <a:r>
              <a:rPr b="1" lang="ru-RU" sz="32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велич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воде из одной единицы измерения в дру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, направленные на устранение допущенных ошиб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ально проанализировать результаты дан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ть навыки вычислительной техники с использованием заданий устного счета; карточек – консульта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задания по теме «Периметр фигур» в устном сч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Ключевые компетенции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ностно–смысл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культур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–познаватель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–труд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тематическая компет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пособность структурировать данные (ситуацию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ленять математические отно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математическую модель ситу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овать и преобразовывать 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ировать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Устный счет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619280"/>
            <a:ext cx="906948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5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 Найдите су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3 м 9 см + 48 м 9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14ч 37 мин + 8 ч 46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5 лет 7 мес. + 9 лет 6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23 кг 46 г + 18 кг 957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Выполните дей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12 кг 65 г – 3 кг 7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16 р. 7 к – 12 р. 9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38 мин 16 с – 29 мин 48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29 сут 9 ч – 17 сут 18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Устный счет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920" y="16192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6 ц 78 кг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7 р 9 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6 ч 15 ми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4 сут. 6 ч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Выполните деление (устн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3 кг 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8 р 10 к 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5 ц 40 кг : 6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3 ч 20 мин 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Задача:</a:t>
            </a: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60360" y="1908000"/>
            <a:ext cx="92170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сказки «Красная шапочка» француз Шарль Перро родился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28 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«Сказки о Рыбаке и рыб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 родился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71 г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зж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автор сказки «Три медведя» Л.Н. Толстой род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29 лет поз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а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лет прошло со дн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я авторов любим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их сказок до наши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ой компетенции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2124000"/>
            <a:ext cx="878508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решении задач  прикладного характ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комнаты 7м 60 см, а ширина 6 м. Сколько рулонов обоев потребуется для оклейки комнаты, если длина 10м при ширине рулона 5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а Карло решил купить для Буратино новую курточку за 2000 рублей, но пока он копил деньги, цены на одежду выросли на 25%. Сколько теперь должен заплатить папа Карло за новую курт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атино и Мальвина собирали грибы. Буратино собрал 1,59 кг, что составило 30%. Сколько килограммов грибов собрала Мальв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priklyucheniya_buratino.jpg"/>
          <p:cNvPicPr/>
          <p:nvPr/>
        </p:nvPicPr>
        <p:blipFill>
          <a:blip r:embed="rId1"/>
          <a:stretch/>
        </p:blipFill>
        <p:spPr>
          <a:xfrm>
            <a:off x="5326200" y="4923000"/>
            <a:ext cx="2928960" cy="218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bur_karlo.jpg"/>
          <p:cNvPicPr/>
          <p:nvPr/>
        </p:nvPicPr>
        <p:blipFill>
          <a:blip r:embed="rId2"/>
          <a:stretch/>
        </p:blipFill>
        <p:spPr>
          <a:xfrm>
            <a:off x="1254240" y="4923000"/>
            <a:ext cx="32144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8:35:03Z</dcterms:created>
  <dc:creator>User</dc:creator>
  <dc:description/>
  <dc:language>en-US</dc:language>
  <cp:lastModifiedBy>User</cp:lastModifiedBy>
  <dcterms:modified xsi:type="dcterms:W3CDTF">2012-12-10T19:25:42Z</dcterms:modified>
  <cp:revision>224</cp:revision>
  <dc:subject/>
  <dc:title>Слайд 1</dc:title>
</cp:coreProperties>
</file>