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7325-7792-4B17-85AF-1D3BCA26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8B0E-272A-4F5C-A8E4-69261512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A266-0EB7-4612-B956-691630C0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3EC2-AA0B-4055-9702-05AF47250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30A4-A8C3-4ED7-838F-6D842B86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BF38-6EAD-42DE-9853-1D6CEF5C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9F93-11BD-4052-BC9A-E298460D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6624-C182-434E-9999-DF8AE488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E446-7A8E-4903-8B29-BABA1C43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5608-E2AB-47F5-AE79-422A27E4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F97C-D036-47E7-BE8E-ACEE7415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1C38-4B30-432C-9573-C7B3C1A7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F717-1455-4F5C-BEFE-204E7134F6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47.radikal.ru/i117/0911/12/9ededb423cbb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techspb.ru/img/page_img/10015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eltabello.ru/published/publicdata/SCELTABELLR7Y4H/attachments/SC/products_pictures/hlop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lexium.ru/images/2009/10/perfo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lki.ru/Txt/ToolBar/0801/Theory/Main/tape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.shutterstock.com/display_pic_with_logo/10382/10382,1210334301,1/stock-photo-old-paper-on-brown-wood-texture-with-natural-patterns-12390925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lsn.zurbazar.ru/netcat_files/317/332/provoloka_3_orig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vkf-renzel.com/img/hq/1/1100047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pitcomp.ru/catalog/samsung/samsung_hdd/1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072.radikal.ru/0911/99/446bbca3af76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domakomp.ru/wp-content/uploads/Disketa.jpg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Bookman Old Style"/>
              </a:rPr>
              <a:t>Хранение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33"/>
                </a:solidFill>
                <a:uFillTx/>
                <a:latin typeface="Arial"/>
              </a:rPr>
              <a:t>Носит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материальный объект, используемый для записи и хранения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33"/>
                </a:solidFill>
                <a:uFillTx/>
                <a:latin typeface="Arial"/>
              </a:rPr>
              <a:t>Характеристики носител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информационная ёмкость, надёжность, долговрем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Использование бумажных носите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258920" y="134136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век н.э.   Кита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Картинка 4 из 38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44640"/>
            <a:ext cx="4676760" cy="38098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5003640" y="1052640"/>
            <a:ext cx="38894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й Лун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зобретатель бума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Картинка 5 из 388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1989000"/>
            <a:ext cx="3348360" cy="4464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Картинка 5 из 29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333360"/>
            <a:ext cx="2457360" cy="302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Картинка 17 из 435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3598920"/>
            <a:ext cx="3384720" cy="3062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Картинка 2 из 11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3917880"/>
            <a:ext cx="4213080" cy="273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Картинка 2 из 1148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859280" y="333360"/>
            <a:ext cx="26305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Использование магнитных носите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556000" y="1268280"/>
            <a:ext cx="417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век – магнитная запис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24000" y="184464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альная провол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Картинка 1 из 114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349360"/>
            <a:ext cx="3457440" cy="32245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3995640" y="184464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0-е г.г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в. – магнитная л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Картинка 6 из 753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341440"/>
            <a:ext cx="4608360" cy="3191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4" descr="Картинка 16 из 26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1628640"/>
            <a:ext cx="3529080" cy="352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Картинка 24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4305240"/>
            <a:ext cx="3402000" cy="25527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Использование магнитных носите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340000" y="1052640"/>
            <a:ext cx="468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60-е г.г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в. – магнитная дис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395280" y="155736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ибкие магнитные ди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643280" y="155736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Жёсткие магнитные ди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Картинка 5 из 43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4000" y="2060640"/>
            <a:ext cx="3809880" cy="2790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Использование оптических дисков и           флэш-памя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250920" y="1052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80-е г.г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в. – оптический или лазерный способ записи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79280" y="191628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пакт-диск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211640" y="1844640"/>
            <a:ext cx="47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ифровой универсальный видеодиск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verbatim-cmc-cd"/>
          <p:cNvPicPr/>
          <p:nvPr/>
        </p:nvPicPr>
        <p:blipFill>
          <a:blip r:embed="rId1"/>
          <a:stretch/>
        </p:blipFill>
        <p:spPr>
          <a:xfrm>
            <a:off x="179280" y="2565360"/>
            <a:ext cx="3791160" cy="3809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Картинка 18 из 64000"/>
          <p:cNvPicPr/>
          <p:nvPr/>
        </p:nvPicPr>
        <p:blipFill>
          <a:blip r:embed="rId2"/>
          <a:stretch/>
        </p:blipFill>
        <p:spPr>
          <a:xfrm>
            <a:off x="4788000" y="27082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Использование оптических дисков и           флэш-памя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395280" y="1557360"/>
            <a:ext cx="396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лэш-кар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4572000" y="1557360"/>
            <a:ext cx="396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лэш-брелок (2001 г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Картинка 5 из 50781"/>
          <p:cNvPicPr/>
          <p:nvPr/>
        </p:nvPicPr>
        <p:blipFill>
          <a:blip r:embed="rId1"/>
          <a:stretch/>
        </p:blipFill>
        <p:spPr>
          <a:xfrm>
            <a:off x="324000" y="2133720"/>
            <a:ext cx="3590640" cy="3809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Картинка 12 из 3281"/>
          <p:cNvPicPr/>
          <p:nvPr/>
        </p:nvPicPr>
        <p:blipFill>
          <a:blip r:embed="rId2"/>
          <a:stretch/>
        </p:blipFill>
        <p:spPr>
          <a:xfrm>
            <a:off x="4356000" y="2637000"/>
            <a:ext cx="4048200" cy="28670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484360" y="333360"/>
            <a:ext cx="4032360" cy="86364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Носители информац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348000" y="3645000"/>
            <a:ext cx="10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250920" y="2637000"/>
            <a:ext cx="1728720" cy="237636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сториче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мен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е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пиру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гамен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ёлк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250920" y="5157720"/>
            <a:ext cx="1728720" cy="86364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времен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м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268360" y="1413000"/>
            <a:ext cx="6551640" cy="863640"/>
          </a:xfrm>
          <a:prstGeom prst="rect">
            <a:avLst/>
          </a:prstGeom>
          <a:noFill/>
          <a:ln w="1584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Цифровые (компьютер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2268360" y="2637000"/>
            <a:ext cx="2232360" cy="86328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гни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4500720" y="2637000"/>
            <a:ext cx="2087280" cy="86328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п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6588000" y="2637000"/>
            <a:ext cx="2232000" cy="86328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лэш-нос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2340000" y="3645000"/>
            <a:ext cx="10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2916360" y="4508640"/>
            <a:ext cx="10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4572000" y="3645000"/>
            <a:ext cx="93672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5508720" y="3645000"/>
            <a:ext cx="93636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6659640" y="3645000"/>
            <a:ext cx="10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0"/>
          <p:cNvSpPr/>
          <p:nvPr/>
        </p:nvSpPr>
        <p:spPr>
          <a:xfrm>
            <a:off x="7667640" y="3645000"/>
            <a:ext cx="100800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ел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1"/>
          <p:cNvSpPr/>
          <p:nvPr/>
        </p:nvSpPr>
        <p:spPr>
          <a:xfrm>
            <a:off x="250920" y="1413000"/>
            <a:ext cx="1728720" cy="863640"/>
          </a:xfrm>
          <a:prstGeom prst="rect">
            <a:avLst/>
          </a:prstGeom>
          <a:noFill/>
          <a:ln w="1584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Нецифр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2340000" y="5589720"/>
            <a:ext cx="6408720" cy="86364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спективные виды носителе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ители на базе нанотехн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6:10:13Z</dcterms:created>
  <dc:creator>Пользователь</dc:creator>
  <dc:description/>
  <dc:language>en-US</dc:language>
  <cp:lastModifiedBy>Administrator</cp:lastModifiedBy>
  <dcterms:modified xsi:type="dcterms:W3CDTF">2010-09-21T11:00:16Z</dcterms:modified>
  <cp:revision>14</cp:revision>
  <dc:subject/>
  <dc:title>Хранение информации</dc:title>
</cp:coreProperties>
</file>