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C3E-A0FB-4DB4-B9CA-2180ED24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A16-868A-46D6-8AD5-522B8DA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EF6-0B9A-4420-9844-A0A6AB66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60A-29C7-44A7-844C-BBB525CD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D58-2B08-4BF9-8585-DB7CB20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F03-2436-4E4C-8332-87E20AEC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C26-7E4E-4AE2-B368-5940666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10C-BCC4-4B59-937D-988B9FF1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BFA-5896-4ECD-97AC-AEFBF53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812-2278-4060-8B9D-9DC527D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003-AE34-4106-9556-088CE76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D20-453B-49DA-B2B0-70EA972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1123-1FB1-4263-AD25-9A395A148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47.radikal.ru/i117/0911/12/9ededb423cb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techspb.ru/img/page_img/10015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eltabello.ru/published/publicdata/SCELTABELLR7Y4H/attachments/SC/products_pictures/hlop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exium.ru/images/2009/10/perfo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lki.ru/Txt/ToolBar/0801/Theory/Main/tape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.shutterstock.com/display_pic_with_logo/10382/10382,1210334301,1/stock-photo-old-paper-on-brown-wood-texture-with-natural-patterns-12390925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sn.zurbazar.ru/netcat_files/317/332/provoloka_3_orig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vkf-renzel.com/img/hq/1/1100047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pitcomp.ru/catalog/samsung/samsung_hdd/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072.radikal.ru/0911/99/446bbca3af76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domakomp.ru/wp-content/uploads/Disketa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Bookman Old Style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Нос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материальный объект, используемый для записи и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Характеристики носи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информационная ёмкость, надёжность, долгов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бумажных нос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258920" y="134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ек н.э.   Кит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Картинка 4 из 38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467676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003640" y="1052640"/>
            <a:ext cx="3889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й Лун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обретатель бум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Картинка 5 из 38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1989000"/>
            <a:ext cx="334836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Картинка 5 из 2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33360"/>
            <a:ext cx="2457360" cy="302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Картинка 17 из 43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598920"/>
            <a:ext cx="3384720" cy="306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Картинка 2 из 11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917880"/>
            <a:ext cx="42130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Картинка 2 из 1148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333360"/>
            <a:ext cx="2630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магнитных нос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56000" y="126828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ек – магнитная запи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4000" y="184464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льная провол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Картинка 1 из 114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349360"/>
            <a:ext cx="3457440" cy="3224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995640" y="1844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0-е г.г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 – магнитная л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Картинка 6 из 75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341440"/>
            <a:ext cx="4608360" cy="3191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Картинка 16 из 2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628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305240"/>
            <a:ext cx="3402000" cy="255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магнитных нос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340000" y="105264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0-е г.г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– магнитная ди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95280" y="1557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б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43280" y="155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ёст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Картинка 5 из 43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206064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оптических дисков и           флэш-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50920" y="1052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0-е г.г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– оптический или лазерный способ записи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79280" y="1916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акт-диск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211640" y="184464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фровой универсальный видеодиск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verbatim-cmc-cd"/>
          <p:cNvPicPr/>
          <p:nvPr/>
        </p:nvPicPr>
        <p:blipFill>
          <a:blip r:embed="rId1"/>
          <a:stretch/>
        </p:blipFill>
        <p:spPr>
          <a:xfrm>
            <a:off x="179280" y="2565360"/>
            <a:ext cx="379116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Картинка 18 из 64000"/>
          <p:cNvPicPr/>
          <p:nvPr/>
        </p:nvPicPr>
        <p:blipFill>
          <a:blip r:embed="rId2"/>
          <a:stretch/>
        </p:blipFill>
        <p:spPr>
          <a:xfrm>
            <a:off x="478800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оптических дисков и           флэш-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5280" y="155736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лэш-ка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572000" y="155736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лэш-брелок (2001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Картинка 5 из 50781"/>
          <p:cNvPicPr/>
          <p:nvPr/>
        </p:nvPicPr>
        <p:blipFill>
          <a:blip r:embed="rId1"/>
          <a:stretch/>
        </p:blipFill>
        <p:spPr>
          <a:xfrm>
            <a:off x="324000" y="2133720"/>
            <a:ext cx="359064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12 из 3281"/>
          <p:cNvPicPr/>
          <p:nvPr/>
        </p:nvPicPr>
        <p:blipFill>
          <a:blip r:embed="rId2"/>
          <a:stretch/>
        </p:blipFill>
        <p:spPr>
          <a:xfrm>
            <a:off x="4356000" y="2637000"/>
            <a:ext cx="4048200" cy="2867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484360" y="333360"/>
            <a:ext cx="4032360" cy="8636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Носители информ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34800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50920" y="2637000"/>
            <a:ext cx="1728720" cy="237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тор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ир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гаме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ёлк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50920" y="5157720"/>
            <a:ext cx="1728720" cy="863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68360" y="1413000"/>
            <a:ext cx="6551640" cy="863640"/>
          </a:xfrm>
          <a:prstGeom prst="rect">
            <a:avLst/>
          </a:prstGeom>
          <a:noFill/>
          <a:ln w="158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Цифровые (компьютер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68360" y="2637000"/>
            <a:ext cx="223236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гни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500720" y="2637000"/>
            <a:ext cx="208728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6588000" y="2637000"/>
            <a:ext cx="223200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лэш-нос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34000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916360" y="450864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572000" y="3645000"/>
            <a:ext cx="93672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5508720" y="3645000"/>
            <a:ext cx="93636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665964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766764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250920" y="1413000"/>
            <a:ext cx="1728720" cy="863640"/>
          </a:xfrm>
          <a:prstGeom prst="rect">
            <a:avLst/>
          </a:prstGeom>
          <a:noFill/>
          <a:ln w="158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ециф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340000" y="5589720"/>
            <a:ext cx="6408720" cy="863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спективные виды носите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ители на базе нано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10:13Z</dcterms:created>
  <dc:creator>Пользователь</dc:creator>
  <dc:description/>
  <dc:language>en-US</dc:language>
  <cp:lastModifiedBy>Administrator</cp:lastModifiedBy>
  <dcterms:modified xsi:type="dcterms:W3CDTF">2010-09-21T11:00:16Z</dcterms:modified>
  <cp:revision>14</cp:revision>
  <dc:subject/>
  <dc:title>Хранение информации</dc:title>
</cp:coreProperties>
</file>