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3D19-EBE1-44F9-9EF7-F6DA77D7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5D45-2D55-4495-94A1-4B7526D8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33CB-D7E2-486A-BA51-F9D791ED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59C4-EA10-4956-8649-E19B3286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1366-7359-4D20-9920-94A91D63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F76E-20CB-4102-B459-B524CDD0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3A24-2853-48F3-824D-B8D2D3DA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5F4D-6EE2-4748-8DAD-CD23070C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6DFB-A6B1-478D-9DF1-207F2C4F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ABDC-9ABD-4FA3-9E37-58FAD15B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E232-D485-411B-BFCA-3C4D07AA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BF50-14F0-486A-9FC7-AFBDCEC5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F2ED-3EB9-4505-9D9B-8C3EA4BA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1978-E423-4BAE-87ED-05AE8AD7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4EAC-B84C-449D-817D-66F31A6D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7793-65D9-4111-B8EE-BBFEE29E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39A6-24AE-4492-8045-443FB85D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4BF2-E917-49AF-9573-CFABC269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3A99-AE86-4F9B-B1FD-EC2A3A7A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B57C-EF7E-4099-9EAC-0654A0DF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3E0F-01FD-43BD-9406-9CE9FAA2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88FA-B9A1-4749-A016-89B15D03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4396-A9F8-4BCD-9477-04F25874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7DD8-51EA-4ACF-B279-C4F41C3B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834B-7FEB-4C71-9426-3B7DCE9F11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04A8-1897-4D0C-9491-C0F1DBD908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ef6"/>
                </a:solidFill>
                <a:latin typeface="Arial"/>
              </a:rPr>
              <a:t>Компьютерные  Вирусы.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5" name="Picture 6" descr="j0285750"/>
          <p:cNvPicPr/>
          <p:nvPr/>
        </p:nvPicPr>
        <p:blipFill>
          <a:blip r:embed="rId1"/>
          <a:stretch/>
        </p:blipFill>
        <p:spPr>
          <a:xfrm>
            <a:off x="835200" y="2719440"/>
            <a:ext cx="6634080" cy="33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иды антивирусных программ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аммы-детект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аммы-доктора или фа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аммы-ревиз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аммы фильт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аммы вакцины или имуннизат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650"/>
                            </p:stCondLst>
                            <p:childTnLst>
                              <p:par>
                                <p:cTn id="263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279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Чтобы не подвергнуть компьютер заражению нужно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астить компьютер антивирус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рять все дискеты с информацией на наличие вир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рять файлы после разархив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рять жесткие диски на наличие вир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йте архивные копии на гибких дис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оставляйте дискетки в дисководе при загрузке компьют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300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6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12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100"/>
                            </p:stCondLst>
                            <p:childTnLst>
                              <p:par>
                                <p:cTn id="318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400"/>
                            </p:stCondLst>
                            <p:childTnLst>
                              <p:par>
                                <p:cTn id="324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Краткая классификация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а обит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ерационная сист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алгоритма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структивная возмож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Oval 4"/>
          <p:cNvSpPr/>
          <p:nvPr/>
        </p:nvSpPr>
        <p:spPr>
          <a:xfrm>
            <a:off x="3564000" y="0"/>
            <a:ext cx="2065320" cy="17953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грузочные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635280" y="4933800"/>
            <a:ext cx="2087640" cy="19242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етев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395280" y="2421000"/>
            <a:ext cx="2065320" cy="19224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айлов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6877080" y="2421000"/>
            <a:ext cx="2016000" cy="19224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Мак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8"/>
          <p:cNvSpPr/>
          <p:nvPr/>
        </p:nvSpPr>
        <p:spPr>
          <a:xfrm>
            <a:off x="3635280" y="2421000"/>
            <a:ext cx="2016360" cy="18511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 среде обитания вирусы можно разделить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9"/>
          <p:cNvSpPr/>
          <p:nvPr/>
        </p:nvSpPr>
        <p:spPr>
          <a:xfrm>
            <a:off x="5651640" y="3357720"/>
            <a:ext cx="122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10"/>
          <p:cNvSpPr/>
          <p:nvPr/>
        </p:nvSpPr>
        <p:spPr>
          <a:xfrm>
            <a:off x="4572000" y="1773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11"/>
          <p:cNvSpPr/>
          <p:nvPr/>
        </p:nvSpPr>
        <p:spPr>
          <a:xfrm>
            <a:off x="2411280" y="335772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12"/>
          <p:cNvSpPr/>
          <p:nvPr/>
        </p:nvSpPr>
        <p:spPr>
          <a:xfrm>
            <a:off x="4643280" y="422100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5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60" nodeType="afterEffect" fill="hold" presetClass="entr" presetID="38">
                                  <p:stCondLst>
                                    <p:cond delay="200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7800"/>
                            </p:stCondLst>
                            <p:childTnLst>
                              <p:par>
                                <p:cTn id="6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6800"/>
                            </p:stCondLst>
                            <p:childTnLst>
                              <p:par>
                                <p:cTn id="76" nodeType="afterEffect" fill="hold" presetClass="entr" presetID="38">
                                  <p:stCondLst>
                                    <p:cond delay="200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Среди особенностей алгоритма работы вирусов выделяются следующие пункты: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зиден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стелс-алгоритм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шифрование и полиморфи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нестандартных прием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200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3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620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500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30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200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30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340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400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30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По деструктивным возможностям вирусы можно разделить на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0" name="Picture 5" descr="Взрыв"/>
          <p:cNvPicPr/>
          <p:nvPr/>
        </p:nvPicPr>
        <p:blipFill>
          <a:blip r:embed="rId1"/>
          <a:stretch/>
        </p:blipFill>
        <p:spPr>
          <a:xfrm>
            <a:off x="468360" y="2133720"/>
            <a:ext cx="4027320" cy="333504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54080" y="1600200"/>
            <a:ext cx="4032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звред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опас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ас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чень опас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56">
                                  <p:stCondLst>
                                    <p:cond delay="200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132" nodeType="afterEffect" fill="hold" presetClass="entr" presetID="56">
                                  <p:stCondLst>
                                    <p:cond delay="200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2200"/>
                            </p:stCondLst>
                            <p:childTnLst>
                              <p:par>
                                <p:cTn id="139" nodeType="afterEffect" fill="hold" presetClass="entr" presetID="56">
                                  <p:stCondLst>
                                    <p:cond delay="200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9800"/>
                            </p:stCondLst>
                            <p:childTnLst>
                              <p:par>
                                <p:cTn id="146" nodeType="afterEffect" fill="hold" presetClass="entr" presetID="56">
                                  <p:stCondLst>
                                    <p:cond delay="200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ризнаки появления вируса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кращение работы или неправильная работа ранее успешно функционирующих програ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дленная работа 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возможность загрузки оперативной 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чезновение файлов и каталогов или искажение их содержим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29" descr="hm00492_"/>
          <p:cNvPicPr/>
          <p:nvPr/>
        </p:nvPicPr>
        <p:blipFill>
          <a:blip r:embed="rId5"/>
          <a:stretch/>
        </p:blipFill>
        <p:spPr>
          <a:xfrm>
            <a:off x="4856040" y="1768320"/>
            <a:ext cx="3219480" cy="372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ение даты и времени модификации фай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ение размеров фай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количества файлов на дис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ньшение размера свободной оперативной памя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10" descr="j0404261"/>
          <p:cNvPicPr/>
          <p:nvPr/>
        </p:nvPicPr>
        <p:blipFill>
          <a:blip r:embed="rId5"/>
          <a:stretch/>
        </p:blipFill>
        <p:spPr>
          <a:xfrm>
            <a:off x="4788000" y="2421000"/>
            <a:ext cx="3744720" cy="366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вод на экран непредусмотренных сообщений или изобра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ача непредусмотренных звуковых сигна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стые зависания и сбои в работе компьют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8" descr="j0409506"/>
          <p:cNvPicPr/>
          <p:nvPr/>
        </p:nvPicPr>
        <p:blipFill>
          <a:blip r:embed="rId4"/>
          <a:stretch/>
        </p:blipFill>
        <p:spPr>
          <a:xfrm>
            <a:off x="5211720" y="1600200"/>
            <a:ext cx="2914560" cy="45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Методы защиты. Антивирусы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2" name="Picture 7" descr="810049"/>
          <p:cNvPicPr/>
          <p:nvPr/>
        </p:nvPicPr>
        <p:blipFill>
          <a:blip r:embed="rId1"/>
          <a:stretch/>
        </p:blipFill>
        <p:spPr>
          <a:xfrm>
            <a:off x="1305000" y="1600200"/>
            <a:ext cx="6534000" cy="45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2:49:58Z</dcterms:created>
  <dc:creator>Антон</dc:creator>
  <dc:description/>
  <dc:language>en-US</dc:language>
  <cp:lastModifiedBy>SERG</cp:lastModifiedBy>
  <dcterms:modified xsi:type="dcterms:W3CDTF">2012-12-10T19:49:49Z</dcterms:modified>
  <cp:revision>64</cp:revision>
  <dc:subject/>
  <dc:title>ВИРУСЫ</dc:title>
</cp:coreProperties>
</file>