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10FA-CD89-4113-A980-68C45D05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A339-36EF-41E3-A18C-293FC69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1338-34F1-4D98-B4E5-6EABB2E2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0ACC-F544-402A-858F-9BE95005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17CD-3A58-460E-A93D-65E3FE5F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D08-8109-4C7C-8415-BA746AA4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873A-2370-4106-BCA5-603778D4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5D3D-D188-4743-8AD7-432E7F1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D697-4FDF-40DF-BE13-CBEFB214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012-6757-4586-9F3E-F939352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5E0C-64C1-421B-8D00-1B6FB9D6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AD26-5009-4791-B92F-A3D2E7AB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5BE-5FFC-4348-BB03-3868B504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7EBD-D709-4078-88CF-857AE96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0EE2-3382-4B95-A265-3DF30803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19C1-2D2D-4195-956A-E59BBDD5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634E-0D3A-493E-B64A-34007828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BB3C-7C8C-4F66-8BDA-9B21785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5CFA-BC73-4CD9-9E61-11485D44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E877-8AA5-4B51-AE0E-EAD436A3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9273-FDEC-49F8-B791-8304A2D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4E7D-3D95-4F8F-A672-4932CB2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FF6C-AA34-4199-8E31-41FD977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CCBD-568E-4069-92CC-8BD7A21F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3A9-3493-4F3A-AA66-76F5C1F3E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34C9-3485-4002-A6B6-AFE0A33075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ef6"/>
                </a:solidFill>
                <a:latin typeface="Arial"/>
              </a:rPr>
              <a:t>Компьютерные  Вирусы.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6" descr="j0285750"/>
          <p:cNvPicPr/>
          <p:nvPr/>
        </p:nvPicPr>
        <p:blipFill>
          <a:blip r:embed="rId1"/>
          <a:stretch/>
        </p:blipFill>
        <p:spPr>
          <a:xfrm>
            <a:off x="835200" y="2719440"/>
            <a:ext cx="6634080" cy="33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антивирусных программ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-детек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-доктора или фа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-ревиз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 филь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 вакцины или имунниза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279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Чтобы не подвергнуть компьютер заражению нужно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астить компьютер антивиру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ть все дискеты с информацией на наличие вир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ть файлы после разархив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ть жесткие диски на наличие вир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йте архивные копии на гибких дис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ставляйте дискетки в дисководе при загрузке компью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30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2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100"/>
                            </p:stCondLst>
                            <p:childTnLst>
                              <p:par>
                                <p:cTn id="318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400"/>
                            </p:stCondLst>
                            <p:childTnLst>
                              <p:par>
                                <p:cTn id="324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Краткая классификаци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алгоритма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структивная возмож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Oval 4"/>
          <p:cNvSpPr/>
          <p:nvPr/>
        </p:nvSpPr>
        <p:spPr>
          <a:xfrm>
            <a:off x="3564000" y="0"/>
            <a:ext cx="2065320" cy="17953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грузочные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635280" y="4933800"/>
            <a:ext cx="2087640" cy="19242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ете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395280" y="2421000"/>
            <a:ext cx="2065320" cy="1922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айл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6877080" y="2421000"/>
            <a:ext cx="2016000" cy="1922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ак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3635280" y="2421000"/>
            <a:ext cx="2016360" cy="18511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среде обитания вирусы можно разделить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5651640" y="335772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0"/>
          <p:cNvSpPr/>
          <p:nvPr/>
        </p:nvSpPr>
        <p:spPr>
          <a:xfrm>
            <a:off x="4572000" y="17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1"/>
          <p:cNvSpPr/>
          <p:nvPr/>
        </p:nvSpPr>
        <p:spPr>
          <a:xfrm>
            <a:off x="2411280" y="335772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12"/>
          <p:cNvSpPr/>
          <p:nvPr/>
        </p:nvSpPr>
        <p:spPr>
          <a:xfrm>
            <a:off x="4643280" y="4221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60" nodeType="after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7800"/>
                            </p:stCondLst>
                            <p:childTnLst>
                              <p:par>
                                <p:cTn id="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6800"/>
                            </p:stCondLst>
                            <p:childTnLst>
                              <p:par>
                                <p:cTn id="76" nodeType="after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реди особенностей алгоритма работы вирусов выделяются следующие пункты: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иден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стелс-алгоритм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шифрование и полиморф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нестандартных прием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3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5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3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3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34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4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По деструктивным возможностям вирусы можно разделить на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5" descr="Взрыв"/>
          <p:cNvPicPr/>
          <p:nvPr/>
        </p:nvPicPr>
        <p:blipFill>
          <a:blip r:embed="rId1"/>
          <a:stretch/>
        </p:blipFill>
        <p:spPr>
          <a:xfrm>
            <a:off x="468360" y="2133720"/>
            <a:ext cx="4027320" cy="333504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вред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пас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ас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опас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39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8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изнаки появления вирус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работы или неправильная работа ранее успешно функционирующих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дленная работа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возможность загрузки оператив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чезновение файлов и каталогов или искажение их содержим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29" descr="hm00492_"/>
          <p:cNvPicPr/>
          <p:nvPr/>
        </p:nvPicPr>
        <p:blipFill>
          <a:blip r:embed="rId5"/>
          <a:stretch/>
        </p:blipFill>
        <p:spPr>
          <a:xfrm>
            <a:off x="4856040" y="1768320"/>
            <a:ext cx="3219480" cy="37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даты и времени модификации фай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размеров фай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оличества файлов на дис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размера свободной оперативной памя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10" descr="j0404261"/>
          <p:cNvPicPr/>
          <p:nvPr/>
        </p:nvPicPr>
        <p:blipFill>
          <a:blip r:embed="rId5"/>
          <a:stretch/>
        </p:blipFill>
        <p:spPr>
          <a:xfrm>
            <a:off x="4788000" y="2421000"/>
            <a:ext cx="374472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 на экран непредусмотренных сообщений или изобра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ача непредусмотренных звуковых сигн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ые зависания и сбои в работе компью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8" descr="j0409506"/>
          <p:cNvPicPr/>
          <p:nvPr/>
        </p:nvPicPr>
        <p:blipFill>
          <a:blip r:embed="rId4"/>
          <a:stretch/>
        </p:blipFill>
        <p:spPr>
          <a:xfrm>
            <a:off x="5211720" y="1600200"/>
            <a:ext cx="2914560" cy="45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Методы защиты. Антивирусы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Picture 7" descr="810049"/>
          <p:cNvPicPr/>
          <p:nvPr/>
        </p:nvPicPr>
        <p:blipFill>
          <a:blip r:embed="rId1"/>
          <a:stretch/>
        </p:blipFill>
        <p:spPr>
          <a:xfrm>
            <a:off x="1305000" y="1600200"/>
            <a:ext cx="6534000" cy="45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2:49:58Z</dcterms:created>
  <dc:creator>Антон</dc:creator>
  <dc:description/>
  <dc:language>en-US</dc:language>
  <cp:lastModifiedBy>SERG</cp:lastModifiedBy>
  <dcterms:modified xsi:type="dcterms:W3CDTF">2012-12-10T19:49:49Z</dcterms:modified>
  <cp:revision>64</cp:revision>
  <dc:subject/>
  <dc:title>ВИРУСЫ</dc:title>
</cp:coreProperties>
</file>