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E62-1C11-497B-9A67-4D5351FF2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70CA-2326-4A40-B3B2-D2E77D536A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3B0-0960-4A6D-872E-0291D96B5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1342-4153-4AFE-9183-1DC82D472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з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тивными видам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7F3-29E2-459A-831D-EC3E10D5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BA3-EF9E-4171-AD98-3B902A3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348-05BB-4E32-934E-B78E769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505-863D-4E21-8A53-3099E24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85F-2923-4A71-B88E-1DF7F71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04A-0ABF-4373-B2B2-E974FC4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519-6A24-454E-ACE9-E307B1E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95C-D71A-4B6D-BDEB-2623C52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78B-7003-412C-B268-1E6A1B8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34F-7DE0-453B-A13C-B52C56F2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C0B-6F00-45CB-8760-EDCC5A07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FEB-AC05-4DA1-87BE-F7EFA8CE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1FE-C4E5-4DDA-A5F8-25368AE1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E38-0C48-4B5C-9E2B-AC167C56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26E-06F8-47EA-B890-E0B80FF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ED3-04A9-4F81-8E72-D97E217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EBA5-A2B1-46DD-A54F-8C2DB92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70CD-8EF7-4287-A352-902633D9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5C5-E257-4020-AFBB-9D05C7F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CBD-26C9-4B5E-8536-24003FC8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88F-8CC4-44D3-8FB0-15FF3D9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A860-567A-4CE8-8D1E-529388B3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5EA9-89AA-4619-96D7-CD2EC9A0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961-E442-45D5-9B3C-6EEF789F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9CEB-0CF8-4267-B64B-0D9AFD92D6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8BA-B335-4C3D-AC40-758AA44CDA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9680" y="404640"/>
            <a:ext cx="86439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о - ориентированный подход в системе обучения русскому языку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одзаголовок 2" descr=""/>
          <p:cNvPicPr/>
          <p:nvPr/>
        </p:nvPicPr>
        <p:blipFill>
          <a:blip r:embed="rId2"/>
          <a:stretch/>
        </p:blipFill>
        <p:spPr>
          <a:xfrm>
            <a:off x="274680" y="3548160"/>
            <a:ext cx="90280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C:\Documents and Settings\user1\Рабочий стол\10 а\DSC09403.JPG"/>
          <p:cNvPicPr/>
          <p:nvPr/>
        </p:nvPicPr>
        <p:blipFill>
          <a:blip r:embed="rId1"/>
          <a:stretch/>
        </p:blipFill>
        <p:spPr>
          <a:xfrm>
            <a:off x="468360" y="1087560"/>
            <a:ext cx="3735360" cy="4414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9" descr="C:\Documents and Settings\user1\Рабочий стол\10 а\DSC05805.JPG"/>
          <p:cNvPicPr/>
          <p:nvPr/>
        </p:nvPicPr>
        <p:blipFill>
          <a:blip r:embed="rId2"/>
          <a:stretch/>
        </p:blipFill>
        <p:spPr>
          <a:xfrm>
            <a:off x="5027760" y="976320"/>
            <a:ext cx="33177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user1\Рабочий стол\10 а\DSC05804.JPG"/>
          <p:cNvPicPr/>
          <p:nvPr/>
        </p:nvPicPr>
        <p:blipFill>
          <a:blip r:embed="rId1"/>
          <a:stretch/>
        </p:blipFill>
        <p:spPr>
          <a:xfrm>
            <a:off x="571680" y="285840"/>
            <a:ext cx="8143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715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ДАНИЯ ДЛЯ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2928960" cy="26434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3000240" y="1928880"/>
            <a:ext cx="3286440" cy="2600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6286680" y="3000240"/>
            <a:ext cx="2714400" cy="26434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полните лист исслед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0000" y="1428840"/>
          <a:ext cx="7488360" cy="5303880"/>
        </p:xfrm>
        <a:graphic>
          <a:graphicData uri="http://schemas.openxmlformats.org/drawingml/2006/table">
            <a:tbl>
              <a:tblPr/>
              <a:tblGrid>
                <a:gridCol w="2671920"/>
                <a:gridCol w="2643120"/>
                <a:gridCol w="21733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Птицы улетают в теплые кр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Наступила осень, птицы улетели в теплые кр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808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мматических ос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808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сою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808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и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808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ема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808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Bookman Old Style"/>
              </a:rPr>
              <a:t>Творческая деятель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786200" y="121428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500040" y="4005360"/>
            <a:ext cx="3286080" cy="2638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4716360" y="3925800"/>
            <a:ext cx="4213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5"/>
          <p:cNvSpPr/>
          <p:nvPr/>
        </p:nvSpPr>
        <p:spPr>
          <a:xfrm>
            <a:off x="1403280" y="333360"/>
            <a:ext cx="6840720" cy="7920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ЕКЛАССНАЯ    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7"/>
          <p:cNvSpPr/>
          <p:nvPr/>
        </p:nvSpPr>
        <p:spPr>
          <a:xfrm>
            <a:off x="6300720" y="5229360"/>
            <a:ext cx="2519280" cy="1008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трудн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 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публик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8"/>
          <p:cNvSpPr/>
          <p:nvPr/>
        </p:nvSpPr>
        <p:spPr>
          <a:xfrm>
            <a:off x="324000" y="1844640"/>
            <a:ext cx="2232000" cy="201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одаре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9"/>
          <p:cNvSpPr/>
          <p:nvPr/>
        </p:nvSpPr>
        <p:spPr>
          <a:xfrm>
            <a:off x="826920" y="4581360"/>
            <a:ext cx="1657440" cy="12258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шко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ску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спу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0"/>
          <p:cNvSpPr/>
          <p:nvPr/>
        </p:nvSpPr>
        <p:spPr>
          <a:xfrm>
            <a:off x="2843280" y="5300640"/>
            <a:ext cx="1727280" cy="11509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шко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иблиот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1"/>
          <p:cNvSpPr/>
          <p:nvPr/>
        </p:nvSpPr>
        <p:spPr>
          <a:xfrm>
            <a:off x="3419640" y="3429000"/>
            <a:ext cx="2592360" cy="15858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нгвис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ллет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2"/>
          <p:cNvSpPr/>
          <p:nvPr/>
        </p:nvSpPr>
        <p:spPr>
          <a:xfrm>
            <a:off x="6227640" y="3573360"/>
            <a:ext cx="1729080" cy="129564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к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3"/>
          <p:cNvSpPr/>
          <p:nvPr/>
        </p:nvSpPr>
        <p:spPr>
          <a:xfrm>
            <a:off x="2843280" y="1844640"/>
            <a:ext cx="1728720" cy="136836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4"/>
          <p:cNvSpPr/>
          <p:nvPr/>
        </p:nvSpPr>
        <p:spPr>
          <a:xfrm>
            <a:off x="5148360" y="2133720"/>
            <a:ext cx="1584360" cy="10810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ик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екласс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5"/>
          <p:cNvSpPr/>
          <p:nvPr/>
        </p:nvSpPr>
        <p:spPr>
          <a:xfrm>
            <a:off x="7093080" y="1989000"/>
            <a:ext cx="1800000" cy="1224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1214280" y="428760"/>
            <a:ext cx="721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ниторинг обученности и качества знаний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результатам Г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Диаграмма 3" descr=""/>
          <p:cNvPicPr/>
          <p:nvPr/>
        </p:nvPicPr>
        <p:blipFill>
          <a:blip r:embed="rId1"/>
          <a:stretch/>
        </p:blipFill>
        <p:spPr>
          <a:xfrm>
            <a:off x="428760" y="1828800"/>
            <a:ext cx="8429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642960" y="2143080"/>
            <a:ext cx="578628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Победители предметных олимпиад, </a:t>
            </a:r>
            <a:endParaRPr b="1" lang="en-US" sz="1400" spc="1" strike="noStrike">
              <a:ln w="9360">
                <a:solidFill>
                  <a:srgbClr val="9900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конкурсов</a:t>
            </a:r>
            <a:endParaRPr b="1" lang="en-US" sz="1400" spc="1" strike="noStrike">
              <a:ln w="9360">
                <a:solidFill>
                  <a:srgbClr val="9900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5072040" y="0"/>
            <a:ext cx="3500640" cy="198108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d6c"/>
                </a:solidFill>
                <a:latin typeface="Times New Roman"/>
              </a:rPr>
              <a:t>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d6c"/>
                </a:solidFill>
                <a:latin typeface="Times New Roman"/>
              </a:rPr>
              <a:t>призёр зонального эт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d6c"/>
                </a:solidFill>
                <a:latin typeface="Times New Roman"/>
              </a:rPr>
              <a:t>олимпиады 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0" y="3857760"/>
            <a:ext cx="4000680" cy="24289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2008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1 место в муниципальной олимпиа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русскому языку и лит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4786200" y="4429080"/>
            <a:ext cx="3571920" cy="2286000"/>
          </a:xfrm>
          <a:prstGeom prst="horizontalScroll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2009 год призер 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этапа олимпи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русскому язы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571680" y="0"/>
            <a:ext cx="4143240" cy="2286000"/>
          </a:xfrm>
          <a:prstGeom prst="horizontalScroll">
            <a:avLst>
              <a:gd name="adj" fmla="val 125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200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3 место в з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олимпи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русскому язы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1место в муниципальной олимпи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журналис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6286680" y="2000160"/>
            <a:ext cx="2857320" cy="2571840"/>
          </a:xfrm>
          <a:prstGeom prst="horizontalScroll">
            <a:avLst>
              <a:gd name="adj" fmla="val 1250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200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3 место в муницип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олимпиа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русскому язы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ризер зональной олимпи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a3d6c"/>
                </a:solidFill>
                <a:latin typeface="Times New Roman"/>
              </a:rPr>
              <a:t>по русскому язы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2"/>
          <p:cNvSpPr/>
          <p:nvPr/>
        </p:nvSpPr>
        <p:spPr>
          <a:xfrm>
            <a:off x="971640" y="1015920"/>
            <a:ext cx="7596000" cy="5149800"/>
          </a:xfrm>
          <a:prstGeom prst="ellipse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gradFill rotWithShape="0">
            <a:gsLst>
              <a:gs pos="0">
                <a:srgbClr val="413864"/>
              </a:gs>
              <a:gs pos="100000">
                <a:srgbClr val="8c7ad8">
                  <a:alpha val="9411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4"/>
          <p:cNvSpPr txBox="1"/>
          <p:nvPr/>
        </p:nvSpPr>
        <p:spPr>
          <a:xfrm>
            <a:off x="1763640" y="404640"/>
            <a:ext cx="5905440" cy="26640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Times New Roman"/>
              </a:rPr>
              <a:t>Залог успеха учени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Times New Roman"/>
              <a:ea typeface="Times New Roman"/>
            </a:endParaRPr>
          </a:p>
        </p:txBody>
      </p:sp>
      <p:sp>
        <p:nvSpPr>
          <p:cNvPr id="260" name="WordArt 8"/>
          <p:cNvSpPr txBox="1"/>
          <p:nvPr/>
        </p:nvSpPr>
        <p:spPr>
          <a:xfrm>
            <a:off x="1187280" y="2421000"/>
            <a:ext cx="2303640" cy="34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Line 9"/>
          <p:cNvSpPr/>
          <p:nvPr/>
        </p:nvSpPr>
        <p:spPr>
          <a:xfrm flipV="1">
            <a:off x="3059280" y="2997000"/>
            <a:ext cx="64908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2771640" y="4149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2484360" y="479736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-36360" y="1700280"/>
          <a:ext cx="9180360" cy="4465440"/>
        </p:xfrm>
        <a:graphic>
          <a:graphicData uri="http://schemas.openxmlformats.org/drawingml/2006/table">
            <a:tbl>
              <a:tblPr/>
              <a:tblGrid>
                <a:gridCol w="3854160"/>
                <a:gridCol w="5326200"/>
              </a:tblGrid>
              <a:tr h="44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WordArt 27"/>
          <p:cNvSpPr txBox="1"/>
          <p:nvPr/>
        </p:nvSpPr>
        <p:spPr>
          <a:xfrm>
            <a:off x="3851280" y="2060640"/>
            <a:ext cx="403380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latin typeface="Arial"/>
              </a:rPr>
              <a:t>увер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66" name="WordArt 29"/>
          <p:cNvSpPr txBox="1"/>
          <p:nvPr/>
        </p:nvSpPr>
        <p:spPr>
          <a:xfrm>
            <a:off x="3780000" y="3860640"/>
            <a:ext cx="252072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latin typeface="Arial"/>
              </a:rPr>
              <a:t>успе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67" name="WordArt 31"/>
          <p:cNvSpPr txBox="1"/>
          <p:nvPr/>
        </p:nvSpPr>
        <p:spPr>
          <a:xfrm>
            <a:off x="3780000" y="5084640"/>
            <a:ext cx="4392360" cy="1047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latin typeface="Arial"/>
              </a:rPr>
              <a:t>удоволь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68" name="Picture 3" descr="F:\DCIM\105_PANA\P1050189.JPG"/>
          <p:cNvPicPr/>
          <p:nvPr/>
        </p:nvPicPr>
        <p:blipFill>
          <a:blip r:embed="rId1"/>
          <a:srcRect l="13949" t="35560" r="20935" b="13081"/>
          <a:stretch/>
        </p:blipFill>
        <p:spPr>
          <a:xfrm>
            <a:off x="6357960" y="2857680"/>
            <a:ext cx="20718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G:\Мои результаты сканирования\сканирование0001.jpg"/>
          <p:cNvPicPr/>
          <p:nvPr/>
        </p:nvPicPr>
        <p:blipFill>
          <a:blip r:embed="rId1"/>
          <a:stretch/>
        </p:blipFill>
        <p:spPr>
          <a:xfrm rot="20455800">
            <a:off x="316080" y="3058920"/>
            <a:ext cx="1260360" cy="2420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G:\Мои результаты сканирования\сканирование0010.jpg"/>
          <p:cNvPicPr/>
          <p:nvPr/>
        </p:nvPicPr>
        <p:blipFill>
          <a:blip r:embed="rId2"/>
          <a:stretch/>
        </p:blipFill>
        <p:spPr>
          <a:xfrm rot="21079200">
            <a:off x="1198440" y="2885760"/>
            <a:ext cx="1162080" cy="25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G:\Мои результаты сканирования\сканирование0011.jpg"/>
          <p:cNvPicPr/>
          <p:nvPr/>
        </p:nvPicPr>
        <p:blipFill>
          <a:blip r:embed="rId3"/>
          <a:stretch/>
        </p:blipFill>
        <p:spPr>
          <a:xfrm rot="21081600">
            <a:off x="2276640" y="2779560"/>
            <a:ext cx="1314360" cy="250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G:\Мои результаты сканирования\сканирование0018.jpg"/>
          <p:cNvPicPr/>
          <p:nvPr/>
        </p:nvPicPr>
        <p:blipFill>
          <a:blip r:embed="rId4"/>
          <a:stretch/>
        </p:blipFill>
        <p:spPr>
          <a:xfrm rot="457200">
            <a:off x="6492960" y="2936520"/>
            <a:ext cx="1388880" cy="2631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G:\Мои результаты сканирования\сканирование0014.jpg"/>
          <p:cNvPicPr/>
          <p:nvPr/>
        </p:nvPicPr>
        <p:blipFill>
          <a:blip r:embed="rId5"/>
          <a:stretch/>
        </p:blipFill>
        <p:spPr>
          <a:xfrm rot="815400">
            <a:off x="7610040" y="3193560"/>
            <a:ext cx="1163880" cy="259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G:\Мои результаты сканирования\сканирование0016.jpg"/>
          <p:cNvPicPr/>
          <p:nvPr/>
        </p:nvPicPr>
        <p:blipFill>
          <a:blip r:embed="rId6"/>
          <a:stretch/>
        </p:blipFill>
        <p:spPr>
          <a:xfrm rot="21112800">
            <a:off x="3499920" y="2428560"/>
            <a:ext cx="1571760" cy="3000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G:\Мои результаты сканирования\сканирование0017.jpg"/>
          <p:cNvPicPr/>
          <p:nvPr/>
        </p:nvPicPr>
        <p:blipFill>
          <a:blip r:embed="rId7"/>
          <a:stretch/>
        </p:blipFill>
        <p:spPr>
          <a:xfrm rot="459000">
            <a:off x="4829040" y="2507760"/>
            <a:ext cx="1649520" cy="29289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857160" y="85716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вор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Учитель-это плодотворный луч солнца для молодой души, которого ничем заменить невозможно».   К.Д.Уш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578628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 2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000680" y="855720"/>
            <a:ext cx="485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Е ПЕДАГОГИЧЕСКОЕ  КРЕ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ь  ребенка творить, созидать собственную лич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Я ПРОФЕССИОНАЛЬНАЯ ФИЛОСОФИЯ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Ы МОЕЙ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ние положительной мотивации к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творческих способносте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трудничество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C:\Documents and Settings\user1\Рабочий стол\10 а\DSC05800.JPG"/>
          <p:cNvPicPr/>
          <p:nvPr/>
        </p:nvPicPr>
        <p:blipFill>
          <a:blip r:embed="rId1"/>
          <a:stretch/>
        </p:blipFill>
        <p:spPr>
          <a:xfrm>
            <a:off x="687240" y="1484280"/>
            <a:ext cx="2557440" cy="34480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4"/>
          <p:cNvSpPr/>
          <p:nvPr/>
        </p:nvSpPr>
        <p:spPr>
          <a:xfrm>
            <a:off x="2556000" y="2781360"/>
            <a:ext cx="594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тветственность и трудо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3"/>
          <p:cNvSpPr/>
          <p:nvPr/>
        </p:nvSpPr>
        <p:spPr>
          <a:xfrm>
            <a:off x="2050920" y="4292640"/>
            <a:ext cx="645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разованность и 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iagonalStripe"/>
          <p:cNvSpPr/>
          <p:nvPr/>
        </p:nvSpPr>
        <p:spPr>
          <a:xfrm rot="624600">
            <a:off x="420480" y="41040"/>
            <a:ext cx="5760720" cy="3141360"/>
          </a:xfrm>
          <a:custGeom>
            <a:avLst/>
            <a:gdLst>
              <a:gd name="textAreaLeft" fmla="*/ 0 w 5760720"/>
              <a:gd name="textAreaRight" fmla="*/ 4335840 w 5760720"/>
              <a:gd name="textAreaTop" fmla="*/ 0 h 3141360"/>
              <a:gd name="textAreaBottom" fmla="*/ 2364480 h 3141360"/>
            </a:gdLst>
            <a:ahLst/>
            <a:rect l="textAreaLeft" t="textAreaTop" r="textAreaRight" b="textAreaBottom"/>
            <a:pathLst>
              <a:path w="21600" h="21600">
                <a:moveTo>
                  <a:pt x="10914" y="0"/>
                </a:moveTo>
                <a:lnTo>
                  <a:pt x="0" y="10914"/>
                </a:lnTo>
                <a:lnTo>
                  <a:pt x="0" y="21600"/>
                </a:lnTo>
                <a:lnTo>
                  <a:pt x="21600" y="0"/>
                </a:lnTo>
                <a:lnTo>
                  <a:pt x="10914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 rot="20436600">
            <a:off x="577080" y="623880"/>
            <a:ext cx="3773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и педагогические ц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179280" y="5300640"/>
            <a:ext cx="936720" cy="1008000"/>
            <a:chOff x="179280" y="5300640"/>
            <a:chExt cx="936720" cy="1008000"/>
          </a:xfrm>
        </p:grpSpPr>
        <p:sp>
          <p:nvSpPr>
            <p:cNvPr id="178" name="AutoShape 7"/>
            <p:cNvSpPr/>
            <p:nvPr/>
          </p:nvSpPr>
          <p:spPr>
            <a:xfrm>
              <a:off x="179280" y="5300640"/>
              <a:ext cx="93672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WordArt 8"/>
            <p:cNvSpPr txBox="1"/>
            <p:nvPr/>
          </p:nvSpPr>
          <p:spPr>
            <a:xfrm>
              <a:off x="289080" y="5650560"/>
              <a:ext cx="478800" cy="601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000080" y="3929040"/>
            <a:ext cx="1008000" cy="936720"/>
            <a:chOff x="1000080" y="3929040"/>
            <a:chExt cx="1008000" cy="936720"/>
          </a:xfrm>
        </p:grpSpPr>
        <p:sp>
          <p:nvSpPr>
            <p:cNvPr id="181" name="AutoShape 10"/>
            <p:cNvSpPr/>
            <p:nvPr/>
          </p:nvSpPr>
          <p:spPr>
            <a:xfrm>
              <a:off x="1000080" y="3929040"/>
              <a:ext cx="1008000" cy="9367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11"/>
            <p:cNvSpPr txBox="1"/>
            <p:nvPr/>
          </p:nvSpPr>
          <p:spPr>
            <a:xfrm>
              <a:off x="1237320" y="4241160"/>
              <a:ext cx="370440" cy="5594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1619280" y="2565360"/>
            <a:ext cx="1008000" cy="863640"/>
            <a:chOff x="1619280" y="2565360"/>
            <a:chExt cx="1008000" cy="863640"/>
          </a:xfrm>
        </p:grpSpPr>
        <p:sp>
          <p:nvSpPr>
            <p:cNvPr id="184" name="AutoShape 13"/>
            <p:cNvSpPr/>
            <p:nvPr/>
          </p:nvSpPr>
          <p:spPr>
            <a:xfrm>
              <a:off x="1619280" y="2565360"/>
              <a:ext cx="1008000" cy="863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4"/>
            <p:cNvSpPr txBox="1"/>
            <p:nvPr/>
          </p:nvSpPr>
          <p:spPr>
            <a:xfrm>
              <a:off x="1856520" y="2853000"/>
              <a:ext cx="352080" cy="515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86" name="Text Box 45"/>
          <p:cNvSpPr/>
          <p:nvPr/>
        </p:nvSpPr>
        <p:spPr>
          <a:xfrm>
            <a:off x="1092240" y="5589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тзывчивость и доб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5726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Й НАУЧНЫЙ ПО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15600" cy="5572080"/>
          </a:xfrm>
          <a:prstGeom prst="rect">
            <a:avLst/>
          </a:prstGeom>
          <a:noFill/>
          <a:ln w="2844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ботать на уроке со всем классом и одновременно с каждым учащим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остоит основное противоречие традиционной школы.  Изучив работы  педагогов Шогана В.В. «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ориентированного урока», Афанасьевой Н.А. «Личностный подход в обучении» и других авторов, я отдала предпочтение личностно ориентированной технологии, потому что в центре образовательной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 ребенка, реализация ее природ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шности, укрепление  веры учеников в собственные силы,  постепенное выстраивание образа «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омфортных условий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3"/>
          <p:cNvSpPr/>
          <p:nvPr/>
        </p:nvSpPr>
        <p:spPr>
          <a:xfrm>
            <a:off x="1116000" y="1413000"/>
            <a:ext cx="7812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мулирование учащихся к высказываниям, использованию различных способов выполнения заданий без боязни оши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050920" y="3357720"/>
            <a:ext cx="694872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спользование в ходе урока дидактического материала, позволяющего ученику выбирать наиболее значимые для него вид и форму учебного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826920" y="5300640"/>
            <a:ext cx="831708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17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педагогических ситуаций общения на уроке, позволяющих каждому ученику проявить инициативу, самостоятельность, избирательность в способах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177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0920" y="115920"/>
            <a:ext cx="7093080" cy="10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bf"/>
              </a:gs>
              <a:gs pos="50000">
                <a:srgbClr val="ffffff"/>
              </a:gs>
              <a:gs pos="100000">
                <a:srgbClr val="f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атмосферы заинтересованности каждого ученика в работе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0" y="5195880"/>
            <a:ext cx="2133720" cy="1724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0" y="3357720"/>
            <a:ext cx="2133720" cy="1861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0" y="1197000"/>
            <a:ext cx="2133720" cy="2245680"/>
          </a:xfrm>
          <a:prstGeom prst="can">
            <a:avLst>
              <a:gd name="adj" fmla="val 17675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>
            <a:hlinkClick r:id="rId1" action="ppaction://hlinksldjump"/>
          </p:cNvPr>
          <p:cNvSpPr/>
          <p:nvPr/>
        </p:nvSpPr>
        <p:spPr>
          <a:xfrm>
            <a:off x="0" y="0"/>
            <a:ext cx="2130480" cy="1317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0" y="182520"/>
            <a:ext cx="1752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1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Овал 1"/>
          <p:cNvGrpSpPr/>
          <p:nvPr/>
        </p:nvGrpSpPr>
        <p:grpSpPr>
          <a:xfrm>
            <a:off x="2292480" y="2030400"/>
            <a:ext cx="4565520" cy="1925640"/>
            <a:chOff x="2292480" y="2030400"/>
            <a:chExt cx="4565520" cy="1925640"/>
          </a:xfrm>
        </p:grpSpPr>
        <p:pic>
          <p:nvPicPr>
            <p:cNvPr id="199" name="Овал 1" descr=""/>
            <p:cNvPicPr/>
            <p:nvPr/>
          </p:nvPicPr>
          <p:blipFill>
            <a:blip r:embed="rId1"/>
            <a:stretch/>
          </p:blipFill>
          <p:spPr>
            <a:xfrm>
              <a:off x="2292480" y="2030400"/>
              <a:ext cx="45655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06720" y="2333520"/>
              <a:ext cx="313056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хнологи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Овал 4"/>
          <p:cNvSpPr/>
          <p:nvPr/>
        </p:nvSpPr>
        <p:spPr>
          <a:xfrm>
            <a:off x="142920" y="285840"/>
            <a:ext cx="3786120" cy="1357200"/>
          </a:xfrm>
          <a:prstGeom prst="ellipse">
            <a:avLst/>
          </a:prstGeom>
          <a:solidFill>
            <a:srgbClr val="aae2ca"/>
          </a:soli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ифференцирова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5500800" y="285840"/>
            <a:ext cx="3429000" cy="1357200"/>
          </a:xfrm>
          <a:prstGeom prst="ellipse">
            <a:avLst/>
          </a:prstGeom>
          <a:solidFill>
            <a:srgbClr val="aae2ca"/>
          </a:solidFill>
          <a:ln w="2844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оектно- 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6"/>
          <p:cNvSpPr/>
          <p:nvPr/>
        </p:nvSpPr>
        <p:spPr>
          <a:xfrm>
            <a:off x="6286680" y="4000680"/>
            <a:ext cx="2643120" cy="1357200"/>
          </a:xfrm>
          <a:prstGeom prst="ellipse">
            <a:avLst/>
          </a:prstGeom>
          <a:solidFill>
            <a:srgbClr val="aae2ca"/>
          </a:solidFill>
          <a:ln w="2844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гров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9"/>
          <p:cNvSpPr/>
          <p:nvPr/>
        </p:nvSpPr>
        <p:spPr>
          <a:xfrm>
            <a:off x="285840" y="3929040"/>
            <a:ext cx="2643120" cy="1357200"/>
          </a:xfrm>
          <a:prstGeom prst="ellipse">
            <a:avLst/>
          </a:prstGeom>
          <a:solidFill>
            <a:srgbClr val="aae2ca"/>
          </a:solidFill>
          <a:ln w="2844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бучение в сотрудн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0"/>
          <p:cNvSpPr/>
          <p:nvPr/>
        </p:nvSpPr>
        <p:spPr>
          <a:xfrm>
            <a:off x="3214800" y="5214960"/>
            <a:ext cx="2643120" cy="1357200"/>
          </a:xfrm>
          <a:prstGeom prst="ellipse">
            <a:avLst/>
          </a:prstGeom>
          <a:solidFill>
            <a:srgbClr val="aae2ca"/>
          </a:solidFill>
          <a:ln w="2844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ерспективно-опережающе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Учитель – координатор, организатор самостоятельн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хема 9" descr=""/>
          <p:cNvPicPr/>
          <p:nvPr/>
        </p:nvPicPr>
        <p:blipFill>
          <a:blip r:embed="rId1"/>
          <a:stretch/>
        </p:blipFill>
        <p:spPr>
          <a:xfrm>
            <a:off x="847800" y="1560600"/>
            <a:ext cx="780876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611280" y="404640"/>
            <a:ext cx="813744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Формы уро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усского язы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0" y="2565360"/>
            <a:ext cx="331308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 путе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916360" y="1989000"/>
            <a:ext cx="3097080" cy="719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 встр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5143680" y="2643120"/>
            <a:ext cx="3744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2340000" y="3213000"/>
            <a:ext cx="3744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324000" y="4005360"/>
            <a:ext cx="3456000" cy="792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с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292720" y="3860640"/>
            <a:ext cx="3600360" cy="771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сем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6"/>
          <p:cNvSpPr/>
          <p:nvPr/>
        </p:nvSpPr>
        <p:spPr>
          <a:xfrm>
            <a:off x="2556000" y="4724280"/>
            <a:ext cx="3816360" cy="865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практик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7"/>
          <p:cNvSpPr/>
          <p:nvPr/>
        </p:nvSpPr>
        <p:spPr>
          <a:xfrm>
            <a:off x="5292720" y="5516640"/>
            <a:ext cx="360036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мотив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8"/>
          <p:cNvSpPr/>
          <p:nvPr/>
        </p:nvSpPr>
        <p:spPr>
          <a:xfrm>
            <a:off x="395280" y="5589720"/>
            <a:ext cx="3384720" cy="86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ahoma"/>
              </a:rPr>
              <a:t>Урок-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DCIM\105_PANA\P1050185.JPG"/>
          <p:cNvPicPr/>
          <p:nvPr/>
        </p:nvPicPr>
        <p:blipFill>
          <a:blip r:embed="rId1"/>
          <a:stretch/>
        </p:blipFill>
        <p:spPr>
          <a:xfrm rot="724200">
            <a:off x="5301720" y="4010040"/>
            <a:ext cx="3189600" cy="254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G:\P6150019.JPG"/>
          <p:cNvPicPr/>
          <p:nvPr/>
        </p:nvPicPr>
        <p:blipFill>
          <a:blip r:embed="rId2"/>
          <a:stretch/>
        </p:blipFill>
        <p:spPr>
          <a:xfrm rot="21319800">
            <a:off x="109080" y="936720"/>
            <a:ext cx="3251160" cy="2820960"/>
          </a:xfrm>
          <a:prstGeom prst="rect">
            <a:avLst/>
          </a:prstGeom>
          <a:ln w="0">
            <a:noFill/>
          </a:ln>
        </p:spPr>
      </p:pic>
      <p:sp>
        <p:nvSpPr>
          <p:cNvPr id="220" name="Волна 8"/>
          <p:cNvSpPr/>
          <p:nvPr/>
        </p:nvSpPr>
        <p:spPr>
          <a:xfrm>
            <a:off x="928800" y="142920"/>
            <a:ext cx="7143480" cy="1214280"/>
          </a:xfrm>
          <a:custGeom>
            <a:avLst/>
            <a:gdLst>
              <a:gd name="textAreaLeft" fmla="*/ 0 w 7143480"/>
              <a:gd name="textAreaRight" fmla="*/ 7143840 w 7143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d6d6f5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тмосфера сотрудн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:\Documents and Settings\user1\Рабочий стол\Фотки с проекта\10092010175.jpg"/>
          <p:cNvPicPr/>
          <p:nvPr/>
        </p:nvPicPr>
        <p:blipFill>
          <a:blip r:embed="rId3"/>
          <a:srcRect l="0" t="-749" r="0" b="0"/>
          <a:stretch/>
        </p:blipFill>
        <p:spPr>
          <a:xfrm>
            <a:off x="214200" y="3549600"/>
            <a:ext cx="3905280" cy="295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cuments and Settings\user1\Рабочий стол\Фотки с проекта\10092010176.jpg"/>
          <p:cNvPicPr/>
          <p:nvPr/>
        </p:nvPicPr>
        <p:blipFill>
          <a:blip r:embed="rId4"/>
          <a:stretch/>
        </p:blipFill>
        <p:spPr>
          <a:xfrm>
            <a:off x="4357800" y="11430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1:58:22Z</dcterms:created>
  <dc:creator>Татьяна</dc:creator>
  <dc:description/>
  <dc:language>en-US</dc:language>
  <cp:lastModifiedBy>Depo</cp:lastModifiedBy>
  <dcterms:modified xsi:type="dcterms:W3CDTF">2012-12-10T09:04:46Z</dcterms:modified>
  <cp:revision>117</cp:revision>
  <dc:subject/>
  <dc:title>Слайд 1</dc:title>
</cp:coreProperties>
</file>