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ила Григорьева Ольга Никола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У ИРМО "Марковская СОШ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DD67-45C5-426B-BB95-05773F90AC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E503-4031-42B5-90EC-CF88F75E67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ИРМО "Марковская СОШ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12E-59B0-4F22-9592-6D01B91E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F81B-2EDE-4D98-9580-0094A759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655A-C6AF-447C-B9E5-FCEC4A57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69B-CEA9-4966-B4E9-0BC99B6F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7449-63E5-48DC-BF20-7D2E76A8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DA38-9730-45A9-A9DD-EA4215AB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9BEB-E29D-42E8-AF29-F42F9AC2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12D7-EE13-42DD-99A1-7A4FC23A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E135-A2C5-4531-B545-8F646A1F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C07E-1C9A-49B7-A155-E0FE756A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3237-411A-4A20-B510-1E8ED28B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571-73C8-4D64-B554-E3B7FB6D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0E2E-E460-49D2-A7CB-96713844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E78C-9C10-4796-83E0-14302128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B0F6-A23C-4368-938F-1F8C2ACF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7C59-A040-499B-BE58-F8F2DA5D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9502-DB7E-4C1B-95BB-036F956A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F5F0B-4DA1-426E-B249-9B34A7B0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C99D4-3EEC-4D5C-AA3A-EF0C2177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1D75A-7F9D-4F56-8377-E719C819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2D0A2-46A7-4EB7-99D8-F60538AD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FFFBF-6CDA-414C-B28D-C124810F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EC1-FA8E-4356-A191-046BC26F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BCC6E-52C1-4B26-AB7E-7CE2EDB4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C49F4-DAEF-478E-8E42-05B55516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A7F16-3AB5-4BF5-A11A-59A3ABCC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34D90-8136-4195-A377-5C3C3878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334DC-F12D-453B-A862-467E697E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E9D36-C5E5-4142-BE61-50B6DD8D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B51E2-92D8-489F-AB03-CD661930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46D53-4C6E-421D-A0BC-C398334F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755C7-6D95-4A2E-95D2-8B4F10E3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07F3C-C66F-4A49-A0FC-79A598A1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31C-663B-4FF0-ABFA-D2599F31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35D01-E21A-469F-A5DE-CD1068A5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4AF1B-FAD6-4A43-92DC-CD5DF800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74119-5A6E-4AF7-BE16-896CBFCF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9596F-AE9A-4587-9B95-125D0889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DDA29-34C8-4250-9DEA-AF612284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F22F1-D2F7-4E14-9196-1248D589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EC86A-0023-446C-98C0-6681DE53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392A0-8D88-47B6-862B-E2076958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F0319-93F4-4214-9833-76D97180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28FCA-6048-48ED-8BB6-7EBEC06B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660-2980-40E5-8FCC-31567790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50289-4C5F-4E95-B9F8-03C1FECD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0C297-5698-46E4-919C-40278509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7BABA-0672-4722-A2DC-89849157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3210D-0770-48C7-8C07-324B9F2F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842C9-565D-49E5-ABF3-5ACF89B4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46B68-03F8-4FC8-8E1C-703CEA97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80AA8-9B71-4680-80DB-305ED053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2472F-8186-4C8E-BA5E-9996F048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E8890-F2E4-4184-93D6-7759AA23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76606-B105-4690-8542-C7B2683C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3F01-05D9-4A33-91AC-A201C87E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AC4A2-A072-4412-BE5C-2429C40D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A161D-C6F0-4805-9A32-51CC16A1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934AF-51EF-4D28-8FD5-8CDB3DC1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2CA04-594D-4FB8-A5A5-2E72800D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2939E-9CE6-4FD8-B99C-994122AA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A363A-CC30-418E-9852-67EAD1D4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93C93-AB0C-4262-90FF-31182040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DFA94-5FD4-409C-A1F7-192CB8D9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D3291-C9E9-4D8B-9DC0-2CB5CEC1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26BC1-B37A-49B8-B6CF-B3353963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2195-95E8-4368-90D6-50BDBB3D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2075B-CAED-472C-9947-13EAD59F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9578C-E5E9-4A22-B5AA-9E62F0BA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6E2C6-BF34-4F38-A72E-0958CE6B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475EB-45F6-42F8-A520-39D9173A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C67C3-A9E6-4B0E-BB4B-8806845A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D8695-638C-4EB6-A091-CCAAEBE7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F4DB3-B766-4FC9-8768-4E8B867D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AD60B-DFD4-4F23-8FB8-0FC8AD74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B264A-DCFA-48D7-9064-65962AC5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D9B66-45EB-41AF-87B5-F10BA477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15EB-C13D-4EE2-B30F-E1593C11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39A0D-164D-4E3B-89D3-B83884D5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FA6A9-D2AB-498E-8976-2FCD81F9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E6B14-435A-41C0-A77B-FF386C31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366AC-8027-4EB1-A680-BF32B49E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2E329-C340-4C2F-B4F3-4C711F43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CC68C-561A-43EC-9C49-3F60BF8A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16A17-2C66-4079-B703-C2943BDA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E879E-01C7-4668-A018-8FE3E5B4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A9A60-8805-4020-A647-4F132B70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CC544-A2FB-4643-9D45-8E6ECBBD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66ED-5ECB-42BB-9B8B-4F8AAE26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7BCFD-CD27-4D7B-878C-5E2A4FE6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90FC1-B0E1-4274-AF5E-8AEBBF41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2D3F3-274F-46A6-B401-99CED545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88CE5-E9FC-4B6E-8B4D-6E3A5BC4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7BEA6-50D3-422F-9041-3CC56F34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36714-63B3-44C0-8D0F-5DC1097D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31196-C09F-4BB3-ABE4-A1D8C1BC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E3BA-AF32-410F-B99F-4ADEAFFB569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2057-F767-4624-B7BC-69DB1CA6A2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E8CB-3DF9-415A-9CC0-0E31E67749E5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8f0f4"/>
                </a:solidFill>
                <a:latin typeface="Times New Roman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7D03-D184-4D2B-BC63-3430737B478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AB56-E786-44FC-A4C9-455C357BC303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A4F2-E7A8-4BE8-8A5E-7F834ECE309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002A-5C59-4FAD-951A-23046DC590B0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FBCF-B9AA-46B9-843C-97B34662C47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2EF7-4EC5-4FF7-9975-1344A4CF15D5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1FEC-2D32-4991-A776-8E4DE31AA2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E439-EE45-4668-A9D5-2E82E5A9F9D0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FBED-B4A1-4B03-BC05-3C43FD7E3EA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CCC3-6C80-49ED-A670-AA45B79AD1D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447D-5BAE-4297-9EA5-FC9DD73573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D703-303E-45F8-91D0-D3116414C80C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D6C1-70F0-4774-A778-CF17E5DBA1F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633240" y="1749600"/>
            <a:ext cx="832824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лла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Нижний колонтитул 3"/>
          <p:cNvSpPr/>
          <p:nvPr/>
        </p:nvSpPr>
        <p:spPr>
          <a:xfrm>
            <a:off x="714240" y="6408720"/>
            <a:ext cx="8215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8f0f4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285840" y="142920"/>
            <a:ext cx="857232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еперь нам нужно уменьшить размер вставленного изображения с соблюдением пропорций. Для этого держим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Shift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на клавиатуре и аккуратно тянем за угол рамки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Picture 2" descr="Коллаж в Adobe Photoshop 7"/>
          <p:cNvPicPr/>
          <p:nvPr/>
        </p:nvPicPr>
        <p:blipFill>
          <a:blip r:embed="rId1"/>
          <a:stretch/>
        </p:blipFill>
        <p:spPr>
          <a:xfrm>
            <a:off x="2071800" y="2428920"/>
            <a:ext cx="4724280" cy="3190680"/>
          </a:xfrm>
          <a:prstGeom prst="rect">
            <a:avLst/>
          </a:prstGeom>
          <a:ln w="0">
            <a:noFill/>
          </a:ln>
        </p:spPr>
      </p:pic>
      <p:sp>
        <p:nvSpPr>
          <p:cNvPr id="410" name="Нижний колонтитул 3"/>
          <p:cNvSpPr/>
          <p:nvPr/>
        </p:nvSpPr>
        <p:spPr>
          <a:xfrm>
            <a:off x="3357720" y="6408720"/>
            <a:ext cx="564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214200" y="142560"/>
            <a:ext cx="8715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тем передвигаем изображение на нужное место и жмем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Enter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крываем следующее фото «щенок»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Picture 2" descr="Коллаж в Adobe Photoshop 8"/>
          <p:cNvPicPr/>
          <p:nvPr/>
        </p:nvPicPr>
        <p:blipFill>
          <a:blip r:embed="rId1"/>
          <a:stretch/>
        </p:blipFill>
        <p:spPr>
          <a:xfrm>
            <a:off x="1785960" y="1357200"/>
            <a:ext cx="4762440" cy="3210120"/>
          </a:xfrm>
          <a:prstGeom prst="rect">
            <a:avLst/>
          </a:prstGeom>
          <a:ln w="0">
            <a:noFill/>
          </a:ln>
        </p:spPr>
      </p:pic>
      <p:sp>
        <p:nvSpPr>
          <p:cNvPr id="413" name="Нижний колонтитул 3"/>
          <p:cNvSpPr/>
          <p:nvPr/>
        </p:nvSpPr>
        <p:spPr>
          <a:xfrm>
            <a:off x="2857680" y="6408720"/>
            <a:ext cx="628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14200" y="0"/>
            <a:ext cx="8715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налогично выделяем нужную его часть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пируем выделение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Ctrl+C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Затем переключаемся на основное фото и вставляем выделение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Ctrl+V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Picture 2" descr="Коллаж в Adobe Photoshop 9"/>
          <p:cNvPicPr/>
          <p:nvPr/>
        </p:nvPicPr>
        <p:blipFill>
          <a:blip r:embed="rId1"/>
          <a:stretch/>
        </p:blipFill>
        <p:spPr>
          <a:xfrm>
            <a:off x="2630520" y="500040"/>
            <a:ext cx="2948040" cy="2214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Коллаж в Adobe Photoshop 10"/>
          <p:cNvPicPr/>
          <p:nvPr/>
        </p:nvPicPr>
        <p:blipFill>
          <a:blip r:embed="rId2"/>
          <a:stretch/>
        </p:blipFill>
        <p:spPr>
          <a:xfrm>
            <a:off x="4286160" y="3714840"/>
            <a:ext cx="4103640" cy="2766960"/>
          </a:xfrm>
          <a:prstGeom prst="rect">
            <a:avLst/>
          </a:prstGeom>
          <a:ln w="0">
            <a:noFill/>
          </a:ln>
        </p:spPr>
      </p:pic>
      <p:sp>
        <p:nvSpPr>
          <p:cNvPr id="417" name="Нижний колонтитул 4"/>
          <p:cNvSpPr/>
          <p:nvPr/>
        </p:nvSpPr>
        <p:spPr>
          <a:xfrm>
            <a:off x="4379760" y="6408720"/>
            <a:ext cx="47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213840" y="142920"/>
            <a:ext cx="87584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меньшаем (через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Ctrl+T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 и передвигаем вставленное изображение на нужное место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крываем следующее фото «щенок2»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налогично выделяем нужную его ча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пируем выделение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Ctrl+C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Затем переключаемся на основное фото и вставляем выделение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Ctrl+V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Picture 2" descr="Создаем коллаж в Adobe Photoshop"/>
          <p:cNvPicPr/>
          <p:nvPr/>
        </p:nvPicPr>
        <p:blipFill>
          <a:blip r:embed="rId1"/>
          <a:stretch/>
        </p:blipFill>
        <p:spPr>
          <a:xfrm>
            <a:off x="2500200" y="1285920"/>
            <a:ext cx="3786480" cy="2550960"/>
          </a:xfrm>
          <a:prstGeom prst="rect">
            <a:avLst/>
          </a:prstGeom>
          <a:ln w="0">
            <a:noFill/>
          </a:ln>
        </p:spPr>
      </p:pic>
      <p:sp>
        <p:nvSpPr>
          <p:cNvPr id="420" name="Нижний колонтитул 3"/>
          <p:cNvSpPr/>
          <p:nvPr/>
        </p:nvSpPr>
        <p:spPr>
          <a:xfrm>
            <a:off x="4379760" y="6408720"/>
            <a:ext cx="47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21420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меньшаем (через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Ctrl+T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 и передвигаем вставленное изображение на нужное место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Picture 2" descr="Создаем коллаж в Adobe Photoshop 1"/>
          <p:cNvPicPr/>
          <p:nvPr/>
        </p:nvPicPr>
        <p:blipFill>
          <a:blip r:embed="rId1"/>
          <a:stretch/>
        </p:blipFill>
        <p:spPr>
          <a:xfrm>
            <a:off x="2000160" y="19288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423" name="Нижний колонтитул 3"/>
          <p:cNvSpPr/>
          <p:nvPr/>
        </p:nvSpPr>
        <p:spPr>
          <a:xfrm>
            <a:off x="4379760" y="6408720"/>
            <a:ext cx="47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214200" y="142920"/>
            <a:ext cx="878688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окне слоев переключаемся на слой первого вставленного изображения. Другие слои можете для удобства сделать невидимыми, нажав на иконки глаз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Picture 2" descr="Создаем коллаж в Adobe Photoshop 2"/>
          <p:cNvPicPr/>
          <p:nvPr/>
        </p:nvPicPr>
        <p:blipFill>
          <a:blip r:embed="rId1"/>
          <a:stretch/>
        </p:blipFill>
        <p:spPr>
          <a:xfrm>
            <a:off x="2500200" y="2428920"/>
            <a:ext cx="3429000" cy="3819600"/>
          </a:xfrm>
          <a:prstGeom prst="rect">
            <a:avLst/>
          </a:prstGeom>
          <a:ln w="0">
            <a:noFill/>
          </a:ln>
        </p:spPr>
      </p:pic>
      <p:sp>
        <p:nvSpPr>
          <p:cNvPr id="426" name="Нижний колонтитул 3"/>
          <p:cNvSpPr/>
          <p:nvPr/>
        </p:nvSpPr>
        <p:spPr>
          <a:xfrm>
            <a:off x="4379760" y="6408720"/>
            <a:ext cx="47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21420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тем нажимаем на иконку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Add Layer Mask (Добавить маску слоя)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добавлении маски цвет переднего плана должен автоматически стать черным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Picture 2" descr="Создаем коллаж в Adobe Photoshop 3"/>
          <p:cNvPicPr/>
          <p:nvPr/>
        </p:nvPicPr>
        <p:blipFill>
          <a:blip r:embed="rId1"/>
          <a:stretch/>
        </p:blipFill>
        <p:spPr>
          <a:xfrm>
            <a:off x="2635200" y="1214280"/>
            <a:ext cx="2759040" cy="3071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Создаем коллаж в Adobe Photoshop 4"/>
          <p:cNvPicPr/>
          <p:nvPr/>
        </p:nvPicPr>
        <p:blipFill>
          <a:blip r:embed="rId2"/>
          <a:stretch/>
        </p:blipFill>
        <p:spPr>
          <a:xfrm>
            <a:off x="7358040" y="4857840"/>
            <a:ext cx="1314360" cy="1868400"/>
          </a:xfrm>
          <a:prstGeom prst="rect">
            <a:avLst/>
          </a:prstGeom>
          <a:ln w="0">
            <a:noFill/>
          </a:ln>
        </p:spPr>
      </p:pic>
      <p:sp>
        <p:nvSpPr>
          <p:cNvPr id="430" name="Нижний колонтитул 4"/>
          <p:cNvSpPr/>
          <p:nvPr/>
        </p:nvSpPr>
        <p:spPr>
          <a:xfrm>
            <a:off x="500040" y="6408720"/>
            <a:ext cx="623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213840" y="214200"/>
            <a:ext cx="86439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ерем инструмент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Brush tool (Кисть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 мягкими краями и начинаем аккуратно водить кистью по краям первого вставленного изображения, размывая их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Picture 2" descr="22"/>
          <p:cNvPicPr/>
          <p:nvPr/>
        </p:nvPicPr>
        <p:blipFill>
          <a:blip r:embed="rId1"/>
          <a:stretch/>
        </p:blipFill>
        <p:spPr>
          <a:xfrm>
            <a:off x="7143840" y="0"/>
            <a:ext cx="785880" cy="655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Создаем коллаж в Adobe Photoshop 5"/>
          <p:cNvPicPr/>
          <p:nvPr/>
        </p:nvPicPr>
        <p:blipFill>
          <a:blip r:embed="rId2"/>
          <a:stretch/>
        </p:blipFill>
        <p:spPr>
          <a:xfrm>
            <a:off x="2000160" y="2643120"/>
            <a:ext cx="5072040" cy="3417840"/>
          </a:xfrm>
          <a:prstGeom prst="rect">
            <a:avLst/>
          </a:prstGeom>
          <a:ln w="0">
            <a:noFill/>
          </a:ln>
        </p:spPr>
      </p:pic>
      <p:sp>
        <p:nvSpPr>
          <p:cNvPr id="434" name="Нижний колонтитул 4"/>
          <p:cNvSpPr/>
          <p:nvPr/>
        </p:nvSpPr>
        <p:spPr>
          <a:xfrm>
            <a:off x="4094280" y="6492960"/>
            <a:ext cx="504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тем переходим на второе вставленное изображение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обавляем маску слоя и работаем кистью по такой же схеме, стирая и размывая кра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Picture 2" descr="Создаем коллаж в Adobe Photoshop 6"/>
          <p:cNvPicPr/>
          <p:nvPr/>
        </p:nvPicPr>
        <p:blipFill>
          <a:blip r:embed="rId1"/>
          <a:stretch/>
        </p:blipFill>
        <p:spPr>
          <a:xfrm>
            <a:off x="3571920" y="642960"/>
            <a:ext cx="2265480" cy="25002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" descr="Создаем коллаж в Adobe Photoshop 7"/>
          <p:cNvPicPr/>
          <p:nvPr/>
        </p:nvPicPr>
        <p:blipFill>
          <a:blip r:embed="rId2"/>
          <a:stretch/>
        </p:blipFill>
        <p:spPr>
          <a:xfrm>
            <a:off x="2428920" y="4140360"/>
            <a:ext cx="3786120" cy="2552400"/>
          </a:xfrm>
          <a:prstGeom prst="rect">
            <a:avLst/>
          </a:prstGeom>
          <a:ln w="0">
            <a:noFill/>
          </a:ln>
        </p:spPr>
      </p:pic>
      <p:sp>
        <p:nvSpPr>
          <p:cNvPr id="438" name="Нижний колонтитул 4"/>
          <p:cNvSpPr/>
          <p:nvPr/>
        </p:nvSpPr>
        <p:spPr>
          <a:xfrm>
            <a:off x="4379760" y="6408720"/>
            <a:ext cx="47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реходим на следующий слой и снова добавляем маску сло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 работаем кистью по такой же схеме, стирая и размывая кра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Picture 2" descr="Создаем коллаж в Adobe Photoshop 8"/>
          <p:cNvPicPr/>
          <p:nvPr/>
        </p:nvPicPr>
        <p:blipFill>
          <a:blip r:embed="rId1"/>
          <a:stretch/>
        </p:blipFill>
        <p:spPr>
          <a:xfrm>
            <a:off x="2786040" y="1459080"/>
            <a:ext cx="2857680" cy="3182760"/>
          </a:xfrm>
          <a:prstGeom prst="rect">
            <a:avLst/>
          </a:prstGeom>
          <a:ln w="0">
            <a:noFill/>
          </a:ln>
        </p:spPr>
      </p:pic>
      <p:sp>
        <p:nvSpPr>
          <p:cNvPr id="441" name="Нижний колонтитул 3"/>
          <p:cNvSpPr/>
          <p:nvPr/>
        </p:nvSpPr>
        <p:spPr>
          <a:xfrm>
            <a:off x="4379760" y="6408720"/>
            <a:ext cx="47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C:\Documents and Settings\root\Рабочий стол\Мастер класс\результат.jpg"/>
          <p:cNvPicPr/>
          <p:nvPr/>
        </p:nvPicPr>
        <p:blipFill>
          <a:blip r:embed="rId2"/>
          <a:stretch/>
        </p:blipFill>
        <p:spPr>
          <a:xfrm>
            <a:off x="1285920" y="1571760"/>
            <a:ext cx="6337080" cy="4292640"/>
          </a:xfrm>
          <a:prstGeom prst="rect">
            <a:avLst/>
          </a:prstGeom>
          <a:ln w="0">
            <a:noFill/>
          </a:ln>
        </p:spPr>
      </p:pic>
      <p:sp>
        <p:nvSpPr>
          <p:cNvPr id="382" name="Нижний колонтитул 3"/>
          <p:cNvSpPr/>
          <p:nvPr/>
        </p:nvSpPr>
        <p:spPr>
          <a:xfrm>
            <a:off x="2643120" y="6408720"/>
            <a:ext cx="628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C:\Documents and Settings\root\Рабочий стол\Мастер класс\результат.jpg"/>
          <p:cNvPicPr/>
          <p:nvPr/>
        </p:nvPicPr>
        <p:blipFill>
          <a:blip r:embed="rId2"/>
          <a:stretch/>
        </p:blipFill>
        <p:spPr>
          <a:xfrm>
            <a:off x="1403280" y="1282680"/>
            <a:ext cx="6337440" cy="4292640"/>
          </a:xfrm>
          <a:prstGeom prst="rect">
            <a:avLst/>
          </a:prstGeom>
          <a:ln w="0">
            <a:noFill/>
          </a:ln>
        </p:spPr>
      </p:pic>
      <p:sp>
        <p:nvSpPr>
          <p:cNvPr id="444" name="Нижний колонтитул 3"/>
          <p:cNvSpPr/>
          <p:nvPr/>
        </p:nvSpPr>
        <p:spPr>
          <a:xfrm>
            <a:off x="4379760" y="6408720"/>
            <a:ext cx="47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храняем результат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e-Save As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… имя файла «Коллаж» в папке Мастер-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Нижний колонтитул 2"/>
          <p:cNvSpPr/>
          <p:nvPr/>
        </p:nvSpPr>
        <p:spPr>
          <a:xfrm>
            <a:off x="4379760" y="6408720"/>
            <a:ext cx="47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652320" y="2494080"/>
            <a:ext cx="8498160" cy="1157040"/>
          </a:xfrm>
          <a:prstGeom prst="rect">
            <a:avLst/>
          </a:prstGeom>
          <a:ln w="0">
            <a:noFill/>
          </a:ln>
        </p:spPr>
      </p:pic>
      <p:sp>
        <p:nvSpPr>
          <p:cNvPr id="448" name="Нижний колонтитул 2"/>
          <p:cNvSpPr/>
          <p:nvPr/>
        </p:nvSpPr>
        <p:spPr>
          <a:xfrm>
            <a:off x="4379760" y="6408720"/>
            <a:ext cx="47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Коллаж в Adobe Photoshop 2"/>
          <p:cNvPicPr/>
          <p:nvPr/>
        </p:nvPicPr>
        <p:blipFill>
          <a:blip r:embed="rId2"/>
          <a:stretch/>
        </p:blipFill>
        <p:spPr>
          <a:xfrm>
            <a:off x="1785960" y="1785960"/>
            <a:ext cx="5503680" cy="3709800"/>
          </a:xfrm>
          <a:prstGeom prst="rect">
            <a:avLst/>
          </a:prstGeom>
          <a:ln w="0">
            <a:noFill/>
          </a:ln>
        </p:spPr>
      </p:pic>
      <p:sp>
        <p:nvSpPr>
          <p:cNvPr id="385" name="Нижний колонтитул 3"/>
          <p:cNvSpPr/>
          <p:nvPr/>
        </p:nvSpPr>
        <p:spPr>
          <a:xfrm>
            <a:off x="3429000" y="6408720"/>
            <a:ext cx="571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Коллаж в Adobe Photoshop 3"/>
          <p:cNvPicPr/>
          <p:nvPr/>
        </p:nvPicPr>
        <p:blipFill>
          <a:blip r:embed="rId2"/>
          <a:stretch/>
        </p:blipFill>
        <p:spPr>
          <a:xfrm>
            <a:off x="2714760" y="21430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388" name="Нижний колонтитул 3"/>
          <p:cNvSpPr/>
          <p:nvPr/>
        </p:nvSpPr>
        <p:spPr>
          <a:xfrm>
            <a:off x="3000240" y="6408720"/>
            <a:ext cx="585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Коллаж в Adobe Photoshop 9"/>
          <p:cNvPicPr/>
          <p:nvPr/>
        </p:nvPicPr>
        <p:blipFill>
          <a:blip r:embed="rId2"/>
          <a:stretch/>
        </p:blipFill>
        <p:spPr>
          <a:xfrm>
            <a:off x="2357280" y="2143080"/>
            <a:ext cx="3791160" cy="2847960"/>
          </a:xfrm>
          <a:prstGeom prst="rect">
            <a:avLst/>
          </a:prstGeom>
          <a:ln w="0">
            <a:noFill/>
          </a:ln>
        </p:spPr>
      </p:pic>
      <p:sp>
        <p:nvSpPr>
          <p:cNvPr id="392" name="Нижний колонтитул 4"/>
          <p:cNvSpPr/>
          <p:nvPr/>
        </p:nvSpPr>
        <p:spPr>
          <a:xfrm>
            <a:off x="1500120" y="6408720"/>
            <a:ext cx="742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Documents and Settings\root\Рабочий стол\Мастер класс\щенок2.jpg"/>
          <p:cNvPicPr/>
          <p:nvPr/>
        </p:nvPicPr>
        <p:blipFill>
          <a:blip r:embed="rId2"/>
          <a:stretch/>
        </p:blipFill>
        <p:spPr>
          <a:xfrm>
            <a:off x="3000240" y="2143080"/>
            <a:ext cx="2897280" cy="2665440"/>
          </a:xfrm>
          <a:prstGeom prst="rect">
            <a:avLst/>
          </a:prstGeom>
          <a:ln w="0">
            <a:noFill/>
          </a:ln>
        </p:spPr>
      </p:pic>
      <p:sp>
        <p:nvSpPr>
          <p:cNvPr id="395" name="Нижний колонтитул 3"/>
          <p:cNvSpPr/>
          <p:nvPr/>
        </p:nvSpPr>
        <p:spPr>
          <a:xfrm>
            <a:off x="3357720" y="6408720"/>
            <a:ext cx="5786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285840" y="157176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кройте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hotosho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кроем файлы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e-Open-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ои документы-Мастер-класс-Основ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e-Open-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ои документы-Мастер-класс-Детств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ботаем с файлом «Детство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ерем инструмент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Rectangular Marquee tool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(Прямоугольное выделение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C:\Documents and Settings\root\Рабочий стол\Мастер класс\i.jpeg"/>
          <p:cNvPicPr/>
          <p:nvPr/>
        </p:nvPicPr>
        <p:blipFill>
          <a:blip r:embed="rId2"/>
          <a:stretch/>
        </p:blipFill>
        <p:spPr>
          <a:xfrm>
            <a:off x="4714920" y="1357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10"/>
          <p:cNvPicPr/>
          <p:nvPr/>
        </p:nvPicPr>
        <p:blipFill>
          <a:blip r:embed="rId3"/>
          <a:stretch/>
        </p:blipFill>
        <p:spPr>
          <a:xfrm>
            <a:off x="6000840" y="5214960"/>
            <a:ext cx="642960" cy="536400"/>
          </a:xfrm>
          <a:prstGeom prst="rect">
            <a:avLst/>
          </a:prstGeom>
          <a:ln w="0">
            <a:noFill/>
          </a:ln>
        </p:spPr>
      </p:pic>
      <p:sp>
        <p:nvSpPr>
          <p:cNvPr id="400" name="Нижний колонтитул 5"/>
          <p:cNvSpPr/>
          <p:nvPr/>
        </p:nvSpPr>
        <p:spPr>
          <a:xfrm>
            <a:off x="2500200" y="6408720"/>
            <a:ext cx="650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1420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верхнем меню ставим такие настройки этого инструмент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деляем нужную часть головы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пируем выделение нажимая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Ctrl+C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2" descr="Коллаж в Adobe Photoshop 4"/>
          <p:cNvPicPr/>
          <p:nvPr/>
        </p:nvPicPr>
        <p:blipFill>
          <a:blip r:embed="rId1"/>
          <a:stretch/>
        </p:blipFill>
        <p:spPr>
          <a:xfrm>
            <a:off x="1143000" y="1071720"/>
            <a:ext cx="5851440" cy="8236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Коллаж в Adobe Photoshop 5"/>
          <p:cNvPicPr/>
          <p:nvPr/>
        </p:nvPicPr>
        <p:blipFill>
          <a:blip r:embed="rId2"/>
          <a:stretch/>
        </p:blipFill>
        <p:spPr>
          <a:xfrm>
            <a:off x="2500200" y="2857680"/>
            <a:ext cx="3594240" cy="2700000"/>
          </a:xfrm>
          <a:prstGeom prst="rect">
            <a:avLst/>
          </a:prstGeom>
          <a:ln w="0">
            <a:noFill/>
          </a:ln>
        </p:spPr>
      </p:pic>
      <p:sp>
        <p:nvSpPr>
          <p:cNvPr id="404" name="Нижний колонтитул 4"/>
          <p:cNvSpPr/>
          <p:nvPr/>
        </p:nvSpPr>
        <p:spPr>
          <a:xfrm>
            <a:off x="3571920" y="6408720"/>
            <a:ext cx="557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алее переключаемся на основное фото и вставляем на него выделение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Ctrl+V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тем жмем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Ctrl+T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чтобы перейти в режим трансформирова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Picture 2" descr="Коллаж в Adobe Photoshop 6"/>
          <p:cNvPicPr/>
          <p:nvPr/>
        </p:nvPicPr>
        <p:blipFill>
          <a:blip r:embed="rId1"/>
          <a:stretch/>
        </p:blipFill>
        <p:spPr>
          <a:xfrm>
            <a:off x="1928880" y="2714760"/>
            <a:ext cx="4429080" cy="2990880"/>
          </a:xfrm>
          <a:prstGeom prst="rect">
            <a:avLst/>
          </a:prstGeom>
          <a:ln w="0">
            <a:noFill/>
          </a:ln>
        </p:spPr>
      </p:pic>
      <p:sp>
        <p:nvSpPr>
          <p:cNvPr id="407" name="Нижний колонтитул 3"/>
          <p:cNvSpPr/>
          <p:nvPr/>
        </p:nvSpPr>
        <p:spPr>
          <a:xfrm>
            <a:off x="4000680" y="64087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3:41:37Z</dcterms:created>
  <dc:creator>МОУ МАРКОВСКАЯ СОШ </dc:creator>
  <dc:description/>
  <dc:language>en-US</dc:language>
  <cp:lastModifiedBy>Admin</cp:lastModifiedBy>
  <dcterms:modified xsi:type="dcterms:W3CDTF">2012-12-10T14:03:46Z</dcterms:modified>
  <cp:revision>13</cp:revision>
  <dc:subject/>
  <dc:title>Мастер-класс «работа в Photoshop»</dc:title>
</cp:coreProperties>
</file>