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У ИРМО "Марковская СОШ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93D-F760-452F-A1CC-B98B72B4D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BDD-2EDC-4C23-8D61-A22813997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ИРМО "Марковская СОШ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62F-AD67-4137-AA57-AF2DDE1D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2C3-43AF-4002-A735-BD32B98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8D9-7FCD-4BE1-B0FF-76AF320F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943-5E58-44DF-967B-1DA76E9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B4E7-8DF0-4F5C-8122-F326418B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117B-844E-4302-AB4F-C85B700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1293-0045-484C-8563-E8CD4FAE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1B98-9B01-4C49-A2E0-E7B9FE9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B3F-D8C4-4E68-92C9-03BE7D4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687-1D28-45ED-9A0E-EB03B768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122-A60F-4D8A-AD10-43E9F49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4F1-2C0E-418C-93E5-CAB4E6CE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4C1-D73A-48FF-B904-68DBD3D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1747-4DE1-45DA-A6BB-EC27D12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53F-032C-4199-89CC-15E345F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5F77-18DB-4D8B-A282-43970402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BBD6-BC3C-4306-82A7-68D8942F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5ED2-6BD6-49AB-865C-D9E75DDF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9374-9360-4730-B3DF-3526C1FF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180C-4FA6-4B07-BA44-59024CD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2044-B963-4B83-8234-3082F2E6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9E0D-18A3-4A12-B5AA-9B0C978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A89-DD20-439E-8FC5-DAF7841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D835-6EE4-49CD-9758-1EF1C795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37EA-ECE0-44BE-8381-C71F553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B34B-C427-4D6F-8D2A-0FE5E49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492D-C4C2-4BF2-8977-C778004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2EC6-DCE0-4C94-94E9-42C17681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CD12-8B70-4D52-B4C2-7330D3CF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1510-829A-4DB2-B602-88E4E374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9787-F468-406A-8E28-CBC9BE17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9BD0-1A95-4DB3-B4A6-4717469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950D-247A-4DF5-85CF-3A68FBE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A24-255D-46F2-9E10-014230EC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9E6C-6D57-449B-8E9D-950C876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EAC1-9760-4C00-8918-7F51A66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5F4E-093E-4CF3-8803-AA8D73F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EBDB-33D9-4B86-8EC7-C1AA007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B382-BAC8-4A41-9ACB-1400A19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4727-0E04-4849-ABC9-4064AAE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C45B-3610-4C8C-B194-3AFA263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2FEF-6B65-4F8B-AFF5-8FA78CD8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480FA-8834-49B0-8A9D-3E90D2F9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3D542-F23E-43D8-9BFC-EC03EAC2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C3F-236C-4BB2-8565-CDE8991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5FC5-92F6-44FC-B679-4411040C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9A12-28D5-4EFF-9F50-E45835C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BE50-E10B-4FD1-90B7-2F48BCBA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9E75-AB13-4612-AC55-0600A36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5CB0-A7C0-4887-BAA6-17D93408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13706-5889-4F7A-8BB9-83D5267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B2A0-9490-4037-BB13-7E30E32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9E1E-59C6-4368-B508-C0E8992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AC21-C068-4194-B1D6-1F98B73A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4D73-E39E-4942-BA88-1A6F06B3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6E3-FC2E-44E5-9131-32F671E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3E4D-41C7-4608-9D37-226CF2D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EFDD-6AF8-460B-B36D-D6312ED2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AC03-B512-4899-AED9-751F5B9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339E-9123-4191-A098-D691EA2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1663-317E-4519-B133-92990ECD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F24C1-B43E-44AD-A8FE-CF41935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E2CD-9971-45F2-93A3-8F32E46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75794-E3EE-4358-A86D-3D66E52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E978-E7F6-4B66-B3E1-96C6F19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DB30-EEB2-460B-97E7-11489BC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760-EF0D-4599-8366-C71B9DE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ECA5-EB66-4D6A-8218-958E3DB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1685A-56B4-4CF3-82F9-5C837E67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C7F82-CD42-4BFE-922E-7942D5D2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60B5-7146-452E-99DA-7AB73057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A9FC-6507-4FEA-B122-7AF3095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5281-0367-468A-81D6-164C7A9D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CDA2-6967-4D1D-AA52-F3D72AA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5C6E-3DE7-4D65-AE15-3201799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51B0-6419-4B99-9FBF-DE20F82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930E-8F8F-44C4-BB59-49FED1B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FFB-8DC8-4F95-AF90-CB0B6A1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7441-1131-44B4-8654-B4E74C2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C4C6C-F0AF-4FEF-A901-EBC8764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240B-9EC0-4DEB-9EFD-6714B0B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E315-E582-449A-B886-BC5142AE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85E2-BB8F-4FA7-8AFA-BD4B74A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3071-C847-4B2D-8CC0-6C0FC9CE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AB790-1881-4A04-A044-F1FC836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5D41-ADCC-4DE6-A2CC-4EC659D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A9E4-3B96-47BD-BD89-146AA0C4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9906-D8CD-49F9-B1C7-31633DB3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FE5-4BFB-49E2-A0B4-E60CDA3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9526E-FB5E-4BED-9263-F4A12FB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C037-546B-4CFF-9828-4F68435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DF80-8C07-4375-B621-C96E08B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B1B9-6D8F-41F5-BF30-72E539CF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2AFAC-EF78-4342-9137-0B524C0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B074-D84B-4964-A42F-684AE9D4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A755-88AF-4D2E-B0DA-EFCDD769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CCFD-7B81-4428-9058-3500AF545E0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BE1-8A04-446D-906F-8C13453241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B98-9A18-4C4F-8DBD-44892E2FEBD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290-83E3-4CD2-ABE9-8E2598F05E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FBCB-BD08-4273-9568-46E3E1AACBD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EF3-005A-4B8F-98AE-125CA0A94F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43B-7548-458F-BAC1-04B168D8101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899A-29E2-41C9-8B15-E07B84D092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AEBB-8EFC-434A-BAFE-A9A23D7ED18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0C0-30E9-4A47-A6C9-AD61572EA6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CA5-607F-4C49-AB9D-8F0BED6421F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095-73F8-42F6-8D9D-7618875D55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052-16AD-452E-ADF6-0D29DC6B98E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5F4-A714-4A32-BA8A-071E767590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EEEB-5A76-4A95-86B9-D16DF508897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FF9-42C6-4DB0-888E-2FABCBBC73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33240" y="1749600"/>
            <a:ext cx="83282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лла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714240" y="6408720"/>
            <a:ext cx="821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85840" y="142920"/>
            <a:ext cx="8572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перь нам нужно уменьшить размер вставленного изображения с соблюдением пропорций. Для этого держи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Shif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 клавиатуре и аккуратно тянем за угол рам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2" descr="Коллаж в Adobe Photoshop 7"/>
          <p:cNvPicPr/>
          <p:nvPr/>
        </p:nvPicPr>
        <p:blipFill>
          <a:blip r:embed="rId1"/>
          <a:stretch/>
        </p:blipFill>
        <p:spPr>
          <a:xfrm>
            <a:off x="2071800" y="2428920"/>
            <a:ext cx="4724280" cy="31906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3357720" y="6408720"/>
            <a:ext cx="564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4256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передвигаем изображение на нужное место и жме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Enter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ываем следующее фото «щенок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Коллаж в Adobe Photoshop 8"/>
          <p:cNvPicPr/>
          <p:nvPr/>
        </p:nvPicPr>
        <p:blipFill>
          <a:blip r:embed="rId1"/>
          <a:stretch/>
        </p:blipFill>
        <p:spPr>
          <a:xfrm>
            <a:off x="1785960" y="1357200"/>
            <a:ext cx="4762440" cy="3210120"/>
          </a:xfrm>
          <a:prstGeom prst="rect">
            <a:avLst/>
          </a:prstGeom>
          <a:ln w="0">
            <a:noFill/>
          </a:ln>
        </p:spPr>
      </p:pic>
      <p:sp>
        <p:nvSpPr>
          <p:cNvPr id="413" name="Нижний колонтитул 3"/>
          <p:cNvSpPr/>
          <p:nvPr/>
        </p:nvSpPr>
        <p:spPr>
          <a:xfrm>
            <a:off x="2857680" y="6408720"/>
            <a:ext cx="628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1420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огично выделяем нужную его часть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Затем переключаемся на основное фото и вставля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2" descr="Коллаж в Adobe Photoshop 9"/>
          <p:cNvPicPr/>
          <p:nvPr/>
        </p:nvPicPr>
        <p:blipFill>
          <a:blip r:embed="rId1"/>
          <a:stretch/>
        </p:blipFill>
        <p:spPr>
          <a:xfrm>
            <a:off x="2630520" y="50004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Коллаж в Adobe Photoshop 10"/>
          <p:cNvPicPr/>
          <p:nvPr/>
        </p:nvPicPr>
        <p:blipFill>
          <a:blip r:embed="rId2"/>
          <a:stretch/>
        </p:blipFill>
        <p:spPr>
          <a:xfrm>
            <a:off x="4286160" y="3714840"/>
            <a:ext cx="4103640" cy="2766960"/>
          </a:xfrm>
          <a:prstGeom prst="rect">
            <a:avLst/>
          </a:prstGeom>
          <a:ln w="0">
            <a:noFill/>
          </a:ln>
        </p:spPr>
      </p:pic>
      <p:sp>
        <p:nvSpPr>
          <p:cNvPr id="417" name="Нижний колонтитул 4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13840" y="142920"/>
            <a:ext cx="87584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ньшаем (через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ередвигаем вставленное изображение на нужное мест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ываем следующее фото «щенок2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огично выделяем нужную его ча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Затем переключаемся на основное фото и вставляем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Picture 2" descr="Создаем коллаж в Adobe Photoshop"/>
          <p:cNvPicPr/>
          <p:nvPr/>
        </p:nvPicPr>
        <p:blipFill>
          <a:blip r:embed="rId1"/>
          <a:stretch/>
        </p:blipFill>
        <p:spPr>
          <a:xfrm>
            <a:off x="2500200" y="1285920"/>
            <a:ext cx="3786480" cy="2550960"/>
          </a:xfrm>
          <a:prstGeom prst="rect">
            <a:avLst/>
          </a:prstGeom>
          <a:ln w="0">
            <a:noFill/>
          </a:ln>
        </p:spPr>
      </p:pic>
      <p:sp>
        <p:nvSpPr>
          <p:cNvPr id="420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ньшаем (через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ередвигаем вставленное изображение на нужное мест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Picture 2" descr="Создаем коллаж в Adobe Photoshop 1"/>
          <p:cNvPicPr/>
          <p:nvPr/>
        </p:nvPicPr>
        <p:blipFill>
          <a:blip r:embed="rId1"/>
          <a:stretch/>
        </p:blipFill>
        <p:spPr>
          <a:xfrm>
            <a:off x="2000160" y="19288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23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14200" y="142920"/>
            <a:ext cx="87868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кне слоев переключаемся на слой первого вставленного изображения. Другие слои можете для удобства сделать невидимыми, нажав на иконки глаз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Создаем коллаж в Adobe Photoshop 2"/>
          <p:cNvPicPr/>
          <p:nvPr/>
        </p:nvPicPr>
        <p:blipFill>
          <a:blip r:embed="rId1"/>
          <a:stretch/>
        </p:blipFill>
        <p:spPr>
          <a:xfrm>
            <a:off x="2500200" y="2428920"/>
            <a:ext cx="3429000" cy="3819600"/>
          </a:xfrm>
          <a:prstGeom prst="rect">
            <a:avLst/>
          </a:prstGeom>
          <a:ln w="0">
            <a:noFill/>
          </a:ln>
        </p:spPr>
      </p:pic>
      <p:sp>
        <p:nvSpPr>
          <p:cNvPr id="426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нажимаем на иконку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Add Layer Mask (Добавить маску слоя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добавлении маски цвет переднего плана должен автоматически стать черны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Picture 2" descr="Создаем коллаж в Adobe Photoshop 3"/>
          <p:cNvPicPr/>
          <p:nvPr/>
        </p:nvPicPr>
        <p:blipFill>
          <a:blip r:embed="rId1"/>
          <a:stretch/>
        </p:blipFill>
        <p:spPr>
          <a:xfrm>
            <a:off x="2635200" y="1214280"/>
            <a:ext cx="2759040" cy="3071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Создаем коллаж в Adobe Photoshop 4"/>
          <p:cNvPicPr/>
          <p:nvPr/>
        </p:nvPicPr>
        <p:blipFill>
          <a:blip r:embed="rId2"/>
          <a:stretch/>
        </p:blipFill>
        <p:spPr>
          <a:xfrm>
            <a:off x="7358040" y="4857840"/>
            <a:ext cx="1314360" cy="1868400"/>
          </a:xfrm>
          <a:prstGeom prst="rect">
            <a:avLst/>
          </a:prstGeom>
          <a:ln w="0">
            <a:noFill/>
          </a:ln>
        </p:spPr>
      </p:pic>
      <p:sp>
        <p:nvSpPr>
          <p:cNvPr id="430" name="Нижний колонтитул 4"/>
          <p:cNvSpPr/>
          <p:nvPr/>
        </p:nvSpPr>
        <p:spPr>
          <a:xfrm>
            <a:off x="500040" y="6408720"/>
            <a:ext cx="623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рем инструмент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Brush tool (Кисть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мягкими краями и начинаем аккуратно водить кистью по краям первого вставленного изображения, размывая их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Picture 2" descr="22"/>
          <p:cNvPicPr/>
          <p:nvPr/>
        </p:nvPicPr>
        <p:blipFill>
          <a:blip r:embed="rId1"/>
          <a:stretch/>
        </p:blipFill>
        <p:spPr>
          <a:xfrm>
            <a:off x="7143840" y="0"/>
            <a:ext cx="785880" cy="655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Создаем коллаж в Adobe Photoshop 5"/>
          <p:cNvPicPr/>
          <p:nvPr/>
        </p:nvPicPr>
        <p:blipFill>
          <a:blip r:embed="rId2"/>
          <a:stretch/>
        </p:blipFill>
        <p:spPr>
          <a:xfrm>
            <a:off x="2000160" y="2643120"/>
            <a:ext cx="5072040" cy="3417840"/>
          </a:xfrm>
          <a:prstGeom prst="rect">
            <a:avLst/>
          </a:prstGeom>
          <a:ln w="0">
            <a:noFill/>
          </a:ln>
        </p:spPr>
      </p:pic>
      <p:sp>
        <p:nvSpPr>
          <p:cNvPr id="434" name="Нижний колонтитул 4"/>
          <p:cNvSpPr/>
          <p:nvPr/>
        </p:nvSpPr>
        <p:spPr>
          <a:xfrm>
            <a:off x="4094280" y="6492960"/>
            <a:ext cx="504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переходим на второе вставленное изображени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бавляем маску слоя и работаем кистью по такой же схеме, стирая и размывая кра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2" descr="Создаем коллаж в Adobe Photoshop 6"/>
          <p:cNvPicPr/>
          <p:nvPr/>
        </p:nvPicPr>
        <p:blipFill>
          <a:blip r:embed="rId1"/>
          <a:stretch/>
        </p:blipFill>
        <p:spPr>
          <a:xfrm>
            <a:off x="3571920" y="642960"/>
            <a:ext cx="2265480" cy="250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Создаем коллаж в Adobe Photoshop 7"/>
          <p:cNvPicPr/>
          <p:nvPr/>
        </p:nvPicPr>
        <p:blipFill>
          <a:blip r:embed="rId2"/>
          <a:stretch/>
        </p:blipFill>
        <p:spPr>
          <a:xfrm>
            <a:off x="2428920" y="4140360"/>
            <a:ext cx="3786120" cy="2552400"/>
          </a:xfrm>
          <a:prstGeom prst="rect">
            <a:avLst/>
          </a:prstGeom>
          <a:ln w="0">
            <a:noFill/>
          </a:ln>
        </p:spPr>
      </p:pic>
      <p:sp>
        <p:nvSpPr>
          <p:cNvPr id="438" name="Нижний колонтитул 4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ходим на следующий слой и снова добавляем маску сло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работаем кистью по такой же схеме, стирая и размывая кр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2" descr="Создаем коллаж в Adobe Photoshop 8"/>
          <p:cNvPicPr/>
          <p:nvPr/>
        </p:nvPicPr>
        <p:blipFill>
          <a:blip r:embed="rId1"/>
          <a:stretch/>
        </p:blipFill>
        <p:spPr>
          <a:xfrm>
            <a:off x="2786040" y="1459080"/>
            <a:ext cx="2857680" cy="318276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root\Рабочий стол\Мастер класс\результат.jpg"/>
          <p:cNvPicPr/>
          <p:nvPr/>
        </p:nvPicPr>
        <p:blipFill>
          <a:blip r:embed="rId2"/>
          <a:stretch/>
        </p:blipFill>
        <p:spPr>
          <a:xfrm>
            <a:off x="1285920" y="1571760"/>
            <a:ext cx="6337080" cy="4292640"/>
          </a:xfrm>
          <a:prstGeom prst="rect">
            <a:avLst/>
          </a:prstGeom>
          <a:ln w="0">
            <a:noFill/>
          </a:ln>
        </p:spPr>
      </p:pic>
      <p:sp>
        <p:nvSpPr>
          <p:cNvPr id="382" name="Нижний колонтитул 3"/>
          <p:cNvSpPr/>
          <p:nvPr/>
        </p:nvSpPr>
        <p:spPr>
          <a:xfrm>
            <a:off x="2643120" y="6408720"/>
            <a:ext cx="628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Documents and Settings\root\Рабочий стол\Мастер класс\результат.jpg"/>
          <p:cNvPicPr/>
          <p:nvPr/>
        </p:nvPicPr>
        <p:blipFill>
          <a:blip r:embed="rId2"/>
          <a:stretch/>
        </p:blipFill>
        <p:spPr>
          <a:xfrm>
            <a:off x="1403280" y="1282680"/>
            <a:ext cx="6337440" cy="429264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храняем результат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Save A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… имя файла «Коллаж» в папке Мастер-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Нижний колонтитул 2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652320" y="2494080"/>
            <a:ext cx="8498160" cy="115704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2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Коллаж в Adobe Photoshop 2"/>
          <p:cNvPicPr/>
          <p:nvPr/>
        </p:nvPicPr>
        <p:blipFill>
          <a:blip r:embed="rId2"/>
          <a:stretch/>
        </p:blipFill>
        <p:spPr>
          <a:xfrm>
            <a:off x="1785960" y="1785960"/>
            <a:ext cx="5503680" cy="3709800"/>
          </a:xfrm>
          <a:prstGeom prst="rect">
            <a:avLst/>
          </a:prstGeom>
          <a:ln w="0">
            <a:noFill/>
          </a:ln>
        </p:spPr>
      </p:pic>
      <p:sp>
        <p:nvSpPr>
          <p:cNvPr id="385" name="Нижний колонтитул 3"/>
          <p:cNvSpPr/>
          <p:nvPr/>
        </p:nvSpPr>
        <p:spPr>
          <a:xfrm>
            <a:off x="3429000" y="640872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Коллаж в Adobe Photoshop 3"/>
          <p:cNvPicPr/>
          <p:nvPr/>
        </p:nvPicPr>
        <p:blipFill>
          <a:blip r:embed="rId2"/>
          <a:stretch/>
        </p:blipFill>
        <p:spPr>
          <a:xfrm>
            <a:off x="2714760" y="21430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88" name="Нижний колонтитул 3"/>
          <p:cNvSpPr/>
          <p:nvPr/>
        </p:nvSpPr>
        <p:spPr>
          <a:xfrm>
            <a:off x="3000240" y="64087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Коллаж в Adobe Photoshop 9"/>
          <p:cNvPicPr/>
          <p:nvPr/>
        </p:nvPicPr>
        <p:blipFill>
          <a:blip r:embed="rId2"/>
          <a:stretch/>
        </p:blipFill>
        <p:spPr>
          <a:xfrm>
            <a:off x="2357280" y="2143080"/>
            <a:ext cx="3791160" cy="2847960"/>
          </a:xfrm>
          <a:prstGeom prst="rect">
            <a:avLst/>
          </a:prstGeom>
          <a:ln w="0">
            <a:noFill/>
          </a:ln>
        </p:spPr>
      </p:pic>
      <p:sp>
        <p:nvSpPr>
          <p:cNvPr id="392" name="Нижний колонтитул 4"/>
          <p:cNvSpPr/>
          <p:nvPr/>
        </p:nvSpPr>
        <p:spPr>
          <a:xfrm>
            <a:off x="1500120" y="6408720"/>
            <a:ext cx="742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root\Рабочий стол\Мастер класс\щенок2.jpg"/>
          <p:cNvPicPr/>
          <p:nvPr/>
        </p:nvPicPr>
        <p:blipFill>
          <a:blip r:embed="rId2"/>
          <a:stretch/>
        </p:blipFill>
        <p:spPr>
          <a:xfrm>
            <a:off x="3000240" y="2143080"/>
            <a:ext cx="2897280" cy="26654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3"/>
          <p:cNvSpPr/>
          <p:nvPr/>
        </p:nvSpPr>
        <p:spPr>
          <a:xfrm>
            <a:off x="3357720" y="6408720"/>
            <a:ext cx="578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85840" y="15717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ойте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tosh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кроем файл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Open-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и документы-Мастер-класс-Осн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-Open-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и документы-Мастер-класс-Детств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ботаем с файлом «Детство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рем инструмент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Rectangular Marquee tool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(Прямоугольное выдел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Documents and Settings\root\Рабочий стол\Мастер класс\i.jpeg"/>
          <p:cNvPicPr/>
          <p:nvPr/>
        </p:nvPicPr>
        <p:blipFill>
          <a:blip r:embed="rId2"/>
          <a:stretch/>
        </p:blipFill>
        <p:spPr>
          <a:xfrm>
            <a:off x="4714920" y="13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10"/>
          <p:cNvPicPr/>
          <p:nvPr/>
        </p:nvPicPr>
        <p:blipFill>
          <a:blip r:embed="rId3"/>
          <a:stretch/>
        </p:blipFill>
        <p:spPr>
          <a:xfrm>
            <a:off x="6000840" y="5214960"/>
            <a:ext cx="642960" cy="536400"/>
          </a:xfrm>
          <a:prstGeom prst="rect">
            <a:avLst/>
          </a:prstGeom>
          <a:ln w="0">
            <a:noFill/>
          </a:ln>
        </p:spPr>
      </p:pic>
      <p:sp>
        <p:nvSpPr>
          <p:cNvPr id="400" name="Нижний колонтитул 5"/>
          <p:cNvSpPr/>
          <p:nvPr/>
        </p:nvSpPr>
        <p:spPr>
          <a:xfrm>
            <a:off x="2500200" y="6408720"/>
            <a:ext cx="650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верхнем меню ставим такие настройки этого инструмент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яем нужную часть голов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пируем выделение нажимая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C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2" descr="Коллаж в Adobe Photoshop 4"/>
          <p:cNvPicPr/>
          <p:nvPr/>
        </p:nvPicPr>
        <p:blipFill>
          <a:blip r:embed="rId1"/>
          <a:stretch/>
        </p:blipFill>
        <p:spPr>
          <a:xfrm>
            <a:off x="1143000" y="1071720"/>
            <a:ext cx="5851440" cy="823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Коллаж в Adobe Photoshop 5"/>
          <p:cNvPicPr/>
          <p:nvPr/>
        </p:nvPicPr>
        <p:blipFill>
          <a:blip r:embed="rId2"/>
          <a:stretch/>
        </p:blipFill>
        <p:spPr>
          <a:xfrm>
            <a:off x="2500200" y="2857680"/>
            <a:ext cx="3594240" cy="2700000"/>
          </a:xfrm>
          <a:prstGeom prst="rect">
            <a:avLst/>
          </a:prstGeom>
          <a:ln w="0">
            <a:noFill/>
          </a:ln>
        </p:spPr>
      </p:pic>
      <p:sp>
        <p:nvSpPr>
          <p:cNvPr id="404" name="Нижний колонтитул 4"/>
          <p:cNvSpPr/>
          <p:nvPr/>
        </p:nvSpPr>
        <p:spPr>
          <a:xfrm>
            <a:off x="3571920" y="6408720"/>
            <a:ext cx="557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лее переключаемся на основное фото и вставляем на него выделение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V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тем жмем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Ctrl+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чтобы перейти в режим трансформирова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2" descr="Коллаж в Adobe Photoshop 6"/>
          <p:cNvPicPr/>
          <p:nvPr/>
        </p:nvPicPr>
        <p:blipFill>
          <a:blip r:embed="rId1"/>
          <a:stretch/>
        </p:blipFill>
        <p:spPr>
          <a:xfrm>
            <a:off x="1928880" y="2714760"/>
            <a:ext cx="4429080" cy="299088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3"/>
          <p:cNvSpPr/>
          <p:nvPr/>
        </p:nvSpPr>
        <p:spPr>
          <a:xfrm>
            <a:off x="4000680" y="64087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 Григорьева Ольга Николаевна МОУ ИРМО "Марковская СОШ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3:41:37Z</dcterms:created>
  <dc:creator>МОУ МАРКОВСКАЯ СОШ </dc:creator>
  <dc:description/>
  <dc:language>en-US</dc:language>
  <cp:lastModifiedBy>Admin</cp:lastModifiedBy>
  <dcterms:modified xsi:type="dcterms:W3CDTF">2012-12-10T14:03:46Z</dcterms:modified>
  <cp:revision>13</cp:revision>
  <dc:subject/>
  <dc:title>Мастер-класс «работа в Photoshop»</dc:title>
</cp:coreProperties>
</file>