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2AA-7730-4A44-8F64-E78C6982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B24-DAA6-4CEB-ACB1-AF8E98B4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9E6-3AC7-4579-B6E9-997B2FD7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697-654A-47A1-99C9-AAE30628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5E52-867B-4726-AF6D-82C7852A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D57E-911F-4591-BCB2-FD9DEA49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8635-9934-4A7C-9D81-69D90554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FC07-B2EE-49CB-A795-4AA2A761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4CD8-7E20-4BAC-BEE2-0EF99054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E6B7-F388-45B8-A169-57E516CD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1666-890B-4947-BDFA-14BD1604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E4D-E6EC-4B3A-9E2D-7C8258F6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B5A4-EB25-4B72-BC3F-DC928A7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C2A8-AE11-4BB5-BDAF-AEEC02CE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5567-0B14-4A2E-83ED-74FC039A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A8D8-4F2E-46CC-B931-321F4668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DD86-1641-446A-9ECB-A2B0C2E8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B0A-699E-44A8-982E-BA602E34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307-6B75-42FA-BC18-A05CC4FA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1B0-FC5D-4EE5-8077-313F0006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86B-1624-41D5-AE05-92662E9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61A-FF4C-4066-9280-11F4F767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9DD-C384-4C8A-B296-4296C821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FA6-F513-4863-8A08-5035CA89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A4F-63E1-4EAB-BD7B-B00EE70C25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D5B6-0822-42F0-BDAE-B7F8FF4505B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ктическое овладение структурой языка на уроках ПП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76160" y="3657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Подготовила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русакова Милана Валерьевн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учитель начальных классов ГБОУ СКОШ </a:t>
            </a:r>
            <a:r>
              <a:rPr b="1" i="1" lang="en-US" sz="2000" spc="-1" strike="noStrike">
                <a:solidFill>
                  <a:srgbClr val="333300"/>
                </a:solidFill>
                <a:latin typeface="Arial"/>
              </a:rPr>
              <a:t>I-II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идов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Picture 4" descr="P1280671"/>
          <p:cNvPicPr/>
          <p:nvPr/>
        </p:nvPicPr>
        <p:blipFill>
          <a:blip r:embed="rId1"/>
          <a:stretch/>
        </p:blipFill>
        <p:spPr>
          <a:xfrm>
            <a:off x="-6095880" y="-762120"/>
            <a:ext cx="4573440" cy="609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1280671"/>
          <p:cNvPicPr/>
          <p:nvPr/>
        </p:nvPicPr>
        <p:blipFill>
          <a:blip r:embed="rId2"/>
          <a:stretch/>
        </p:blipFill>
        <p:spPr>
          <a:xfrm>
            <a:off x="5867280" y="2514600"/>
            <a:ext cx="3048120" cy="406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ы организации коллективной работ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фронтальная работа учителя с классом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работа с «маленьким учителем»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работа бригадами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работа пар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мения, приобретаемые деть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на уроках ПП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выделять объект деятельности по его основным признакам, строению, функциональному назначению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представлять и описывать среду обитания и образ жизни животных, место произрастания растений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понимать назначение инструментов и материалов, способы деятельности с ними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планировать порядок выполнения действий, отбирать необходимые материалы и инструменты в соответствии с целью и планом работы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координировать и корректировать в ходе выполнения свои действия с работой товарищей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давать и выполнять поручения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помогать другим и принимать их помощь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качественно, точно и в запланированное время выполнять каждый этап работы;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- критически оценивать результаты работы (своей и товарищей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рок «Паровозик»               (аппликац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240" y="4266720"/>
            <a:ext cx="74912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"/>
              </a:rPr>
              <a:t>Цел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учиться работать с бумагой, картоном, ножницами, аккуратно обводить шаблоны и вырезать детали, развивать речь детей , учиться работать по команде «маленького учителя», расширить знания по теме «Транспорт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8" name="Picture 4" descr="d60722b665fe706ba057f1e1704"/>
          <p:cNvPicPr/>
          <p:nvPr/>
        </p:nvPicPr>
        <p:blipFill>
          <a:blip r:embed="rId1"/>
          <a:stretch/>
        </p:blipFill>
        <p:spPr>
          <a:xfrm>
            <a:off x="1600200" y="1676520"/>
            <a:ext cx="7226280" cy="1625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-1920240" y="324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учиться работать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71240" y="11426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1.Образовательные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изучить части поезда на примере паровозика; закрепить названия транспорта, повторить слова- названия материалов для урока: цветная бумага, картон. шаблон, клеёнка; закреплять слова-действия: обвести, вырезать,сложить, отрезать; учиться работать с бумагой, развивать потребность в речи, развивать умение высказывать свои потребности (« Можно взять…»,« Помогите, у меня не получается»).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28840" y="304920"/>
            <a:ext cx="37465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2.Воспитательные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 воспитывать самостоятельность, творческое отношение к труду, аккуратность, опрятность, умение наблюдать и сравнивать, воспитывать культуру речи,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воспитывать чувство товарищества, сопереживания,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воспитывать умение слушать своего товарища в роли «маленького учителя», уважать его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3760" y="3886200"/>
            <a:ext cx="3670200" cy="28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3. Коррекционные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 учиться правильно строить фразы, предложения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 чётко проговаривать известные слов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 следить за произношением, ударением, слитностью реч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правильно дактилировать ,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- учиться правильно артикулировать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картинки с изображением паровозика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игрушка паровозика 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таблички слов и фраз по теме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бумага, картон, клей, ножницы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картинки с изображением транспорта,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мультфильм «Паровозик из Ромашково»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рагмент уро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маленький учитель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- Возьмите конверты! Откройте!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Что вы сделали?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: «Мы взяли конверты и открыли.»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: -Что у вас лежит в конверте?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: «Шаблоны.»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:-Достаньте шаблоны. Разложите. Рассмотрите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Что  это?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 высказывают свои предположения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 :-Мы будем делать поезд. М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 показывает картинку поезда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читель: - Посмотрите на картинку. Это паровоз (вывешивается табличка «паровоз»). Это вагон (табличка «вагон»)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- Что это?(колесо, труба, окно)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 перечисляют знакомые слова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- Что для работы нужно?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Дети отбирают нужный материал и инструменты. Потом выполняют аппликацию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467840" cy="50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«Преднамеренное создание ситуаций, требующих определенных взаимоотношений, способствует обучению детей не только способом поведения в различных ситуациях коллективной деятельности, но и обогащает речь, активизирует общение глухих школьников»                               Т.С. Зыков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менно уроки ППО создают глухим детям наиболее благоприятные условия для овладения словесной речью, обеспечивая реализацию ведущего принципа данной системы - связи речевого развития с деятельностью 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такое ПП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едметно-практическое обучение (ППО) - это специальный учебный предмет, введенный в курс подготовительного и 1-4 классов для решения развивающих, воспитательных, обучающих и коррекционных задач в коррекционных школах 1-го и 2-го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ид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и уроков ПП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- целенаправленное общее и речевое развитие глухих школьников, создающее основу для успешного овладения детьми учебным материалом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- вызвать потребность в словесной речи, целенаправленно ставя ребенка в условия коллективно-совместной предметно-практической деятельности, которая организуется с помощью речевой регуляции либо учителем, либо самими учениками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- развивать трудовые навыки школьников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«Предметно-практическая деятельность является развивающей одновременно в разных планах. В процессе практической деятельности учащиеся изготавливают различные предметы, что не просто формирует простейшие умения навыки, но и организует общее и речевое развитие глухих детей»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.А. Зыков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условия созд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лухо-речевой среды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мотивированное речевое общение с детьми в процессе практической деятельност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формирование у детей потребности в речевом общени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поддержание всех проявлений речи ребенка, каким бы ни был их уровень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побуждение детей к активному применению реч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использование остаточного слуха как необходимого условия формирования устной речи и общения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контроль за речью детей со стороны взрослых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соблюдение единых требований к речи взрослых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иды речевой коммуникаци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на уроках ПП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1) понимать обращения и выполнять приказания, выражать просьбу, желание, побуждение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2) обращаться к товарищам (или другому лицу) по заданию учителя, а также по собственному побуждению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3) отвечать на вопросы и задавать их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4) сообщать о выполненной и предстоящей работе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5) участвовать в диалог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уктура урока ПП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сообщение темы урока и вида деятельности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знакомство с изделием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составление заявки на материалы и инструменты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составление плана изготовления ее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- отчет о работ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«Ознакомление сопутствует речевой практике. И повторение, и закрепление происходит через овладение материалом в практике общения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В.А. Зыков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 ознакомления с новыми словами и фразами на уроках ПП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1. Сообщение речевого материала в условиях предметно-практической деятельности. Это ведущий и наиболее простой способ обучения. Учитель называет объект, его составные части, материалы и инструменты, нужные для его изготовления, действия с ними и другие новые слова в процессе самой работы, когда возникает в них необходимост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2. Показ предмета изготовле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3. Выполнение учителем необходимых действий. Учитель сначала дает задание, и только потом, если ученики не знают, как его выполнять, сам производит нужное действи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4. Пояснение словесными средств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5. Использование логики мышления детей и развития е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6T06:46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