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840-E61E-4F04-8D38-46A58D48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3E1-A634-4894-BAA4-F5337A48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EAE-5D83-4B1D-9090-FDE2D100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A26-D906-42D7-A193-8CCAA314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C905-5040-4D79-B079-085BD70D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FE8-75B8-4123-B3FB-EAFD8F4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08D-0967-435F-A68E-E0427F3B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19A-C8EA-4968-9C3A-C876CB2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75F9-A89C-4CED-BEB8-936F809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CEF6-B3C9-49DF-B379-EFA22D4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93D7-F135-41C5-B9F9-C5D8ED8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0B6-6FE7-4624-88A3-F7DED20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679-DEAC-4CBE-B150-D34ED4D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DC1B-59E9-4985-896C-DFD4511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FC19-5FA8-435C-9FDE-145B081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D3F-EF54-42B1-A0E5-75507BA0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548B-256A-4529-B092-1AAD9B35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708-0E30-4FB0-8B4F-5453C09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5F4-0A24-4F58-B1F8-FABA189A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3FE-3901-47C1-8BF9-F2676BC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459-FF2F-4ED4-B6B1-86DC4007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822-A030-4C11-A58A-FCA6C751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444-EEF0-4E91-917E-9962FE0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939-8276-4F40-8EF1-CD5B407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DFE-DB56-4523-87C2-069DC69607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EA73-4C23-41A6-A26C-A26E3E856BC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ктическое овладение структурой языка на уроках П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76160" y="3657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Подготовил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усакова Милана Валерьевн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учитель начальных классов ГБОУ СКОШ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I-II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идов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4" descr="P1280671"/>
          <p:cNvPicPr/>
          <p:nvPr/>
        </p:nvPicPr>
        <p:blipFill>
          <a:blip r:embed="rId1"/>
          <a:stretch/>
        </p:blipFill>
        <p:spPr>
          <a:xfrm>
            <a:off x="-6095880" y="-762120"/>
            <a:ext cx="4573440" cy="609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280671"/>
          <p:cNvPicPr/>
          <p:nvPr/>
        </p:nvPicPr>
        <p:blipFill>
          <a:blip r:embed="rId2"/>
          <a:stretch/>
        </p:blipFill>
        <p:spPr>
          <a:xfrm>
            <a:off x="5867280" y="25146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организации коллективной рабо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фронтальная работа учителя с классом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с «маленьким учителем»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бригадами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пар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ия, приобретаемые деть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на уроках ПП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выделять объект деятельности по его основным признакам, строению, функциональному назначению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редставлять и описывать среду обитания и образ жизни животных, место произрастания растений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онимать назначение инструментов и материалов, способы деятельности с ними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ланировать порядок выполнения действий, отбирать необходимые материалы и инструменты в соответствии с целью и планом работы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оординировать и корректировать в ходе выполнения свои действия с работой товарищей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давать и выполнять поручения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омогать другим и принимать их помощь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ачественно, точно и в запланированное время выполнять каждый этап работы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ритически оценивать результаты работы (своей и товарищей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«Паровозик»               (аппликац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4266720"/>
            <a:ext cx="74912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Цел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учиться работать с бумагой, картоном, ножницами, аккуратно обводить шаблоны и вырезать детали, развивать речь детей , учиться работать по команде «маленького учителя», расширить знания по теме «Транспорт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Picture 4" descr="d60722b665fe706ba057f1e1704"/>
          <p:cNvPicPr/>
          <p:nvPr/>
        </p:nvPicPr>
        <p:blipFill>
          <a:blip r:embed="rId1"/>
          <a:stretch/>
        </p:blipFill>
        <p:spPr>
          <a:xfrm>
            <a:off x="1600200" y="1676520"/>
            <a:ext cx="7226280" cy="1625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-1920240" y="324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читься работать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71240" y="11426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1.Образователь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учить части поезда на примере паровозика; закрепить названия транспорта, повторить слова- названия материалов для урока: цветная бумага, картон. шаблон, клеёнка; закреплять слова-действия: обвести, вырезать,сложить, отрезать; учиться работать с бумагой, развивать потребность в речи, развивать умение высказывать свои потребности (« Можно взять…»,« Помогите, у меня не получается»).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28840" y="304920"/>
            <a:ext cx="37465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2.Воспитатель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воспитывать самостоятельность, творческое отношение к труду, аккуратность, опрятность, умение наблюдать и сравнивать, воспитывать культуру речи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воспитывать чувство товарищества, сопереживания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воспитывать умение слушать своего товарища в роли «маленького учителя», уважать его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3760" y="3886200"/>
            <a:ext cx="3670200" cy="28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3. Коррекцион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учиться правильно строить фразы, предложения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чётко проговаривать известные слов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следить за произношением, ударением, слитностью реч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правильно дактилировать 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учиться правильно артикулировать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картинки с изображением паровозика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игрушка паровозика 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таблички слов и фраз по теме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бумага, картон, клей, ножниц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картинки с изображением транспорта,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мультфильм «Паровозик из Ромашково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рагмент уро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маленький учитель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Возьмите конверты! Откройте!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Что вы сделали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: «Мы взяли конверты и открыли.»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: -Что у вас лежит в конверте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: «Шаблоны.»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:-Достаньте шаблоны. Разложите. Рассмотрите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Что  это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высказывают свои предполож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 :-Мы будем делать поезд. 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 показывает картинку поезда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читель: - Посмотрите на картинку. Это паровоз (вывешивается табличка «паровоз»). Это вагон (табличка «вагон»)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Что это?(колесо, труба, окно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перечисляют знакомые слова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Что для работы нужно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отбирают нужный материал и инструменты. Потом выполняют аппликацию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467840" cy="50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«Преднамеренное создание ситуаций, требующих определенных взаимоотношений, способствует обучению детей не только способом поведения в различных ситуациях коллективной деятельности, но и обогащает речь, активизирует общение глухих школьников»                               Т.С. Зыков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менно уроки ППО создают глухим детям наиболее благоприятные условия для овладения словесной речью, обеспечивая реализацию ведущего принципа данной системы - связи речевого развития с деятельностью 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П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едметно-практическое обучение (ППО) - это специальный учебный предмет, введенный в курс подготовительного и 1-4 классов для решения развивающих, воспитательных, обучающих и коррекционных задач в коррекционных школах 1-го и 2-го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и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и уроков ПП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целенаправленное общее и речевое развитие глухих школьников, создающее основу для успешного овладения детьми учебным материалом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вызвать потребность в словесной речи, целенаправленно ставя ребенка в условия коллективно-совместной предметно-практической деятельности, которая организуется с помощью речевой регуляции либо учителем, либо самими учениками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развивать трудовые навыки школьников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«Предметно-практическая деятельность является развивающей одновременно в разных планах. В процессе практической деятельности учащиеся изготавливают различные предметы, что не просто формирует простейшие умения навыки, но и организует общее и речевое развитие глухих детей»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.А. Зыков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условия созд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лухо-речевой среды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мотивированное речевое общение с детьми в процессе практической деятельност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формирование у детей потребности в речевом общени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поддержание всех проявлений речи ребенка, каким бы ни был их уровень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побуждение детей к активному применению реч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использование остаточного слуха как необходимого условия формирования устной речи и общения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контроль за речью детей со стороны взрослых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блюдение единых требований к речи взрослых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иды речевой коммуникаци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на уроках ПП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) понимать обращения и выполнять приказания, выражать просьбу, желание, побуждени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) обращаться к товарищам (или другому лицу) по заданию учителя, а также по собственному побуждению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) отвечать на вопросы и задавать их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4) сообщать о выполненной и предстоящей работ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5) участвовать в диалог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урока П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общение темы урока и вида деятельности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знакомство с изделием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ставление заявки на материалы и инструмент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ставление плана изготовления ее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отчет о рабо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«Ознакомление сопутствует речевой практике. И повторение, и закрепление происходит через овладение материалом в практике общения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В.А. Зыков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 ознакомления с новыми словами и фразами на уроках ПП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. Сообщение речевого материала в условиях предметно-практической деятельности. Это ведущий и наиболее простой способ обучения. Учитель называет объект, его составные части, материалы и инструменты, нужные для его изготовления, действия с ними и другие новые слова в процессе самой работы, когда возникает в них необходимос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. Показ предмета изготовле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. Выполнение учителем необходимых действий. Учитель сначала дает задание, и только потом, если ученики не знают, как его выполнять, сам производит нужное действи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4. Пояснение словесными средств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5. Использование логики мышления детей и развития е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6T06:46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