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25.jpeg" ContentType="image/jpeg"/>
  <Override PartName="/ppt/media/image2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65.jpeg" ContentType="image/jpeg"/>
  <Override PartName="/ppt/media/image8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1.jpeg" ContentType="image/jpeg"/>
  <Override PartName="/ppt/media/image21.png" ContentType="image/png"/>
  <Override PartName="/ppt/media/image23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70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6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53B-628E-42D0-8921-5EF2123F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D02-5D54-4B72-A73B-E99F56B9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677-0DAB-4776-9E74-09E80D32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8153-55AC-4D88-9B21-1B7836C4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74681-0D81-4E6B-8FA1-411BB971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CFFAB-DEDD-4563-BAF7-57F04694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3867E-3230-43E6-A76E-7E231D70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5F072-847A-481F-BB0E-B803945E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AEC45-3364-48BA-9BC8-A03CE96E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16955-92A2-4295-871C-B6E08ADA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52333-7FE8-4D34-9A25-1605A623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A25-6E79-4640-9F18-9A5F44FC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8578E-9BF4-4F80-8C99-630E91FE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D1952-901C-47D6-8731-A30D9BCD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63CC3-6C85-44B4-88CD-FCB77D0B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3147E-E958-4994-9997-B2CFEF10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CCE83-B350-4C9F-A0CE-F0724484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B9157-E699-4A77-89DD-BDDEF287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B900E-31D5-4F3E-A868-840C1053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41F84-B23A-46E1-83EC-9185E86F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207F7-18CF-4F96-A99E-190E71F1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F3A86-731C-4125-A8CA-027088EB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C9B-5670-4A94-8638-3859A7B2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F6ACF-41AE-4956-A743-6D3FF730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AB038-00A4-4D8D-9D50-36E38E9E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27330-FD1F-46A1-A651-067604A4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18A89-B2AA-461D-8C53-4F49B87A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3C99D-96CD-498E-8386-DD1714E3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DEDF0-A4D0-45AB-A061-40FFDAA7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5E7B5-8A3C-4D33-9A06-DF3A0E23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328BDB-AD58-4DF6-8F1D-190C65FF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79F338-36FC-4869-9B14-8DCB8C72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A440CF-DFAB-4D97-9315-23B28051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836-DE21-46BE-9785-81E5678F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387B22-EDE6-40E4-B8FA-B13A28C2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4C95C2-6E8B-47DA-B9DE-A00F66E7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58862F-8A30-4D65-8A02-9D9214D2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0BC78B-68FC-4415-B337-1E0ED3D2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E05D28-7E72-456F-BD3E-5248ED59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539840-8074-48A5-934D-854563E0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0E7B12-C658-4ACC-AFA3-BB48270D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25019E-F8CA-4984-8FCC-FF70FE5D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6E3E0D-E195-4C35-8166-4EB3606B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6474F-BC59-4CD0-8837-AE7AE957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3A9-F1B3-4311-BCA2-F0895211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7E3565-8A79-4D06-AD1B-5DDEE4F6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E8903-0B18-4F03-8FD6-BA32B50C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E0169-66A6-4E16-BE52-A10DD295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AF33E-4679-43C6-9CDC-D99B4A66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93E943-D3EC-4123-91BB-DECA326E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EC71A4-4419-49E9-9572-C77FC911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64C89C-AFDE-4635-A6EB-84207F48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F06D19-08B7-4F5B-8544-4434D3A6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C9E9E0-8811-4BFC-97C6-A1D9F70F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811A97-7338-4A7A-B93A-4DC85FB7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AC3A-8FEA-43A4-8EEE-A54BD339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66B959-63D5-4A0A-90CC-F15AEF6A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89B909-B401-4C6C-A115-B71E6A0B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B4F118-5BFF-4950-9DD3-C21EC16F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07C1CD-2CF9-4377-9E92-0E1305CC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7AC579-370C-4784-AA42-4301CF79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AF784A-C26C-45AE-AE89-7B92C617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4E6948-566A-4603-B3A6-7CFC972F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E9260D-3052-4377-861D-E5CDFD4D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F24068-1C5B-4C96-81CD-53E3260A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65019B-2E4C-44F3-AD50-87330076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FDE-33C4-4B9E-9992-A496335E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DF81CB-8692-428C-9034-145D966F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9F0CF3-7531-4CD3-8263-28917A73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6E12A4-67E2-438A-8ED1-EC4FB39F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E272-43CD-4C00-B34A-FB87DC7D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A1C-F2A5-44C0-8F60-E08DDA6E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c3e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414B-95AE-4E8D-8487-84DCDC72B5D0}" type="slidenum">
              <a:rPr b="0" lang="en-US" sz="1600" spc="-1" strike="noStrike">
                <a:solidFill>
                  <a:srgbClr val="89c3e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f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f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9f2936"/>
          </a:solidFill>
          <a:ln w="38160">
            <a:solidFill>
              <a:srgbClr val="9f2936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c3e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8122-5022-412C-88E9-47281CE643AE}" type="slidenum">
              <a:rPr b="0" lang="en-US" sz="1600" spc="-1" strike="noStrike">
                <a:solidFill>
                  <a:srgbClr val="89c3e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c3e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E955-642A-4D8C-ABF7-5870F9F397E0}" type="slidenum">
              <a:rPr b="0" lang="en-US" sz="1600" spc="-1" strike="noStrike">
                <a:solidFill>
                  <a:srgbClr val="89c3e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f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f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A4E3-F887-4315-B22F-4D46B98DFD0B}" type="slidenum">
              <a:rPr b="0" lang="en-US" sz="1600" spc="-1" strike="noStrike">
                <a:solidFill>
                  <a:srgbClr val="89c3e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c3e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c3e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E032-5920-41AB-B545-BE585CF39E96}" type="slidenum">
              <a:rPr b="0" lang="en-US" sz="1600" spc="-1" strike="noStrike">
                <a:solidFill>
                  <a:srgbClr val="89c3e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c3e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4F20-E994-4494-92C5-EDEAF4EF8462}" type="slidenum">
              <a:rPr b="0" lang="en-US" sz="1600" spc="-1" strike="noStrike">
                <a:solidFill>
                  <a:srgbClr val="89c3e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14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image" Target="../media/image60.jpeg"/><Relationship Id="rId9" Type="http://schemas.openxmlformats.org/officeDocument/2006/relationships/image" Target="../media/image61.jpeg"/><Relationship Id="rId10" Type="http://schemas.openxmlformats.org/officeDocument/2006/relationships/image" Target="../media/image62.jpeg"/><Relationship Id="rId11" Type="http://schemas.openxmlformats.org/officeDocument/2006/relationships/image" Target="../media/image63.jpeg"/><Relationship Id="rId12" Type="http://schemas.openxmlformats.org/officeDocument/2006/relationships/image" Target="../media/image64.jpeg"/><Relationship Id="rId13" Type="http://schemas.openxmlformats.org/officeDocument/2006/relationships/image" Target="../media/image65.jpeg"/><Relationship Id="rId14" Type="http://schemas.openxmlformats.org/officeDocument/2006/relationships/image" Target="../media/image66.jpeg"/><Relationship Id="rId15" Type="http://schemas.openxmlformats.org/officeDocument/2006/relationships/image" Target="../media/image67.jpeg"/><Relationship Id="rId16" Type="http://schemas.openxmlformats.org/officeDocument/2006/relationships/image" Target="../media/image68.jpeg"/><Relationship Id="rId17" Type="http://schemas.openxmlformats.org/officeDocument/2006/relationships/image" Target="../media/image69.jpeg"/><Relationship Id="rId18" Type="http://schemas.openxmlformats.org/officeDocument/2006/relationships/image" Target="../media/image70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76f8"/>
            </a:gs>
            <a:gs pos="100000">
              <a:srgbClr val="6136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Прямоугольник 4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212240" cy="5670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8" descr="МАЛАХИТ – основной карбонат меди, имеет окраску от светлозеленой до темнозеленой."/>
          <p:cNvPicPr/>
          <p:nvPr/>
        </p:nvPicPr>
        <p:blipFill>
          <a:blip r:embed="rId2"/>
          <a:stretch/>
        </p:blipFill>
        <p:spPr>
          <a:xfrm>
            <a:off x="0" y="0"/>
            <a:ext cx="2928960" cy="2703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МЕЗОЛИТ"/>
          <p:cNvPicPr/>
          <p:nvPr/>
        </p:nvPicPr>
        <p:blipFill>
          <a:blip r:embed="rId3"/>
          <a:stretch/>
        </p:blipFill>
        <p:spPr>
          <a:xfrm>
            <a:off x="5562720" y="3376440"/>
            <a:ext cx="2876400" cy="3481560"/>
          </a:xfrm>
          <a:prstGeom prst="rect">
            <a:avLst/>
          </a:prstGeom>
          <a:ln w="0">
            <a:noFill/>
          </a:ln>
        </p:spPr>
      </p:pic>
      <p:pic>
        <p:nvPicPr>
          <p:cNvPr id="255" name="9f293c736c0c.mp3" descr=""/>
          <p:cNvPicPr/>
          <p:nvPr/>
        </p:nvPicPr>
        <p:blipFill>
          <a:blip r:embed="rId4"/>
          <a:stretch/>
        </p:blipFill>
        <p:spPr>
          <a:xfrm>
            <a:off x="8470800" y="6184800"/>
            <a:ext cx="673200" cy="6732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214200" y="1643040"/>
            <a:ext cx="8572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1f28"/>
                </a:solidFill>
                <a:latin typeface="Cambria"/>
              </a:rPr>
              <a:t>Минералы и минералогия представляют собой чрезвычайно большой интерес для промышленности, многих областей науки и имеет важное эстетическое значение. </a:t>
            </a:r>
            <a:endParaRPr b="0" lang="en-US" sz="32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transition spd="med" advTm="9000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285840" y="142920"/>
            <a:ext cx="885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Минералы сыграли важную роль в развитии человека и создании цивилизаций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В каменном веке люди пользовались кремниевыми орудиями труда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Около 10 000 лет назад человек научился получать медь из руды.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С изобретением бронзы (сплава меди и олова) начался новый век - бронзовый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С начала железного века, 3300 лет назад, человек осваивал все новые способы использования полезных ископаемых, добытых из земной коры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Современная промышленность по-прежнему зависит от минеральных ресурсов Земли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290" name="Picture 2" descr="http://im8-tub.yandex.net/i?id=66080342&amp;tov=8"/>
          <p:cNvPicPr/>
          <p:nvPr/>
        </p:nvPicPr>
        <p:blipFill>
          <a:blip r:embed="rId2"/>
          <a:stretch/>
        </p:blipFill>
        <p:spPr>
          <a:xfrm>
            <a:off x="0" y="3286080"/>
            <a:ext cx="3214800" cy="1968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http://im4-tub.yandex.net/i?id=119822431&amp;tov=4"/>
          <p:cNvPicPr/>
          <p:nvPr/>
        </p:nvPicPr>
        <p:blipFill>
          <a:blip r:embed="rId3"/>
          <a:stretch/>
        </p:blipFill>
        <p:spPr>
          <a:xfrm>
            <a:off x="2500200" y="4429080"/>
            <a:ext cx="2036880" cy="2214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http://im7-tub.yandex.net/i?id=5143609&amp;tov=7"/>
          <p:cNvPicPr/>
          <p:nvPr/>
        </p:nvPicPr>
        <p:blipFill>
          <a:blip r:embed="rId4"/>
          <a:stretch/>
        </p:blipFill>
        <p:spPr>
          <a:xfrm>
            <a:off x="4071960" y="3214800"/>
            <a:ext cx="1714320" cy="2233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http://im4-tub.yandex.net/i?id=196763473&amp;tov=4"/>
          <p:cNvPicPr/>
          <p:nvPr/>
        </p:nvPicPr>
        <p:blipFill>
          <a:blip r:embed="rId5"/>
          <a:stretch/>
        </p:blipFill>
        <p:spPr>
          <a:xfrm>
            <a:off x="5643720" y="4572000"/>
            <a:ext cx="1928520" cy="2060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0" descr="http://im6-tub.yandex.net/i?id=70163994&amp;tov=6"/>
          <p:cNvPicPr/>
          <p:nvPr/>
        </p:nvPicPr>
        <p:blipFill>
          <a:blip r:embed="rId6"/>
          <a:stretch/>
        </p:blipFill>
        <p:spPr>
          <a:xfrm>
            <a:off x="7286760" y="3286080"/>
            <a:ext cx="1643040" cy="218124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оугольник 1"/>
          <p:cNvSpPr/>
          <p:nvPr/>
        </p:nvSpPr>
        <p:spPr>
          <a:xfrm>
            <a:off x="285840" y="214200"/>
            <a:ext cx="8715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Минералы находят применения во всех областях человеческой деятельности. В том или ином виде человек встречает их дома и на работе, за городом, в сложных научно – технических сооружениях и повседневных предметах быта, во время еды, при просмотре салютов и игре на компьютере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296" name="Picture 2" descr="http://im4-tub.yandex.net/i?id=54810208&amp;tov=4"/>
          <p:cNvPicPr/>
          <p:nvPr/>
        </p:nvPicPr>
        <p:blipFill>
          <a:blip r:embed="rId2"/>
          <a:stretch/>
        </p:blipFill>
        <p:spPr>
          <a:xfrm>
            <a:off x="228600" y="1600200"/>
            <a:ext cx="2833560" cy="1857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http://im3-tub.yandex.net/i?id=46996236&amp;tov=3"/>
          <p:cNvPicPr/>
          <p:nvPr/>
        </p:nvPicPr>
        <p:blipFill>
          <a:blip r:embed="rId3"/>
          <a:stretch/>
        </p:blipFill>
        <p:spPr>
          <a:xfrm>
            <a:off x="6622920" y="5143680"/>
            <a:ext cx="2521080" cy="1714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http://im0-tub.yandex.net/i?id=154145888&amp;tov=0"/>
          <p:cNvPicPr/>
          <p:nvPr/>
        </p:nvPicPr>
        <p:blipFill>
          <a:blip r:embed="rId4"/>
          <a:stretch/>
        </p:blipFill>
        <p:spPr>
          <a:xfrm>
            <a:off x="3200400" y="1600200"/>
            <a:ext cx="2489040" cy="1857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http://im8-tub.yandex.net/i?id=58797867&amp;tov=8"/>
          <p:cNvPicPr/>
          <p:nvPr/>
        </p:nvPicPr>
        <p:blipFill>
          <a:blip r:embed="rId5"/>
          <a:stretch/>
        </p:blipFill>
        <p:spPr>
          <a:xfrm>
            <a:off x="3657600" y="3505320"/>
            <a:ext cx="2500200" cy="20127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http://im2-tub.yandex.net/i?id=31581156&amp;tov=2"/>
          <p:cNvPicPr/>
          <p:nvPr/>
        </p:nvPicPr>
        <p:blipFill>
          <a:blip r:embed="rId6"/>
          <a:stretch/>
        </p:blipFill>
        <p:spPr>
          <a:xfrm>
            <a:off x="6454800" y="3429000"/>
            <a:ext cx="2689200" cy="1785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http://im4-tub.yandex.net/i?id=133646591&amp;tov=4"/>
          <p:cNvPicPr/>
          <p:nvPr/>
        </p:nvPicPr>
        <p:blipFill>
          <a:blip r:embed="rId7"/>
          <a:stretch/>
        </p:blipFill>
        <p:spPr>
          <a:xfrm>
            <a:off x="5715000" y="1523880"/>
            <a:ext cx="2487600" cy="1857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http://im5-tub.yandex.net/i?id=60718739&amp;tov=5"/>
          <p:cNvPicPr/>
          <p:nvPr/>
        </p:nvPicPr>
        <p:blipFill>
          <a:blip r:embed="rId8"/>
          <a:stretch/>
        </p:blipFill>
        <p:spPr>
          <a:xfrm>
            <a:off x="0" y="3581280"/>
            <a:ext cx="3271680" cy="20718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"/>
          <p:cNvSpPr/>
          <p:nvPr/>
        </p:nvSpPr>
        <p:spPr>
          <a:xfrm>
            <a:off x="357120" y="232200"/>
            <a:ext cx="8501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Среди промышленно ценных минералов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принято выделять две группы: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Рудные минералы.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В эту группу входят минералы из которых добываются необходимые для промышленности металлические элементы. К таким минералам относятся самородные элементы и  минералы с высоким содержанием металлов – меди, серебра, железа и алюминия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Нерудные минералы</a:t>
            </a:r>
            <a:r>
              <a:rPr b="0" i="1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Минералы, применяемые при производстве неметаллических материалов, служащих для изготовления электро- и термоизоляторов (слюды), огнеупоров (кианит), керамических изделий (флюорт), стекла (кварц), абразивов, цемента, минеральных удобрений (чилийская селитра), флюсов для металлургических процессов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304" name="Рисунок 2" descr="http://wiki.web.ru/images/thumb/b/bf/Boxite_WofM_France.jpg/200px-Boxite_WofM_France.jpg"/>
          <p:cNvPicPr/>
          <p:nvPr/>
        </p:nvPicPr>
        <p:blipFill>
          <a:blip r:embed="rId2"/>
          <a:stretch/>
        </p:blipFill>
        <p:spPr>
          <a:xfrm>
            <a:off x="285840" y="4429080"/>
            <a:ext cx="2143080" cy="1714680"/>
          </a:xfrm>
          <a:prstGeom prst="rect">
            <a:avLst/>
          </a:prstGeom>
          <a:ln w="0">
            <a:noFill/>
          </a:ln>
        </p:spPr>
      </p:pic>
      <p:sp>
        <p:nvSpPr>
          <p:cNvPr id="305" name="TextBox 3"/>
          <p:cNvSpPr/>
          <p:nvPr/>
        </p:nvSpPr>
        <p:spPr>
          <a:xfrm>
            <a:off x="714240" y="621504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b268"/>
                </a:solidFill>
                <a:latin typeface="Constantia"/>
              </a:rPr>
              <a:t>Боксит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306" name="Рисунок 4" descr="http://wiki.web.ru/images/thumb/b/bb/Eritrine_wom.jpg/200px-Eritrine_wom.jpg"/>
          <p:cNvPicPr/>
          <p:nvPr/>
        </p:nvPicPr>
        <p:blipFill>
          <a:blip r:embed="rId3"/>
          <a:stretch/>
        </p:blipFill>
        <p:spPr>
          <a:xfrm>
            <a:off x="2643120" y="4429080"/>
            <a:ext cx="1905120" cy="1722600"/>
          </a:xfrm>
          <a:prstGeom prst="rect">
            <a:avLst/>
          </a:prstGeom>
          <a:ln w="0">
            <a:noFill/>
          </a:ln>
        </p:spPr>
      </p:pic>
      <p:sp>
        <p:nvSpPr>
          <p:cNvPr id="307" name="TextBox 5"/>
          <p:cNvSpPr/>
          <p:nvPr/>
        </p:nvSpPr>
        <p:spPr>
          <a:xfrm>
            <a:off x="3000240" y="6215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9b268"/>
                </a:solidFill>
                <a:latin typeface="Constantia"/>
              </a:rPr>
              <a:t>Эритрин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308" name="Рисунок 6" descr="http://wiki.web.ru/images/thumb/8/84/Lvasiliev.jpg/200px-Lvasiliev.jpg"/>
          <p:cNvPicPr/>
          <p:nvPr/>
        </p:nvPicPr>
        <p:blipFill>
          <a:blip r:embed="rId4"/>
          <a:stretch/>
        </p:blipFill>
        <p:spPr>
          <a:xfrm>
            <a:off x="4714920" y="4429080"/>
            <a:ext cx="1785960" cy="17146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5143680" y="62866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b268"/>
                </a:solidFill>
                <a:latin typeface="Constantia"/>
              </a:rPr>
              <a:t>Алмаз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310" name="Picture 3" descr="http://im3-tub.yandex.net/i?id=52387145&amp;tov=3"/>
          <p:cNvPicPr/>
          <p:nvPr/>
        </p:nvPicPr>
        <p:blipFill>
          <a:blip r:embed="rId5"/>
          <a:stretch/>
        </p:blipFill>
        <p:spPr>
          <a:xfrm>
            <a:off x="6643800" y="4429080"/>
            <a:ext cx="2280960" cy="17146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9"/>
          <p:cNvSpPr/>
          <p:nvPr/>
        </p:nvSpPr>
        <p:spPr>
          <a:xfrm>
            <a:off x="7358040" y="6286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9b268"/>
                </a:solidFill>
                <a:latin typeface="Constantia"/>
              </a:rPr>
              <a:t>Меланит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transition spd="med" advTm="31000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"/>
          <p:cNvSpPr/>
          <p:nvPr/>
        </p:nvSpPr>
        <p:spPr>
          <a:xfrm>
            <a:off x="0" y="-140400"/>
            <a:ext cx="8715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Эстетическое значение минералов широко известно. Драгоценные камни в ювелирных изделиях, в национальных сокровищницах и других экспозициях ежегодно привлекают внимание миллионов людей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Минералы применяются в качестве строительных материалов или их компонентов для отделки интерьеров и для наружной облицовки многих шедевров архитектуры. Например, московского метро или малахитовой комнаты в Эрмитаже.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313" name="Picture 3" descr="http://im0-tub.yandex.net/i?id=157050817&amp;tov=0"/>
          <p:cNvPicPr/>
          <p:nvPr/>
        </p:nvPicPr>
        <p:blipFill>
          <a:blip r:embed="rId2"/>
          <a:stretch/>
        </p:blipFill>
        <p:spPr>
          <a:xfrm>
            <a:off x="760320" y="2214720"/>
            <a:ext cx="1895400" cy="14284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http://im4-tub.yandex.net/i?id=82277117&amp;tov=4"/>
          <p:cNvPicPr/>
          <p:nvPr/>
        </p:nvPicPr>
        <p:blipFill>
          <a:blip r:embed="rId3"/>
          <a:stretch/>
        </p:blipFill>
        <p:spPr>
          <a:xfrm>
            <a:off x="3048120" y="2133720"/>
            <a:ext cx="1892160" cy="1412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http://im7-tub.yandex.net/i?id=63225719&amp;tov=7"/>
          <p:cNvPicPr/>
          <p:nvPr/>
        </p:nvPicPr>
        <p:blipFill>
          <a:blip r:embed="rId4"/>
          <a:stretch/>
        </p:blipFill>
        <p:spPr>
          <a:xfrm>
            <a:off x="5486400" y="2133720"/>
            <a:ext cx="2013120" cy="1515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7"/>
          <p:cNvSpPr/>
          <p:nvPr/>
        </p:nvSpPr>
        <p:spPr>
          <a:xfrm>
            <a:off x="285840" y="3714840"/>
            <a:ext cx="857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Наряду с известными и распространенными минералами, существуют и такие, которые встречаются лишь в отдельном месте или даже в единичных экземплярах. Такие уникальные образцы должны храниться в музеях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317" name="Picture 9" descr="http://im0-tub.yandex.net/i?id=208447566&amp;tov=0"/>
          <p:cNvPicPr/>
          <p:nvPr/>
        </p:nvPicPr>
        <p:blipFill>
          <a:blip r:embed="rId5"/>
          <a:stretch/>
        </p:blipFill>
        <p:spPr>
          <a:xfrm>
            <a:off x="762120" y="4952880"/>
            <a:ext cx="1357200" cy="1739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1" descr="http://im6-tub.yandex.net/i?id=158516332&amp;tov=6"/>
          <p:cNvPicPr/>
          <p:nvPr/>
        </p:nvPicPr>
        <p:blipFill>
          <a:blip r:embed="rId6"/>
          <a:stretch/>
        </p:blipFill>
        <p:spPr>
          <a:xfrm>
            <a:off x="2286000" y="4952880"/>
            <a:ext cx="2014560" cy="17146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3" descr="http://im6-tub.yandex.net/i?id=114767302&amp;tov=6"/>
          <p:cNvPicPr/>
          <p:nvPr/>
        </p:nvPicPr>
        <p:blipFill>
          <a:blip r:embed="rId7"/>
          <a:stretch/>
        </p:blipFill>
        <p:spPr>
          <a:xfrm>
            <a:off x="4419720" y="4952880"/>
            <a:ext cx="2679480" cy="1714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5" descr="http://im6-tub.yandex.net/i?id=134484407&amp;tov=6"/>
          <p:cNvPicPr/>
          <p:nvPr/>
        </p:nvPicPr>
        <p:blipFill>
          <a:blip r:embed="rId8"/>
          <a:stretch/>
        </p:blipFill>
        <p:spPr>
          <a:xfrm>
            <a:off x="7238880" y="4952880"/>
            <a:ext cx="1357560" cy="1727280"/>
          </a:xfrm>
          <a:prstGeom prst="rect">
            <a:avLst/>
          </a:prstGeom>
          <a:ln w="0">
            <a:noFill/>
          </a:ln>
        </p:spPr>
      </p:pic>
    </p:spTree>
  </p:cSld>
  <p:transition spd="med" advTm="27000"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1"/>
          <p:cNvSpPr/>
          <p:nvPr/>
        </p:nvSpPr>
        <p:spPr>
          <a:xfrm>
            <a:off x="214200" y="142920"/>
            <a:ext cx="878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25d"/>
                </a:solidFill>
                <a:latin typeface="Cambria"/>
              </a:rPr>
              <a:t>Драгоценные минералы</a:t>
            </a:r>
            <a:endParaRPr b="0" lang="en-US" sz="24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Cambria"/>
              </a:rPr>
              <a:t>Еще в каменном веке люди делали украшения из золота, в бронзовом веке - из серебра. </a:t>
            </a:r>
            <a:endParaRPr b="0" lang="en-US" sz="24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Cambria"/>
              </a:rPr>
              <a:t>Сегодня в распоряжении ювелиров множество минералов. </a:t>
            </a:r>
            <a:endParaRPr b="0" lang="en-US" sz="24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Cambria"/>
              </a:rPr>
              <a:t>Самые дорогие драгоценные камни - это алмаз (особенно бесцветный), а также изумруд, рубин и сапфир, которые ценятся в первую очередь за цвет. Эти камни настолько дорогие, что их вес измеряют в каратах. Один карат равен 200 миллиграммам.</a:t>
            </a:r>
            <a:endParaRPr b="0" lang="en-US" sz="24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Cambria"/>
              </a:rPr>
              <a:t>Алмаз ценят за твердость и блеск, приобретаемый при огранке и шлифовке. </a:t>
            </a:r>
            <a:endParaRPr b="0" lang="en-US" sz="24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322" name="Picture 2" descr="http://im8-tub.yandex.net/i?id=32041429&amp;tov=8"/>
          <p:cNvPicPr/>
          <p:nvPr/>
        </p:nvPicPr>
        <p:blipFill>
          <a:blip r:embed="rId2"/>
          <a:stretch/>
        </p:blipFill>
        <p:spPr>
          <a:xfrm>
            <a:off x="228600" y="4952880"/>
            <a:ext cx="2060640" cy="1643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http://im6-tub.yandex.net/i?id=152822899&amp;tov=6"/>
          <p:cNvPicPr/>
          <p:nvPr/>
        </p:nvPicPr>
        <p:blipFill>
          <a:blip r:embed="rId3"/>
          <a:stretch/>
        </p:blipFill>
        <p:spPr>
          <a:xfrm>
            <a:off x="4495680" y="5257800"/>
            <a:ext cx="2021040" cy="13572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http://im3-tub.yandex.net/i?id=122214249&amp;tov=3"/>
          <p:cNvPicPr/>
          <p:nvPr/>
        </p:nvPicPr>
        <p:blipFill>
          <a:blip r:embed="rId4"/>
          <a:stretch/>
        </p:blipFill>
        <p:spPr>
          <a:xfrm>
            <a:off x="2819520" y="4800600"/>
            <a:ext cx="1214280" cy="1803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http://im4-tub.yandex.net/i?id=54121485&amp;tov=4"/>
          <p:cNvPicPr/>
          <p:nvPr/>
        </p:nvPicPr>
        <p:blipFill>
          <a:blip r:embed="rId5"/>
          <a:stretch/>
        </p:blipFill>
        <p:spPr>
          <a:xfrm>
            <a:off x="4800600" y="3733920"/>
            <a:ext cx="1643040" cy="1390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http://im3-tub.yandex.net/i?id=27329469&amp;tov=3"/>
          <p:cNvPicPr/>
          <p:nvPr/>
        </p:nvPicPr>
        <p:blipFill>
          <a:blip r:embed="rId6"/>
          <a:stretch/>
        </p:blipFill>
        <p:spPr>
          <a:xfrm>
            <a:off x="7010280" y="365760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2" descr="http://im0-tub.yandex.net/i?id=7952385&amp;tov=0"/>
          <p:cNvPicPr/>
          <p:nvPr/>
        </p:nvPicPr>
        <p:blipFill>
          <a:blip r:embed="rId7"/>
          <a:stretch/>
        </p:blipFill>
        <p:spPr>
          <a:xfrm>
            <a:off x="6781680" y="5334120"/>
            <a:ext cx="2071800" cy="1295280"/>
          </a:xfrm>
          <a:prstGeom prst="rect">
            <a:avLst/>
          </a:prstGeom>
          <a:ln w="0">
            <a:noFill/>
          </a:ln>
        </p:spPr>
      </p:pic>
    </p:spTree>
  </p:cSld>
  <p:transition spd="med" advTm="26000">
    <p:fad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50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1"/>
          <p:cNvSpPr/>
          <p:nvPr/>
        </p:nvSpPr>
        <p:spPr>
          <a:xfrm>
            <a:off x="214200" y="214200"/>
            <a:ext cx="87868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25d"/>
                </a:solidFill>
                <a:latin typeface="Cambria"/>
              </a:rPr>
              <a:t>Свойства камней и минералов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25d"/>
                </a:solidFill>
                <a:latin typeface="Cambria"/>
              </a:rPr>
              <a:t>Камни и минералы</a:t>
            </a: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 - это не только удивительные дары природы и материал для украшений. Камни обладают различными </a:t>
            </a:r>
            <a:r>
              <a:rPr b="1" lang="en-US" sz="2000" spc="-1" strike="noStrike">
                <a:solidFill>
                  <a:srgbClr val="14425d"/>
                </a:solidFill>
                <a:latin typeface="Cambria"/>
              </a:rPr>
              <a:t>свойствами</a:t>
            </a: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. Люди всегда с большим уважением относились к могучим и таинственным </a:t>
            </a:r>
            <a:r>
              <a:rPr b="1" lang="en-US" sz="2000" spc="-1" strike="noStrike">
                <a:solidFill>
                  <a:srgbClr val="14425d"/>
                </a:solidFill>
                <a:latin typeface="Cambria"/>
              </a:rPr>
              <a:t>силам драгоценных камней</a:t>
            </a: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. Они наделяли камни </a:t>
            </a:r>
            <a:r>
              <a:rPr b="1" lang="en-US" sz="2000" spc="-1" strike="noStrike">
                <a:solidFill>
                  <a:srgbClr val="14425d"/>
                </a:solidFill>
                <a:latin typeface="Cambria"/>
              </a:rPr>
              <a:t>магическими и лечебными свойствами</a:t>
            </a: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25d"/>
                </a:solidFill>
                <a:latin typeface="Cambria"/>
              </a:rPr>
              <a:t>Сила камня или минерала</a:t>
            </a: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 воздействует на человека в целом и отдельно на определенные органы. Правильно выбранный камень помогает исцелиться от целого ряда недугов. Каждый камень обладает только ему присущими свойствами и представляет собой некую защиту для человека.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25d"/>
                </a:solidFill>
                <a:latin typeface="Cambria"/>
              </a:rPr>
              <a:t>Камни и минералы</a:t>
            </a: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 очень отзывчивы на поведение человека, а порой обидчивы, и в ответ на несправедливость камни даже могут менять свою окраску. К любому камню нужно относиться бережно. Камень надо любить. Камень должен быть для человека чем-то особенным, необыкновенным, близким и дорогим. К нему нужно относиться с почтением и тогда он ответит взаимностью проявит все свои свойства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transition spd="med" advTm="40000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Прямоугольник 1"/>
          <p:cNvSpPr/>
          <p:nvPr/>
        </p:nvSpPr>
        <p:spPr>
          <a:xfrm>
            <a:off x="0" y="214200"/>
            <a:ext cx="8858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425d"/>
                </a:solidFill>
                <a:latin typeface="Cambria"/>
              </a:rPr>
              <a:t>Минералы или минеральные вещества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b268"/>
                </a:solidFill>
                <a:latin typeface="Cambria"/>
              </a:rPr>
              <a:t> 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Каждому здоровому организму для роста и жизни необходимы не только белки, жиры, углеводы, вода и витамины, но и минеральные вещества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Минералы обладают небольшой энергетической ценностью, но переоценить их значение в организме человека невозможно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Минеральные вещества всасываются в кровь и соединяются с белками. Такие «комплексы» направляются в места активного обмена или места накопления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Организм человека может хранить запас кальция, фосфора, йода и железа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Минеральные вещества представляют собой гибкий материал и входят в состав костной ткани, где основными элементами являются кальций и фосфор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Минеральные вещества входят в состав ферментов и гормонов, принимают участие в процессах обмена веществ, образования кровяных телец и свертывания крови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Минералы и минеральные вещества обеспечивают работу главных систем организма: мышечной, пищеварительной и сердечно-сосудистой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Минералы требуются организму в неодинаковом количестве. Их нехватка или полное отсутствие могут привести как к серьезным заболеваниям, так и к гибели организма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transition spd="med" advTm="45000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1"/>
          <p:cNvSpPr/>
          <p:nvPr/>
        </p:nvSpPr>
        <p:spPr>
          <a:xfrm>
            <a:off x="0" y="28584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425d"/>
                </a:solidFill>
                <a:latin typeface="Cambria"/>
                <a:ea typeface="Arial"/>
              </a:rPr>
              <a:t>Минералы в продуктах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Минералы содержатся в продуктах всех видов:</a:t>
            </a: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 овощи, злаки, мясо и молочные продукты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Насчитывается около 30 видов минералов и микроэлементов, отсутствие которых нарушает нормальную работу организма человека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Все необходимые организму минеральные вещества можно получить, ежедневно употребляя в пищу продукты разных категорий. Но это не всегда возможно, поэтому часто в организме минералы находятся в недостатке. Это положение могут исправить витаминные комплексы, в состав которых входят не только витамины, но и минеральные вещества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Такие минералы, как кальций и фтор содержатся в молочных продуктах, особенно много в сыре и твороге; калий входит в состав сухофруктов: изюм, курага, чернослив и бобовых; главным источником йода являются морские продукты: морская капуста, морские водоросли, рыбий жир; печень и яичные желтки богаты железом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Минеральные вещества – важная составляющая здоровья организма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331" name="Picture 2" descr="http://im7-tub.yandex.net/i?id=46888085&amp;tov=7"/>
          <p:cNvPicPr/>
          <p:nvPr/>
        </p:nvPicPr>
        <p:blipFill>
          <a:blip r:embed="rId2"/>
          <a:stretch/>
        </p:blipFill>
        <p:spPr>
          <a:xfrm>
            <a:off x="228600" y="4800600"/>
            <a:ext cx="1955880" cy="1857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http://im5-tub.yandex.net/i?id=153254089&amp;tov=5"/>
          <p:cNvPicPr/>
          <p:nvPr/>
        </p:nvPicPr>
        <p:blipFill>
          <a:blip r:embed="rId3"/>
          <a:stretch/>
        </p:blipFill>
        <p:spPr>
          <a:xfrm>
            <a:off x="2143080" y="4786200"/>
            <a:ext cx="2476440" cy="18576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http://im7-tub.yandex.net/i?id=198326190&amp;tov=7"/>
          <p:cNvPicPr/>
          <p:nvPr/>
        </p:nvPicPr>
        <p:blipFill>
          <a:blip r:embed="rId4"/>
          <a:srcRect l="0" t="0" r="19717" b="0"/>
          <a:stretch/>
        </p:blipFill>
        <p:spPr>
          <a:xfrm>
            <a:off x="4572000" y="480060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0" descr="http://im7-tub.yandex.net/i?id=80891906&amp;tov=7"/>
          <p:cNvPicPr/>
          <p:nvPr/>
        </p:nvPicPr>
        <p:blipFill>
          <a:blip r:embed="rId5"/>
          <a:stretch/>
        </p:blipFill>
        <p:spPr>
          <a:xfrm>
            <a:off x="6705720" y="4800600"/>
            <a:ext cx="2065320" cy="1643040"/>
          </a:xfrm>
          <a:prstGeom prst="rect">
            <a:avLst/>
          </a:prstGeom>
          <a:ln w="0">
            <a:noFill/>
          </a:ln>
        </p:spPr>
      </p:pic>
    </p:spTree>
  </p:cSld>
  <p:transition spd="med" advTm="40000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42920" y="214200"/>
          <a:ext cx="8786880" cy="6123240"/>
        </p:xfrm>
        <a:graphic>
          <a:graphicData uri="http://schemas.openxmlformats.org/drawingml/2006/table">
            <a:tbl>
              <a:tblPr/>
              <a:tblGrid>
                <a:gridCol w="357120"/>
                <a:gridCol w="2928960"/>
                <a:gridCol w="5500800"/>
              </a:tblGrid>
              <a:tr h="341280"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Где применяются?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Примеры минералов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Химия и пиротехника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4425d"/>
                          </a:solidFill>
                          <a:latin typeface="Cambria"/>
                          <a:ea typeface="Calibri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14425d"/>
                          </a:solidFill>
                          <a:latin typeface="Cambria"/>
                          <a:ea typeface="Calibri"/>
                        </a:rPr>
                        <a:t>Киноварь, целестин, сера, реальгар, галит, кальцит,                                                      бура, ангидрит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В качестве удобрений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4425d"/>
                          </a:solidFill>
                          <a:latin typeface="Cambria"/>
                          <a:ea typeface="Times New Roman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14425d"/>
                          </a:solidFill>
                          <a:latin typeface="Cambria"/>
                          <a:ea typeface="Times New Roman"/>
                        </a:rPr>
                        <a:t>Сера, чилийская селитра, сильвин,  карналлит,  гипс, апатит,  вавеллит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В оптике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4425d"/>
                          </a:solidFill>
                          <a:latin typeface="Cambria"/>
                          <a:ea typeface="Calibri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14425d"/>
                          </a:solidFill>
                          <a:latin typeface="Cambria"/>
                          <a:ea typeface="Calibri"/>
                        </a:rPr>
                        <a:t>Флюорит, диоптаз, кварц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36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зделия из фарфора керамики и стекла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4425d"/>
                          </a:solidFill>
                          <a:latin typeface="Cambria"/>
                          <a:ea typeface="Calibri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14425d"/>
                          </a:solidFill>
                          <a:latin typeface="Cambria"/>
                          <a:ea typeface="Calibri"/>
                        </a:rPr>
                        <a:t>Флюорит, криолит, касситерит, стронцианит, витерит, </a:t>
                      </a:r>
                      <a:r>
                        <a:rPr b="0" lang="ru-RU" sz="1600" spc="-1" strike="noStrike">
                          <a:solidFill>
                            <a:srgbClr val="14425d"/>
                          </a:solidFill>
                          <a:latin typeface="Cambria"/>
                          <a:ea typeface="Times New Roman"/>
                        </a:rPr>
                        <a:t> целестин, кианит, волластонит,  пирофиллит, каолинит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36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В ювелирном деле и как поделочные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4425d"/>
                          </a:solidFill>
                          <a:latin typeface="Cambria"/>
                          <a:ea typeface="Calibri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14425d"/>
                          </a:solidFill>
                          <a:latin typeface="Cambria"/>
                          <a:ea typeface="Calibri"/>
                        </a:rPr>
                        <a:t>Шпинель, изумруд,  алмаз, корунд (сапфир, рубин), хризоберилл, чароит, серпентинит, родонит,  лазурит, малахит, бирюза, хризолит, гранаты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596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В качестве огнеупоров,  кисло-стойких и электроизоля-ционных материалов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c3e"/>
                          </a:solidFill>
                          <a:latin typeface="Cambria"/>
                          <a:ea typeface="Calibri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0e2c3e"/>
                          </a:solidFill>
                          <a:latin typeface="Cambria"/>
                          <a:ea typeface="Calibri"/>
                        </a:rPr>
                        <a:t>Кианит,  брусит, хризотил, колеманит, оливин, андалузит, силлиманит, пирофиллит, тальк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группа слюд, тридимит,  альбит, лабрадор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В строительстве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Кальцит, доломит, гипс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В медицине и фармацевтике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Магнезит, мирабилит, сассолин, колеманит,  гипс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В металлургии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c3e"/>
                          </a:solidFill>
                          <a:latin typeface="Cambria"/>
                          <a:ea typeface="Times New Roman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e2c3e"/>
                          </a:solidFill>
                          <a:latin typeface="Cambria"/>
                          <a:ea typeface="Times New Roman"/>
                        </a:rPr>
                        <a:t>Доломит, родохрозит, колеманит, ванадинит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В ядерной промышленности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Целестин, стильбит, мезолит,  ломонит,  гейландит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456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нтересны главным образом для коллекционеров (приме-нение может быть найдено в будущем)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Эпидот, арсенолит,  фосгенит, ледгиллит,  аурихальцит,  артинит, борацит,  крокоит, гюбнерит,  адамин,  оливенит,  ставролит,  ильваит,  аксинит,  геденбергит, авгит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25000"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285840" y="785880"/>
            <a:ext cx="8643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425d"/>
                </a:solidFill>
                <a:latin typeface="Constantia"/>
              </a:rPr>
              <a:t>Минерал </a:t>
            </a:r>
            <a:r>
              <a:rPr b="0" lang="ru-RU" sz="3200" spc="-1" strike="noStrike">
                <a:solidFill>
                  <a:srgbClr val="14425d"/>
                </a:solidFill>
                <a:latin typeface="Constantia"/>
              </a:rPr>
              <a:t>— природное твёрдое неорганическое тело с определённым химическим составом и кристаллической структурой , образующееся в результате природных физико-химических процессов и являющееся составной частью  земной коры, горных пород, руд, метеоритов. </a:t>
            </a:r>
            <a:endParaRPr b="0" lang="en-US" sz="32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425d"/>
                </a:solidFill>
                <a:latin typeface="Constantia"/>
              </a:rPr>
              <a:t>Минералогия </a:t>
            </a:r>
            <a:r>
              <a:rPr b="0" lang="ru-RU" sz="3200" spc="-1" strike="noStrike">
                <a:solidFill>
                  <a:srgbClr val="14425d"/>
                </a:solidFill>
                <a:latin typeface="Constantia"/>
              </a:rPr>
              <a:t>– наука об изучении минералов</a:t>
            </a:r>
            <a:r>
              <a:rPr b="0" lang="ru-RU" sz="2800" spc="-1" strike="noStrike">
                <a:solidFill>
                  <a:srgbClr val="14425d"/>
                </a:solidFill>
                <a:latin typeface="Constantia"/>
              </a:rPr>
              <a:t>. </a:t>
            </a:r>
            <a:endParaRPr b="0" lang="en-US" sz="28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transition spd="med" advTm="17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http://im7-tub.yandex.net/i?id=71017132&amp;tov=7"/>
          <p:cNvPicPr/>
          <p:nvPr/>
        </p:nvPicPr>
        <p:blipFill>
          <a:blip r:embed="rId2"/>
          <a:stretch/>
        </p:blipFill>
        <p:spPr>
          <a:xfrm>
            <a:off x="2133720" y="0"/>
            <a:ext cx="2181240" cy="16430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http://im6-tub.yandex.net/i?id=8214417&amp;tov=6"/>
          <p:cNvPicPr/>
          <p:nvPr/>
        </p:nvPicPr>
        <p:blipFill>
          <a:blip r:embed="rId3"/>
          <a:stretch/>
        </p:blipFill>
        <p:spPr>
          <a:xfrm>
            <a:off x="1600200" y="3276720"/>
            <a:ext cx="2028960" cy="1857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http://im0-tub.yandex.net/i?id=24434714&amp;tov=0"/>
          <p:cNvPicPr/>
          <p:nvPr/>
        </p:nvPicPr>
        <p:blipFill>
          <a:blip r:embed="rId4"/>
          <a:stretch/>
        </p:blipFill>
        <p:spPr>
          <a:xfrm>
            <a:off x="4648320" y="1905120"/>
            <a:ext cx="2071440" cy="13809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2" descr="http://im4-tub.yandex.net/i?id=11043174&amp;tov=4"/>
          <p:cNvPicPr/>
          <p:nvPr/>
        </p:nvPicPr>
        <p:blipFill>
          <a:blip r:embed="rId5"/>
          <a:stretch/>
        </p:blipFill>
        <p:spPr>
          <a:xfrm>
            <a:off x="7081920" y="3886200"/>
            <a:ext cx="2062080" cy="1643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6" descr="http://im8-tub.yandex.net/i?id=11202218&amp;tov=8"/>
          <p:cNvPicPr/>
          <p:nvPr/>
        </p:nvPicPr>
        <p:blipFill>
          <a:blip r:embed="rId6"/>
          <a:stretch/>
        </p:blipFill>
        <p:spPr>
          <a:xfrm>
            <a:off x="4114800" y="3581280"/>
            <a:ext cx="2349360" cy="15717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0" descr="http://im0-tub.yandex.net/i?id=75275929&amp;tov=0"/>
          <p:cNvPicPr/>
          <p:nvPr/>
        </p:nvPicPr>
        <p:blipFill>
          <a:blip r:embed="rId7"/>
          <a:stretch/>
        </p:blipFill>
        <p:spPr>
          <a:xfrm>
            <a:off x="1905120" y="1752480"/>
            <a:ext cx="2165400" cy="1428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8" descr="http://im4-tub.yandex.net/i?id=183687468&amp;tov=4"/>
          <p:cNvPicPr/>
          <p:nvPr/>
        </p:nvPicPr>
        <p:blipFill>
          <a:blip r:embed="rId8"/>
          <a:stretch/>
        </p:blipFill>
        <p:spPr>
          <a:xfrm>
            <a:off x="0" y="160020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http://im4-tub.yandex.net/i?id=3145475&amp;tov=4"/>
          <p:cNvPicPr/>
          <p:nvPr/>
        </p:nvPicPr>
        <p:blipFill>
          <a:blip r:embed="rId9"/>
          <a:stretch/>
        </p:blipFill>
        <p:spPr>
          <a:xfrm>
            <a:off x="0" y="3200400"/>
            <a:ext cx="1500120" cy="2009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http://im4-tub.yandex.net/i?id=18616824&amp;tov=4"/>
          <p:cNvPicPr/>
          <p:nvPr/>
        </p:nvPicPr>
        <p:blipFill>
          <a:blip r:embed="rId10"/>
          <a:stretch/>
        </p:blipFill>
        <p:spPr>
          <a:xfrm>
            <a:off x="4343400" y="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2" descr="http://im0-tub.yandex.net/i?id=193647381&amp;tov=0"/>
          <p:cNvPicPr/>
          <p:nvPr/>
        </p:nvPicPr>
        <p:blipFill>
          <a:blip r:embed="rId11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http://im8-tub.yandex.net/i?id=118082377&amp;tov=8"/>
          <p:cNvPicPr/>
          <p:nvPr/>
        </p:nvPicPr>
        <p:blipFill>
          <a:blip r:embed="rId12"/>
          <a:stretch/>
        </p:blipFill>
        <p:spPr>
          <a:xfrm>
            <a:off x="3657600" y="52862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6" descr="http://im4-tub.yandex.net/i?id=214276750&amp;tov=4"/>
          <p:cNvPicPr/>
          <p:nvPr/>
        </p:nvPicPr>
        <p:blipFill>
          <a:blip r:embed="rId13"/>
          <a:stretch/>
        </p:blipFill>
        <p:spPr>
          <a:xfrm>
            <a:off x="5943600" y="5676840"/>
            <a:ext cx="1571760" cy="1181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8" descr="http://im8-tub.yandex.net/i?id=8622679&amp;tov=8"/>
          <p:cNvPicPr/>
          <p:nvPr/>
        </p:nvPicPr>
        <p:blipFill>
          <a:blip r:embed="rId14"/>
          <a:stretch/>
        </p:blipFill>
        <p:spPr>
          <a:xfrm>
            <a:off x="1905120" y="5181480"/>
            <a:ext cx="1571400" cy="14367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4" descr="http://im5-tub.yandex.net/i?id=84651116&amp;tov=5"/>
          <p:cNvPicPr/>
          <p:nvPr/>
        </p:nvPicPr>
        <p:blipFill>
          <a:blip r:embed="rId15"/>
          <a:stretch/>
        </p:blipFill>
        <p:spPr>
          <a:xfrm>
            <a:off x="6172200" y="0"/>
            <a:ext cx="1436760" cy="1857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0" descr="http://im4-tub.yandex.net/i?id=112805247&amp;tov=4"/>
          <p:cNvPicPr/>
          <p:nvPr/>
        </p:nvPicPr>
        <p:blipFill>
          <a:blip r:embed="rId16"/>
          <a:stretch/>
        </p:blipFill>
        <p:spPr>
          <a:xfrm>
            <a:off x="7615080" y="152280"/>
            <a:ext cx="1528920" cy="14479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2" descr="http://im0-tub.yandex.net/i?id=28353625&amp;tov=0"/>
          <p:cNvPicPr/>
          <p:nvPr/>
        </p:nvPicPr>
        <p:blipFill>
          <a:blip r:embed="rId17"/>
          <a:stretch/>
        </p:blipFill>
        <p:spPr>
          <a:xfrm>
            <a:off x="7238880" y="19051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4" descr="http://im0-tub.yandex.net/i?id=118082395&amp;tov=0"/>
          <p:cNvPicPr/>
          <p:nvPr/>
        </p:nvPicPr>
        <p:blipFill>
          <a:blip r:embed="rId18"/>
          <a:stretch/>
        </p:blipFill>
        <p:spPr>
          <a:xfrm>
            <a:off x="0" y="-152280"/>
            <a:ext cx="1928880" cy="192852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6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7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80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9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3286080" y="4572000"/>
            <a:ext cx="378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258" name="Picture 2" descr="Картинка 1 из 287988"/>
          <p:cNvPicPr/>
          <p:nvPr/>
        </p:nvPicPr>
        <p:blipFill>
          <a:blip r:embed="rId2"/>
          <a:stretch/>
        </p:blipFill>
        <p:spPr>
          <a:xfrm>
            <a:off x="5791320" y="2286000"/>
            <a:ext cx="2985840" cy="2203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http://im8-tub.yandex.net/i?id=21811964&amp;tov=8"/>
          <p:cNvPicPr/>
          <p:nvPr/>
        </p:nvPicPr>
        <p:blipFill>
          <a:blip r:embed="rId3"/>
          <a:stretch/>
        </p:blipFill>
        <p:spPr>
          <a:xfrm>
            <a:off x="304920" y="152280"/>
            <a:ext cx="2738160" cy="22860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3143160" y="428760"/>
            <a:ext cx="5786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onstantia"/>
              </a:rPr>
              <a:t>Минералами считаются также некоторые природные вещества, представляющие из себя в обычных условиях жидкости. Например,  самородная ртуть, которая приходит к кристаллическому состоянию при более низкой температуре). 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61" name="TextBox 6"/>
          <p:cNvSpPr/>
          <p:nvPr/>
        </p:nvSpPr>
        <p:spPr>
          <a:xfrm>
            <a:off x="142920" y="2857680"/>
            <a:ext cx="557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onstantia"/>
              </a:rPr>
              <a:t>Воду к минералам не относят, рассматривая её как жидкое состояние  минерала лёд. 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262" name="Picture 6" descr="http://im0-tub.yandex.net/i?id=143471798&amp;tov=0"/>
          <p:cNvPicPr/>
          <p:nvPr/>
        </p:nvPicPr>
        <p:blipFill>
          <a:blip r:embed="rId4"/>
          <a:stretch/>
        </p:blipFill>
        <p:spPr>
          <a:xfrm>
            <a:off x="228600" y="5181480"/>
            <a:ext cx="1928880" cy="1457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http://im8-tub.yandex.net/i?id=13641821&amp;tov=8"/>
          <p:cNvPicPr/>
          <p:nvPr/>
        </p:nvPicPr>
        <p:blipFill>
          <a:blip r:embed="rId5"/>
          <a:stretch/>
        </p:blipFill>
        <p:spPr>
          <a:xfrm>
            <a:off x="914400" y="37339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http://im7-tub.yandex.net/i?id=79964425&amp;tov=7"/>
          <p:cNvPicPr/>
          <p:nvPr/>
        </p:nvPicPr>
        <p:blipFill>
          <a:blip r:embed="rId6"/>
          <a:stretch/>
        </p:blipFill>
        <p:spPr>
          <a:xfrm>
            <a:off x="3733920" y="3809880"/>
            <a:ext cx="1428480" cy="14414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0"/>
          <p:cNvSpPr/>
          <p:nvPr/>
        </p:nvSpPr>
        <p:spPr>
          <a:xfrm>
            <a:off x="2214720" y="5257800"/>
            <a:ext cx="635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onstantia"/>
              </a:rPr>
              <a:t>Некоторые органические вещества — нефть, асфальты, битумы — часто ошибочно относят к минералам, либо выделяют их в особый класс органические минералы. 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transition spd="med" advTm="18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642960" y="428760"/>
            <a:ext cx="8001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425d"/>
                </a:solidFill>
                <a:latin typeface="Cambria"/>
              </a:rPr>
              <a:t>По распространённости минералы можно разделить на : </a:t>
            </a:r>
            <a:endParaRPr b="0" lang="en-US" sz="2800" spc="-1" strike="noStrike">
              <a:solidFill>
                <a:srgbClr val="f9b268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b268"/>
              </a:solidFill>
              <a:latin typeface="Constantia"/>
            </a:endParaRPr>
          </a:p>
          <a:p>
            <a:pPr indent="539640" algn="just">
              <a:lnSpc>
                <a:spcPct val="100000"/>
              </a:lnSpc>
              <a:buClr>
                <a:srgbClr val="14425d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4425d"/>
                </a:solidFill>
                <a:latin typeface="Cambria"/>
              </a:rPr>
              <a:t>породообразующие</a:t>
            </a:r>
            <a:r>
              <a:rPr b="0" lang="en-US" sz="2800" spc="-1" strike="noStrike">
                <a:solidFill>
                  <a:srgbClr val="14425d"/>
                </a:solidFill>
                <a:latin typeface="Cambria"/>
              </a:rPr>
              <a:t> , то есть  составляющие основу большинства горных пород,</a:t>
            </a:r>
            <a:endParaRPr b="0" lang="en-US" sz="2800" spc="-1" strike="noStrike">
              <a:solidFill>
                <a:srgbClr val="f9b268"/>
              </a:solidFill>
              <a:latin typeface="Constantia"/>
            </a:endParaRPr>
          </a:p>
          <a:p>
            <a:pPr indent="539640" algn="just">
              <a:lnSpc>
                <a:spcPct val="100000"/>
              </a:lnSpc>
              <a:buClr>
                <a:srgbClr val="14425d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14425d"/>
                </a:solidFill>
                <a:latin typeface="Cambria"/>
              </a:rPr>
              <a:t>акцессорные</a:t>
            </a:r>
            <a:r>
              <a:rPr b="0" lang="en-US" sz="2800" spc="-1" strike="noStrike">
                <a:solidFill>
                  <a:srgbClr val="14425d"/>
                </a:solidFill>
                <a:latin typeface="Cambria"/>
              </a:rPr>
              <a:t>  — часто присутствующие в горных породах, но в малом количестве,</a:t>
            </a:r>
            <a:endParaRPr b="0" lang="en-US" sz="2800" spc="-1" strike="noStrike">
              <a:solidFill>
                <a:srgbClr val="f9b268"/>
              </a:solidFill>
              <a:latin typeface="Constantia"/>
            </a:endParaRPr>
          </a:p>
          <a:p>
            <a:pPr indent="539640" algn="just">
              <a:lnSpc>
                <a:spcPct val="100000"/>
              </a:lnSpc>
              <a:buClr>
                <a:srgbClr val="14425d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4425d"/>
                </a:solidFill>
                <a:latin typeface="Cambria"/>
              </a:rPr>
              <a:t>рудные </a:t>
            </a:r>
            <a:r>
              <a:rPr b="0" lang="en-US" sz="2800" spc="-1" strike="noStrike">
                <a:solidFill>
                  <a:srgbClr val="14425d"/>
                </a:solidFill>
                <a:latin typeface="Cambria"/>
              </a:rPr>
              <a:t>-  широко представленные в рудных месторождениях.</a:t>
            </a:r>
            <a:endParaRPr b="0" lang="en-US" sz="2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b268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transition spd="med" advTm="16000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0" y="11736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425d"/>
                </a:solidFill>
                <a:latin typeface="Cambria"/>
              </a:rPr>
              <a:t>Свойства минералов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4425d"/>
                </a:solidFill>
                <a:latin typeface="Cambria"/>
              </a:rPr>
              <a:t>Габитус кристаллов </a:t>
            </a:r>
            <a:r>
              <a:rPr b="0" lang="ru-RU" sz="1800" spc="-1" strike="noStrike">
                <a:solidFill>
                  <a:srgbClr val="14425d"/>
                </a:solidFill>
                <a:latin typeface="Cambria"/>
              </a:rPr>
              <a:t>- выясняется при визуальном осмотре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4425d"/>
                </a:solidFill>
                <a:latin typeface="Cambria"/>
              </a:rPr>
              <a:t>Твёрдость 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4425d"/>
                </a:solidFill>
                <a:latin typeface="Cambria"/>
              </a:rPr>
              <a:t>Блеск - </a:t>
            </a:r>
            <a:r>
              <a:rPr b="0" lang="ru-RU" sz="1800" spc="-1" strike="noStrike">
                <a:solidFill>
                  <a:srgbClr val="14425d"/>
                </a:solidFill>
                <a:latin typeface="Cambria"/>
              </a:rPr>
              <a:t>световой эффект, отражение светового потока, падающего на минерал. Зависит от отражательной способности минерала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4425d"/>
                </a:solidFill>
                <a:latin typeface="Cambria"/>
              </a:rPr>
              <a:t>Спайность </a:t>
            </a:r>
            <a:r>
              <a:rPr b="0" lang="ru-RU" sz="1800" spc="-1" strike="noStrike">
                <a:solidFill>
                  <a:srgbClr val="14425d"/>
                </a:solidFill>
                <a:latin typeface="Cambria"/>
              </a:rPr>
              <a:t>-  способность минерала раскалываться по определенным кристаллографическим направлениям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4425d"/>
                </a:solidFill>
                <a:latin typeface="Cambria"/>
              </a:rPr>
              <a:t>Излом</a:t>
            </a:r>
            <a:r>
              <a:rPr b="0" lang="ru-RU" sz="1800" spc="-1" strike="noStrike">
                <a:solidFill>
                  <a:srgbClr val="14425d"/>
                </a:solidFill>
                <a:latin typeface="Cambria"/>
              </a:rPr>
              <a:t> - специфика поверхности минерала на свежем сколе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4425d"/>
                </a:solidFill>
                <a:latin typeface="Cambria"/>
              </a:rPr>
              <a:t>Цвет</a:t>
            </a:r>
            <a:r>
              <a:rPr b="0" lang="ru-RU" sz="1800" spc="-1" strike="noStrike">
                <a:solidFill>
                  <a:srgbClr val="14425d"/>
                </a:solidFill>
                <a:latin typeface="Cambria"/>
              </a:rPr>
              <a:t> - признак, характеризующий одни минералы: </a:t>
            </a:r>
            <a:r>
              <a:rPr b="0" i="1" lang="ru-RU" sz="1800" spc="-1" strike="noStrike">
                <a:solidFill>
                  <a:srgbClr val="14425d"/>
                </a:solidFill>
                <a:latin typeface="Cambria"/>
              </a:rPr>
              <a:t>зелёный малахит, синий  лазурит, красная киноварь</a:t>
            </a:r>
            <a:r>
              <a:rPr b="0" lang="ru-RU" sz="1800" spc="-1" strike="noStrike">
                <a:solidFill>
                  <a:srgbClr val="14425d"/>
                </a:solidFill>
                <a:latin typeface="Cambria"/>
              </a:rPr>
              <a:t>, и очень обманчивый у других минералов, окраска которых может изменяться от наличия примесей  и  дефектов: </a:t>
            </a:r>
            <a:r>
              <a:rPr b="0" i="1" lang="ru-RU" sz="1800" spc="-1" strike="noStrike">
                <a:solidFill>
                  <a:srgbClr val="14425d"/>
                </a:solidFill>
                <a:latin typeface="Cambria"/>
              </a:rPr>
              <a:t>кварцы, турмалины. 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4425d"/>
                </a:solidFill>
                <a:latin typeface="Cambria"/>
              </a:rPr>
              <a:t>Цвет черты </a:t>
            </a:r>
            <a:r>
              <a:rPr b="0" lang="ru-RU" sz="1800" spc="-1" strike="noStrike">
                <a:solidFill>
                  <a:srgbClr val="14425d"/>
                </a:solidFill>
                <a:latin typeface="Cambria"/>
              </a:rPr>
              <a:t>- цвет минерала в порошке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4425d"/>
                </a:solidFill>
                <a:latin typeface="Cambria"/>
              </a:rPr>
              <a:t>Магнитность</a:t>
            </a:r>
            <a:r>
              <a:rPr b="0" lang="ru-RU" sz="1800" spc="-1" strike="noStrike">
                <a:solidFill>
                  <a:srgbClr val="14425d"/>
                </a:solidFill>
                <a:latin typeface="Cambria"/>
              </a:rPr>
              <a:t> -  зависит от содержания  железа. Обнаруживается при помощи обычного магнита.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4425d"/>
                </a:solidFill>
                <a:latin typeface="Cambria"/>
              </a:rPr>
              <a:t>Побежалость</a:t>
            </a:r>
            <a:r>
              <a:rPr b="0" lang="ru-RU" sz="1800" spc="-1" strike="noStrike">
                <a:solidFill>
                  <a:srgbClr val="14425d"/>
                </a:solidFill>
                <a:latin typeface="Cambria"/>
              </a:rPr>
              <a:t> - тонкая цветная или разноцветная плёнка, которая образуется на поверхности некоторых минералов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4425d"/>
                </a:solidFill>
                <a:latin typeface="Cambria"/>
              </a:rPr>
              <a:t>Хрупкость</a:t>
            </a:r>
            <a:r>
              <a:rPr b="0" lang="ru-RU" sz="1800" spc="-1" strike="noStrike">
                <a:solidFill>
                  <a:srgbClr val="14425d"/>
                </a:solidFill>
                <a:latin typeface="Cambria"/>
              </a:rPr>
              <a:t> - прочность минеральных кристаллов. Обнаруживающаяся при механическом раскалывании. Некоторые  очень твёрдые минералы могут с лёгкостью раскалываться, т.е. быть хрупкими, например, алмаз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transition spd="med" advTm="42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214200" y="214200"/>
            <a:ext cx="82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69" name="TextBox 29"/>
          <p:cNvSpPr/>
          <p:nvPr/>
        </p:nvSpPr>
        <p:spPr>
          <a:xfrm>
            <a:off x="214200" y="214200"/>
            <a:ext cx="8786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25d"/>
                </a:solidFill>
                <a:latin typeface="Cambria"/>
              </a:rPr>
              <a:t>Разнообразие минералов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4425d"/>
                </a:solidFill>
                <a:latin typeface="Cambria"/>
              </a:rPr>
              <a:t>Земная кора состоит в основном из минералов - от редких и чрезвычайно ценных алмазов до различных руд, из которых получают металлы для наших повседневных нужд.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На сегодняшний день известно более 4 тысяч минералов. Ежегодно открывают несколько десятков новых минеральных видов и несколько «закрывают» — доказывают, что такой минерал не существует.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270" name="Picture 32" descr="Файл:AventurinGeschliffen.jpg"/>
          <p:cNvPicPr/>
          <p:nvPr/>
        </p:nvPicPr>
        <p:blipFill>
          <a:blip r:embed="rId2"/>
          <a:stretch/>
        </p:blipFill>
        <p:spPr>
          <a:xfrm>
            <a:off x="214200" y="3214800"/>
            <a:ext cx="2109960" cy="1582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6" descr="http://im5-tub.yandex.net/i?id=57701272&amp;tov=5"/>
          <p:cNvPicPr/>
          <p:nvPr/>
        </p:nvPicPr>
        <p:blipFill>
          <a:blip r:embed="rId3"/>
          <a:stretch/>
        </p:blipFill>
        <p:spPr>
          <a:xfrm rot="20739000">
            <a:off x="678960" y="4668840"/>
            <a:ext cx="1570320" cy="16430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8" descr="http://im3-tub.yandex.net/i?id=51405035&amp;tov=3"/>
          <p:cNvPicPr/>
          <p:nvPr/>
        </p:nvPicPr>
        <p:blipFill>
          <a:blip r:embed="rId4"/>
          <a:stretch/>
        </p:blipFill>
        <p:spPr>
          <a:xfrm>
            <a:off x="7143840" y="31431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0" descr="http://im6-tub.yandex.net/i?id=8214417&amp;tov=6"/>
          <p:cNvPicPr/>
          <p:nvPr/>
        </p:nvPicPr>
        <p:blipFill>
          <a:blip r:embed="rId5"/>
          <a:stretch/>
        </p:blipFill>
        <p:spPr>
          <a:xfrm rot="1306200">
            <a:off x="7174080" y="4839840"/>
            <a:ext cx="1758960" cy="1609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4" descr="Картинка 3 из 82832"/>
          <p:cNvPicPr/>
          <p:nvPr/>
        </p:nvPicPr>
        <p:blipFill>
          <a:blip r:embed="rId6"/>
          <a:stretch/>
        </p:blipFill>
        <p:spPr>
          <a:xfrm>
            <a:off x="2251080" y="3236760"/>
            <a:ext cx="4964040" cy="331956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5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1"/>
          <p:cNvSpPr/>
          <p:nvPr/>
        </p:nvSpPr>
        <p:spPr>
          <a:xfrm>
            <a:off x="285840" y="285840"/>
            <a:ext cx="8715240" cy="60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425d"/>
                </a:solidFill>
                <a:latin typeface="Cambria"/>
              </a:rPr>
              <a:t>Минералы в природе. </a:t>
            </a:r>
            <a:endParaRPr b="0" lang="en-US" sz="2800" spc="-1" strike="noStrike">
              <a:solidFill>
                <a:srgbClr val="f9b268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425d"/>
                </a:solidFill>
                <a:latin typeface="Cambria"/>
              </a:rPr>
              <a:t>Земная кора</a:t>
            </a:r>
            <a:endParaRPr b="0" lang="en-US" sz="2800" spc="-1" strike="noStrike">
              <a:solidFill>
                <a:srgbClr val="f9b268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Два элемента, </a:t>
            </a:r>
            <a:r>
              <a:rPr b="1" i="1" lang="en-US" sz="2000" spc="-1" strike="noStrike">
                <a:solidFill>
                  <a:srgbClr val="14425d"/>
                </a:solidFill>
                <a:latin typeface="Cambria"/>
              </a:rPr>
              <a:t>кислород и кремний</a:t>
            </a: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, составляют </a:t>
            </a:r>
            <a:r>
              <a:rPr b="1" i="1" lang="en-US" sz="2000" spc="-1" strike="noStrike">
                <a:solidFill>
                  <a:srgbClr val="14425d"/>
                </a:solidFill>
                <a:latin typeface="Cambria"/>
              </a:rPr>
              <a:t>74% массы земной коры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4425d"/>
                </a:solidFill>
                <a:latin typeface="Cambria"/>
              </a:rPr>
              <a:t>Алюминий, железо, кальций, натрий, калий и магний -  24,27%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425d"/>
                </a:solidFill>
                <a:latin typeface="Cambria"/>
              </a:rPr>
              <a:t>Все вместе они формируют 99% земной коры.</a:t>
            </a:r>
            <a:endParaRPr b="0" lang="en-US" sz="2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4425d"/>
                </a:solidFill>
                <a:latin typeface="Cambria"/>
              </a:rPr>
              <a:t>Самые распространенные минералы </a:t>
            </a: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- это силикаты, химическое соединение кислорода и кремния. Преобладают такие силикаты, как кварц, слюда и полевые шпаты. Все три в разных пропорциях являются основными компонентами разных типов гранита. Кварц, эродированный из гранита, накапливается на побережье и образует песчаные пляжи.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276" name="Picture 2" descr="http://im5-tub.yandex.net/i?id=126899054&amp;tov=5"/>
          <p:cNvPicPr/>
          <p:nvPr/>
        </p:nvPicPr>
        <p:blipFill>
          <a:blip r:embed="rId2"/>
          <a:stretch/>
        </p:blipFill>
        <p:spPr>
          <a:xfrm>
            <a:off x="142920" y="5000760"/>
            <a:ext cx="1643040" cy="1238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http://im7-tub.yandex.net/i?id=8897478&amp;tov=7"/>
          <p:cNvPicPr/>
          <p:nvPr/>
        </p:nvPicPr>
        <p:blipFill>
          <a:blip r:embed="rId3"/>
          <a:stretch/>
        </p:blipFill>
        <p:spPr>
          <a:xfrm>
            <a:off x="1928880" y="5000760"/>
            <a:ext cx="1428840" cy="1214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http://im8-tub.yandex.net/i?id=136158718&amp;tov=8"/>
          <p:cNvPicPr/>
          <p:nvPr/>
        </p:nvPicPr>
        <p:blipFill>
          <a:blip r:embed="rId4"/>
          <a:stretch/>
        </p:blipFill>
        <p:spPr>
          <a:xfrm>
            <a:off x="3581280" y="5029200"/>
            <a:ext cx="1571760" cy="11844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7"/>
          <p:cNvSpPr/>
          <p:nvPr/>
        </p:nvSpPr>
        <p:spPr>
          <a:xfrm>
            <a:off x="428760" y="62866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b268"/>
                </a:solidFill>
                <a:latin typeface="Constantia"/>
              </a:rPr>
              <a:t>кварц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80" name="TextBox 8"/>
          <p:cNvSpPr/>
          <p:nvPr/>
        </p:nvSpPr>
        <p:spPr>
          <a:xfrm>
            <a:off x="2143080" y="628668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b268"/>
                </a:solidFill>
                <a:latin typeface="Constantia"/>
              </a:rPr>
              <a:t>слюда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3571920" y="62118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b268"/>
                </a:solidFill>
                <a:latin typeface="Constantia"/>
              </a:rPr>
              <a:t>Хлористый кальций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282" name="Picture 14" descr="http://im7-tub.yandex.net/i?id=65265012&amp;tov=7"/>
          <p:cNvPicPr/>
          <p:nvPr/>
        </p:nvPicPr>
        <p:blipFill>
          <a:blip r:embed="rId5"/>
          <a:stretch/>
        </p:blipFill>
        <p:spPr>
          <a:xfrm>
            <a:off x="5214960" y="5000760"/>
            <a:ext cx="1530360" cy="11430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2"/>
          <p:cNvSpPr/>
          <p:nvPr/>
        </p:nvSpPr>
        <p:spPr>
          <a:xfrm>
            <a:off x="5429160" y="621504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b268"/>
                </a:solidFill>
                <a:latin typeface="Constantia"/>
              </a:rPr>
              <a:t>железо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284" name="Picture 16" descr="http://im5-tub.yandex.net/i?id=30235260&amp;tov=5"/>
          <p:cNvPicPr/>
          <p:nvPr/>
        </p:nvPicPr>
        <p:blipFill>
          <a:blip r:embed="rId6"/>
          <a:srcRect l="0" t="12500" r="0" b="0"/>
          <a:stretch/>
        </p:blipFill>
        <p:spPr>
          <a:xfrm>
            <a:off x="7010280" y="5181480"/>
            <a:ext cx="1884600" cy="8575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4"/>
          <p:cNvSpPr/>
          <p:nvPr/>
        </p:nvSpPr>
        <p:spPr>
          <a:xfrm>
            <a:off x="7500960" y="60008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b268"/>
                </a:solidFill>
                <a:latin typeface="Constantia"/>
              </a:rPr>
              <a:t>калий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transition spd="med" advTm="26000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1"/>
          <p:cNvSpPr/>
          <p:nvPr/>
        </p:nvSpPr>
        <p:spPr>
          <a:xfrm>
            <a:off x="214200" y="285840"/>
            <a:ext cx="86439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25d"/>
                </a:solidFill>
                <a:latin typeface="Cambria"/>
              </a:rPr>
              <a:t>Органические и неорганические вещества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Многие называют минералами все, что добывают из земли. Но люди, которые профессионально изучают минералы, - считают, что уголь, нефть и природный газ - органические вещества, так как образовались из остатков живых растений и животных, а потому минералами не являются.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У минералов определенный химический состав. Они всегда однородны. Все части минерала одинаковы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Минералы состоят из химических элементов, т. е. веществ, которые уже нельзя разложить на другие вещества химическим путем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Некоторые, их называют самородными элементами, находятся в земной коре в чистом или почти чистом виде. Существует 22 самородных элемента, среди них - золото, серебро и алмазы.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Чаще всего минералы являются твёрдыми веществами. Исключение составляет ртуть.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transition spd="med" advTm="33000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Прямоугольник 2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472600" cy="38829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48:46Z</dcterms:created>
  <dc:creator>Мама</dc:creator>
  <dc:description/>
  <dc:language>en-US</dc:language>
  <cp:lastModifiedBy>Nik</cp:lastModifiedBy>
  <dcterms:modified xsi:type="dcterms:W3CDTF">2012-10-24T15:10:43Z</dcterms:modified>
  <cp:revision>31</cp:revision>
  <dc:subject/>
  <dc:title>Слайд 1</dc:title>
</cp:coreProperties>
</file>