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5.jpeg" ContentType="image/jpeg"/>
  <Override PartName="/ppt/media/image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65.jpeg" ContentType="image/jpeg"/>
  <Override PartName="/ppt/media/image8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70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FD6-3442-43C5-B507-1D4D1ED8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844-1B40-4D0A-9118-43E2EB8F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125-8D20-4BA3-9771-5D104CC0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3B3-C2B7-40E2-B183-C72FD9F1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1048-C68A-4B04-8D43-6B08684D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C412B-863F-42A6-A117-84BF638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F0A4-A2A0-4177-B451-A5ED2A2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E2F88-442E-442B-9F71-9C18E6A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EB52-0C9F-4F5A-ADCD-E98F781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FA3C1-543C-4179-9B69-6E2BF76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8D716-E5B7-4466-B80A-05F3A75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0B7-E693-490B-A878-55C03875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E88D-C78E-407D-88A8-5E3E737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4D277-A85A-4DEE-A88B-05ED413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F2F2-89D6-44EE-B3E2-E852884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3FD99-5D5A-413D-A28C-EB10057B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4B69-1FDA-447C-8325-9616BFAE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4FD2-47C9-4B63-B16E-2D811E5B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5FAA-D140-4980-9BE3-65B373C7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90DE-034D-4F71-B81A-DDBC96E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3D8C-E827-4616-8E05-5368E6C5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587F-DA14-4AEC-BB05-9928656B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311-AD9C-4BB6-BEAE-7AF5CC7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92DC-437D-4F3F-88EA-39712FAE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17D0-D443-4CA9-9693-5E8C3E0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9041-DDCC-4834-BD6A-31C0CDD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ED16-CDA0-41E7-85F3-EA8F8804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C3BA-5A7A-4B6F-AED7-F49D2735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48AD-9450-4A09-A946-C05534F0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7030-AE0C-4BCC-8B68-F9250410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80348-BCFB-4632-81DF-0AAA9E54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E4DC7-7FB8-463B-8BD2-EA617B0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14376-F02A-4C35-AFD4-0835F32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F1A-C1D8-41CD-8F0A-D52B76DD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DA8C4-426A-420F-8417-7977923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05C30-5AA4-431F-876B-0447D18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9EB30-290C-4EE9-BAB7-88E0E32D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EAC71-75B1-4C55-8FDA-CE6A7E4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27F1F-CCDC-4114-83AA-C69E2E7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79908-0D23-4F24-BB3C-F71985C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E7595-020C-43CA-8650-2100A4E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1786A-3431-4454-8BBB-16E945A1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64195-A4AF-4FCF-AF3B-93D33547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398D3-B32C-4319-B841-8BBF7FC9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B86-758A-4B34-ABB4-05434E6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72B92-8220-43FD-A348-85636CE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B8554-4948-4E5D-83CF-5BDC29B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286FB-F86E-4D16-8C2F-94E3FEB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28F08-FC75-431E-A095-EB41BC2C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9255-617E-4922-A1FF-FD3D7DF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F5D44-8056-46E2-BDD8-C542EB11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FE146-8321-4911-B930-BBA4875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57857-41B5-4A85-94C8-E2E3A69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A2095-3851-4A87-96F7-FBF2B14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771FD-5534-4B17-95D8-8B2E9100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93F-5191-488D-97B5-9E0FB809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0EFFF-DB41-4AF0-ABFB-928EAE3D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95B7A-CCB9-40C1-B7DA-834F42E4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20F3D-7F85-4A8C-8D9E-F5A75732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5E8BD-F73B-42A8-A8A3-EA1D0C8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8D902-0F42-4447-B6D4-A4E1311B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0AF07-2876-4E07-91BB-051A11C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381F7-6011-4760-9F35-C7819A6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AE5C3-DE17-4BF3-AF76-EC54A09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93268-5413-4B20-82AF-742B0AA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BE111-214E-4B05-B326-633B11C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926-C943-4E7F-917F-D6AEB55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7A4DE-0CE3-4684-A5C6-119F6F0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B3E8C-DBA1-4860-9ED1-E5A9769B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56FC9-A8FB-4555-AB11-DEC6C053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E57-9452-4DED-9A7A-7D20EB3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2A9-0249-4CD9-BCBB-58F3C53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C320-B61A-4DE7-BD3D-624B3DB23112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f2936"/>
          </a:solidFill>
          <a:ln w="38160">
            <a:solidFill>
              <a:srgbClr val="9f293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20E2-ADF6-4864-8FC6-EB68C36A8DC8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B01E-B14A-4C9A-818D-306D65E1AD9F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f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6640-449F-4A90-92B5-89DAEFB71138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EF2-E02A-476C-A231-C0F6F494436E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41b2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8b2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9b2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b26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c3e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c3e5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338B-81E2-4278-91B6-E927239B1A88}" type="slidenum">
              <a:rPr b="0" lang="en-US" sz="1600" spc="-1" strike="noStrike">
                <a:solidFill>
                  <a:srgbClr val="89c3e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4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image" Target="../media/image64.jpeg"/><Relationship Id="rId13" Type="http://schemas.openxmlformats.org/officeDocument/2006/relationships/image" Target="../media/image65.jpeg"/><Relationship Id="rId14" Type="http://schemas.openxmlformats.org/officeDocument/2006/relationships/image" Target="../media/image66.jpeg"/><Relationship Id="rId15" Type="http://schemas.openxmlformats.org/officeDocument/2006/relationships/image" Target="../media/image67.jpeg"/><Relationship Id="rId16" Type="http://schemas.openxmlformats.org/officeDocument/2006/relationships/image" Target="../media/image68.jpeg"/><Relationship Id="rId17" Type="http://schemas.openxmlformats.org/officeDocument/2006/relationships/image" Target="../media/image69.jpeg"/><Relationship Id="rId18" Type="http://schemas.openxmlformats.org/officeDocument/2006/relationships/image" Target="../media/image7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76f8"/>
            </a:gs>
            <a:gs pos="100000">
              <a:srgbClr val="6136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212240" cy="567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МАЛАХИТ – основной карбонат меди, имеет окраску от светлозеленой до темнозеленой."/>
          <p:cNvPicPr/>
          <p:nvPr/>
        </p:nvPicPr>
        <p:blipFill>
          <a:blip r:embed="rId2"/>
          <a:stretch/>
        </p:blipFill>
        <p:spPr>
          <a:xfrm>
            <a:off x="0" y="0"/>
            <a:ext cx="2928960" cy="2703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МЕЗОЛИТ"/>
          <p:cNvPicPr/>
          <p:nvPr/>
        </p:nvPicPr>
        <p:blipFill>
          <a:blip r:embed="rId3"/>
          <a:stretch/>
        </p:blipFill>
        <p:spPr>
          <a:xfrm>
            <a:off x="5562720" y="3376440"/>
            <a:ext cx="2876400" cy="3481560"/>
          </a:xfrm>
          <a:prstGeom prst="rect">
            <a:avLst/>
          </a:prstGeom>
          <a:ln w="0">
            <a:noFill/>
          </a:ln>
        </p:spPr>
      </p:pic>
      <p:pic>
        <p:nvPicPr>
          <p:cNvPr id="255" name="9f293c736c0c.mp3" descr=""/>
          <p:cNvPicPr/>
          <p:nvPr/>
        </p:nvPicPr>
        <p:blipFill>
          <a:blip r:embed="rId4"/>
          <a:stretch/>
        </p:blipFill>
        <p:spPr>
          <a:xfrm>
            <a:off x="8470800" y="618480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14200" y="1643040"/>
            <a:ext cx="857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1f28"/>
                </a:solidFill>
                <a:latin typeface="Cambria"/>
              </a:rPr>
              <a:t>Минералы и минералогия представляют собой чрезвычайно большой интерес для промышленности, многих областей науки и имеет важное эстетическое значение. </a:t>
            </a: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9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14292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сыграли важную роль в развитии человека и создании цивилизаци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В каменном веке люди пользовались кремниевыми орудиями труда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Около 10 000 лет назад человек научился получать медь из руды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 изобретением бронзы (сплава меди и олова) начался новый век - бронзовы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 начала железного века, 3300 лет назад, человек осваивал все новые способы использования полезных ископаемых, добытых из земной кор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Современная промышленность по-прежнему зависит от минеральных ресурсов Земли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90" name="Picture 2" descr="http://im8-tub.yandex.net/i?id=66080342&amp;tov=8"/>
          <p:cNvPicPr/>
          <p:nvPr/>
        </p:nvPicPr>
        <p:blipFill>
          <a:blip r:embed="rId2"/>
          <a:stretch/>
        </p:blipFill>
        <p:spPr>
          <a:xfrm>
            <a:off x="0" y="3286080"/>
            <a:ext cx="3214800" cy="1968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im4-tub.yandex.net/i?id=119822431&amp;tov=4"/>
          <p:cNvPicPr/>
          <p:nvPr/>
        </p:nvPicPr>
        <p:blipFill>
          <a:blip r:embed="rId3"/>
          <a:stretch/>
        </p:blipFill>
        <p:spPr>
          <a:xfrm>
            <a:off x="2500200" y="4429080"/>
            <a:ext cx="2036880" cy="2214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http://im7-tub.yandex.net/i?id=5143609&amp;tov=7"/>
          <p:cNvPicPr/>
          <p:nvPr/>
        </p:nvPicPr>
        <p:blipFill>
          <a:blip r:embed="rId4"/>
          <a:stretch/>
        </p:blipFill>
        <p:spPr>
          <a:xfrm>
            <a:off x="4071960" y="3214800"/>
            <a:ext cx="1714320" cy="2233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http://im4-tub.yandex.net/i?id=196763473&amp;tov=4"/>
          <p:cNvPicPr/>
          <p:nvPr/>
        </p:nvPicPr>
        <p:blipFill>
          <a:blip r:embed="rId5"/>
          <a:stretch/>
        </p:blipFill>
        <p:spPr>
          <a:xfrm>
            <a:off x="5643720" y="4572000"/>
            <a:ext cx="1928520" cy="2060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http://im6-tub.yandex.net/i?id=70163994&amp;tov=6"/>
          <p:cNvPicPr/>
          <p:nvPr/>
        </p:nvPicPr>
        <p:blipFill>
          <a:blip r:embed="rId6"/>
          <a:stretch/>
        </p:blipFill>
        <p:spPr>
          <a:xfrm>
            <a:off x="7286760" y="3286080"/>
            <a:ext cx="1643040" cy="21812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285840" y="214200"/>
            <a:ext cx="871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находят применения во всех областях человеческой деятельности. В том или ином виде человек встречает их дома и на работе, за городом, в сложных научно – технических сооружениях и повседневных предметах быта, во время еды, при просмотре салютов и игре на компьютере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96" name="Picture 2" descr="http://im4-tub.yandex.net/i?id=54810208&amp;tov=4"/>
          <p:cNvPicPr/>
          <p:nvPr/>
        </p:nvPicPr>
        <p:blipFill>
          <a:blip r:embed="rId2"/>
          <a:stretch/>
        </p:blipFill>
        <p:spPr>
          <a:xfrm>
            <a:off x="228600" y="1600200"/>
            <a:ext cx="2833560" cy="1857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://im3-tub.yandex.net/i?id=46996236&amp;tov=3"/>
          <p:cNvPicPr/>
          <p:nvPr/>
        </p:nvPicPr>
        <p:blipFill>
          <a:blip r:embed="rId3"/>
          <a:stretch/>
        </p:blipFill>
        <p:spPr>
          <a:xfrm>
            <a:off x="6622920" y="5143680"/>
            <a:ext cx="2521080" cy="1714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im0-tub.yandex.net/i?id=154145888&amp;tov=0"/>
          <p:cNvPicPr/>
          <p:nvPr/>
        </p:nvPicPr>
        <p:blipFill>
          <a:blip r:embed="rId4"/>
          <a:stretch/>
        </p:blipFill>
        <p:spPr>
          <a:xfrm>
            <a:off x="3200400" y="1600200"/>
            <a:ext cx="2489040" cy="1857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http://im8-tub.yandex.net/i?id=58797867&amp;tov=8"/>
          <p:cNvPicPr/>
          <p:nvPr/>
        </p:nvPicPr>
        <p:blipFill>
          <a:blip r:embed="rId5"/>
          <a:stretch/>
        </p:blipFill>
        <p:spPr>
          <a:xfrm>
            <a:off x="3657600" y="3505320"/>
            <a:ext cx="2500200" cy="2012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http://im2-tub.yandex.net/i?id=31581156&amp;tov=2"/>
          <p:cNvPicPr/>
          <p:nvPr/>
        </p:nvPicPr>
        <p:blipFill>
          <a:blip r:embed="rId6"/>
          <a:stretch/>
        </p:blipFill>
        <p:spPr>
          <a:xfrm>
            <a:off x="6454800" y="3429000"/>
            <a:ext cx="2689200" cy="1785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http://im4-tub.yandex.net/i?id=133646591&amp;tov=4"/>
          <p:cNvPicPr/>
          <p:nvPr/>
        </p:nvPicPr>
        <p:blipFill>
          <a:blip r:embed="rId7"/>
          <a:stretch/>
        </p:blipFill>
        <p:spPr>
          <a:xfrm>
            <a:off x="5715000" y="152388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http://im5-tub.yandex.net/i?id=60718739&amp;tov=5"/>
          <p:cNvPicPr/>
          <p:nvPr/>
        </p:nvPicPr>
        <p:blipFill>
          <a:blip r:embed="rId8"/>
          <a:stretch/>
        </p:blipFill>
        <p:spPr>
          <a:xfrm>
            <a:off x="0" y="3581280"/>
            <a:ext cx="3271680" cy="2071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357120" y="23220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Среди промышленно ценных минералов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нято выделять две группы: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удные минералы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В эту группу входят минералы из которых добываются необходимые для промышленности металлические элементы. К таким минералам относятся самородные элементы и  минералы с высоким содержанием металлов – меди, серебра, железа и алюминия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рудные минералы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Минералы, применяемые при производстве неметаллических материалов, служащих для изготовления электро- и термоизоляторов (слюды), огнеупоров (кианит), керамических изделий (флюорт), стекла (кварц), абразивов, цемента, минеральных удобрений (чилийская селитра), флюсов для металлургических процессов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4" name="Рисунок 2" descr="http://wiki.web.ru/images/thumb/b/bf/Boxite_WofM_France.jpg/200px-Boxite_WofM_France.jpg"/>
          <p:cNvPicPr/>
          <p:nvPr/>
        </p:nvPicPr>
        <p:blipFill>
          <a:blip r:embed="rId2"/>
          <a:stretch/>
        </p:blipFill>
        <p:spPr>
          <a:xfrm>
            <a:off x="285840" y="4429080"/>
            <a:ext cx="2143080" cy="1714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714240" y="62150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Боксит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6" name="Рисунок 4" descr="http://wiki.web.ru/images/thumb/b/bb/Eritrine_wom.jpg/200px-Eritrine_wom.jpg"/>
          <p:cNvPicPr/>
          <p:nvPr/>
        </p:nvPicPr>
        <p:blipFill>
          <a:blip r:embed="rId3"/>
          <a:stretch/>
        </p:blipFill>
        <p:spPr>
          <a:xfrm>
            <a:off x="2643120" y="4429080"/>
            <a:ext cx="1905120" cy="17226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000240" y="6215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b268"/>
                </a:solidFill>
                <a:latin typeface="Constantia"/>
              </a:rPr>
              <a:t>Эритрин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08" name="Рисунок 6" descr="http://wiki.web.ru/images/thumb/8/84/Lvasiliev.jpg/200px-Lvasiliev.jpg"/>
          <p:cNvPicPr/>
          <p:nvPr/>
        </p:nvPicPr>
        <p:blipFill>
          <a:blip r:embed="rId4"/>
          <a:stretch/>
        </p:blipFill>
        <p:spPr>
          <a:xfrm>
            <a:off x="4714920" y="4429080"/>
            <a:ext cx="1785960" cy="17146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5143680" y="6286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Алмаз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0" name="Picture 3" descr="http://im3-tub.yandex.net/i?id=52387145&amp;tov=3"/>
          <p:cNvPicPr/>
          <p:nvPr/>
        </p:nvPicPr>
        <p:blipFill>
          <a:blip r:embed="rId5"/>
          <a:stretch/>
        </p:blipFill>
        <p:spPr>
          <a:xfrm>
            <a:off x="6643800" y="4429080"/>
            <a:ext cx="2280960" cy="17146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9"/>
          <p:cNvSpPr/>
          <p:nvPr/>
        </p:nvSpPr>
        <p:spPr>
          <a:xfrm>
            <a:off x="7358040" y="628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b268"/>
                </a:solidFill>
                <a:latin typeface="Constantia"/>
              </a:rPr>
              <a:t>Меланит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31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0" y="-140400"/>
            <a:ext cx="871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Эстетическое значение минералов широко известно. Драгоценные камни в ювелирных изделиях, в национальных сокровищницах и других экспозициях ежегодно привлекают внимание миллионов людей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Минералы применяются в качестве строительных материалов или их компонентов для отделки интерьеров и для наружной облицовки многих шедевров архитектуры. Например, московского метро или малахитовой комнаты в Эрмитаже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3" name="Picture 3" descr="http://im0-tub.yandex.net/i?id=157050817&amp;tov=0"/>
          <p:cNvPicPr/>
          <p:nvPr/>
        </p:nvPicPr>
        <p:blipFill>
          <a:blip r:embed="rId2"/>
          <a:stretch/>
        </p:blipFill>
        <p:spPr>
          <a:xfrm>
            <a:off x="760320" y="2214720"/>
            <a:ext cx="1895400" cy="1428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http://im4-tub.yandex.net/i?id=82277117&amp;tov=4"/>
          <p:cNvPicPr/>
          <p:nvPr/>
        </p:nvPicPr>
        <p:blipFill>
          <a:blip r:embed="rId3"/>
          <a:stretch/>
        </p:blipFill>
        <p:spPr>
          <a:xfrm>
            <a:off x="3048120" y="2133720"/>
            <a:ext cx="1892160" cy="141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http://im7-tub.yandex.net/i?id=63225719&amp;tov=7"/>
          <p:cNvPicPr/>
          <p:nvPr/>
        </p:nvPicPr>
        <p:blipFill>
          <a:blip r:embed="rId4"/>
          <a:stretch/>
        </p:blipFill>
        <p:spPr>
          <a:xfrm>
            <a:off x="5486400" y="2133720"/>
            <a:ext cx="2013120" cy="1515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7"/>
          <p:cNvSpPr/>
          <p:nvPr/>
        </p:nvSpPr>
        <p:spPr>
          <a:xfrm>
            <a:off x="285840" y="371484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ряду с известными и распространенными минералами, существуют и такие, которые встречаются лишь в отдельном месте или даже в единичных экземплярах. Такие уникальные образцы должны храниться в музеях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17" name="Picture 9" descr="http://im0-tub.yandex.net/i?id=208447566&amp;tov=0"/>
          <p:cNvPicPr/>
          <p:nvPr/>
        </p:nvPicPr>
        <p:blipFill>
          <a:blip r:embed="rId5"/>
          <a:stretch/>
        </p:blipFill>
        <p:spPr>
          <a:xfrm>
            <a:off x="762120" y="4952880"/>
            <a:ext cx="1357200" cy="1739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http://im6-tub.yandex.net/i?id=158516332&amp;tov=6"/>
          <p:cNvPicPr/>
          <p:nvPr/>
        </p:nvPicPr>
        <p:blipFill>
          <a:blip r:embed="rId6"/>
          <a:stretch/>
        </p:blipFill>
        <p:spPr>
          <a:xfrm>
            <a:off x="2286000" y="4952880"/>
            <a:ext cx="2014560" cy="1714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http://im6-tub.yandex.net/i?id=114767302&amp;tov=6"/>
          <p:cNvPicPr/>
          <p:nvPr/>
        </p:nvPicPr>
        <p:blipFill>
          <a:blip r:embed="rId7"/>
          <a:stretch/>
        </p:blipFill>
        <p:spPr>
          <a:xfrm>
            <a:off x="4419720" y="4952880"/>
            <a:ext cx="2679480" cy="1714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http://im6-tub.yandex.net/i?id=134484407&amp;tov=6"/>
          <p:cNvPicPr/>
          <p:nvPr/>
        </p:nvPicPr>
        <p:blipFill>
          <a:blip r:embed="rId8"/>
          <a:stretch/>
        </p:blipFill>
        <p:spPr>
          <a:xfrm>
            <a:off x="7238880" y="4952880"/>
            <a:ext cx="1357560" cy="1727280"/>
          </a:xfrm>
          <a:prstGeom prst="rect">
            <a:avLst/>
          </a:prstGeom>
          <a:ln w="0">
            <a:noFill/>
          </a:ln>
        </p:spPr>
      </p:pic>
    </p:spTree>
  </p:cSld>
  <p:transition spd="med" advTm="27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214200" y="142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5d"/>
                </a:solidFill>
                <a:latin typeface="Cambria"/>
              </a:rPr>
              <a:t>Драгоценные минералы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Еще в каменном веке люди делали украшения из золота, в бронзовом веке - из серебра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Сегодня в распоряжении ювелиров множество минералов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Самые дорогие драгоценные камни - это алмаз (особенно бесцветный), а также изумруд, рубин и сапфир, которые ценятся в первую очередь за цвет. Эти камни настолько дорогие, что их вес измеряют в каратах. Один карат равен 200 миллиграммам.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25d"/>
                </a:solidFill>
                <a:latin typeface="Cambria"/>
              </a:rPr>
              <a:t>Алмаз ценят за твердость и блеск, приобретаемый при огранке и шлифовке. </a:t>
            </a:r>
            <a:endParaRPr b="0" lang="en-US" sz="24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22" name="Picture 2" descr="http://im8-tub.yandex.net/i?id=32041429&amp;tov=8"/>
          <p:cNvPicPr/>
          <p:nvPr/>
        </p:nvPicPr>
        <p:blipFill>
          <a:blip r:embed="rId2"/>
          <a:stretch/>
        </p:blipFill>
        <p:spPr>
          <a:xfrm>
            <a:off x="228600" y="4952880"/>
            <a:ext cx="2060640" cy="1643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im6-tub.yandex.net/i?id=152822899&amp;tov=6"/>
          <p:cNvPicPr/>
          <p:nvPr/>
        </p:nvPicPr>
        <p:blipFill>
          <a:blip r:embed="rId3"/>
          <a:stretch/>
        </p:blipFill>
        <p:spPr>
          <a:xfrm>
            <a:off x="4495680" y="5257800"/>
            <a:ext cx="2021040" cy="1357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im3-tub.yandex.net/i?id=122214249&amp;tov=3"/>
          <p:cNvPicPr/>
          <p:nvPr/>
        </p:nvPicPr>
        <p:blipFill>
          <a:blip r:embed="rId4"/>
          <a:stretch/>
        </p:blipFill>
        <p:spPr>
          <a:xfrm>
            <a:off x="2819520" y="4800600"/>
            <a:ext cx="1214280" cy="1803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im4-tub.yandex.net/i?id=54121485&amp;tov=4"/>
          <p:cNvPicPr/>
          <p:nvPr/>
        </p:nvPicPr>
        <p:blipFill>
          <a:blip r:embed="rId5"/>
          <a:stretch/>
        </p:blipFill>
        <p:spPr>
          <a:xfrm>
            <a:off x="4800600" y="3733920"/>
            <a:ext cx="1643040" cy="1390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http://im3-tub.yandex.net/i?id=27329469&amp;tov=3"/>
          <p:cNvPicPr/>
          <p:nvPr/>
        </p:nvPicPr>
        <p:blipFill>
          <a:blip r:embed="rId6"/>
          <a:stretch/>
        </p:blipFill>
        <p:spPr>
          <a:xfrm>
            <a:off x="7010280" y="36576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http://im0-tub.yandex.net/i?id=7952385&amp;tov=0"/>
          <p:cNvPicPr/>
          <p:nvPr/>
        </p:nvPicPr>
        <p:blipFill>
          <a:blip r:embed="rId7"/>
          <a:stretch/>
        </p:blipFill>
        <p:spPr>
          <a:xfrm>
            <a:off x="6781680" y="5334120"/>
            <a:ext cx="2071800" cy="129528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214200" y="214200"/>
            <a:ext cx="8786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войства камней и минералов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Камни и минералы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- это не только удивительные дары природы и материал для украшений. Камни обладают различными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войствами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Люди всегда с большим уважением относились к могучим и таинственным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илам драгоценных камней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Они наделяли камни </a:t>
            </a: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магическими и лечебными свойствами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Сила камня или минерала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воздействует на человека в целом и отдельно на определенные органы. Правильно выбранный камень помогает исцелиться от целого ряда недугов. Каждый камень обладает только ему присущими свойствами и представляет собой некую защиту для человека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Камни и минералы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 очень отзывчивы на поведение человека, а порой обидчивы, и в ответ на несправедливость камни даже могут менять свою окраску. К любому камню нужно относиться бережно. Камень надо любить. Камень должен быть для человека чем-то особенным, необыкновенным, близким и дорогим. К нему нужно относиться с почтением и тогда он ответит взаимностью проявит все свои свойства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000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0" y="214200"/>
            <a:ext cx="8858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25d"/>
                </a:solidFill>
                <a:latin typeface="Cambria"/>
              </a:rPr>
              <a:t>Минералы или минеральные вещества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Каждому здоровому организму для роста и жизни необходимы не только белки, жиры, углеводы, вода и витамины, но и минеральные веществ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обладают небольшой энергетической ценностью, но переоценить их значение в организме человека невозможно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всасываются в кровь и соединяются с белками. Такие «комплексы» направляются в места активного обмена или места накопления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Организм человека может хранить запас кальция, фосфора, йода и желез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представляют собой гибкий материал и входят в состав костной ткани, где основными элементами являются кальций и фосфор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входят в состав ферментов и гормонов, принимают участие в процессах обмена веществ, образования кровяных телец и свертывания крови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и минеральные вещества обеспечивают работу главных систем организма: мышечной, пищеварительной и сердечно-сосудистой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требуются организму в неодинаковом количестве. Их нехватка или полное отсутствие могут привести как к серьезным заболеваниям, так и к гибели организм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5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0" y="28584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25d"/>
                </a:solidFill>
                <a:latin typeface="Cambria"/>
                <a:ea typeface="Arial"/>
              </a:rPr>
              <a:t>Минералы в продуктах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ы содержатся в продуктах всех видов:</a:t>
            </a: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 овощи, злаки, мясо и молочные продукты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Насчитывается около 30 видов минералов и микроэлементов, отсутствие которых нарушает нормальную работу организма человек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Все необходимые организму минеральные вещества можно получить, ежедневно употребляя в пищу продукты разных категорий. Но это не всегда возможно, поэтому часто в организме минералы находятся в недостатке. Это положение могут исправить витаминные комплексы, в состав которых входят не только витамины, но и минеральные веществ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Такие минералы, как кальций и фтор содержатся в молочных продуктах, особенно много в сыре и твороге; калий входит в состав сухофруктов: изюм, курага, чернослив и бобовых; главным источником йода являются морские продукты: морская капуста, морские водоросли, рыбий жир; печень и яичные желтки богаты железом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mbria"/>
                <a:ea typeface="Arial"/>
              </a:rPr>
              <a:t>Минеральные вещества – важная составляющая здоровья организм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331" name="Picture 2" descr="http://im7-tub.yandex.net/i?id=46888085&amp;tov=7"/>
          <p:cNvPicPr/>
          <p:nvPr/>
        </p:nvPicPr>
        <p:blipFill>
          <a:blip r:embed="rId2"/>
          <a:stretch/>
        </p:blipFill>
        <p:spPr>
          <a:xfrm>
            <a:off x="228600" y="4800600"/>
            <a:ext cx="1955880" cy="1857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im5-tub.yandex.net/i?id=153254089&amp;tov=5"/>
          <p:cNvPicPr/>
          <p:nvPr/>
        </p:nvPicPr>
        <p:blipFill>
          <a:blip r:embed="rId3"/>
          <a:stretch/>
        </p:blipFill>
        <p:spPr>
          <a:xfrm>
            <a:off x="2143080" y="47862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http://im7-tub.yandex.net/i?id=198326190&amp;tov=7"/>
          <p:cNvPicPr/>
          <p:nvPr/>
        </p:nvPicPr>
        <p:blipFill>
          <a:blip r:embed="rId4"/>
          <a:srcRect l="0" t="0" r="19717" b="0"/>
          <a:stretch/>
        </p:blipFill>
        <p:spPr>
          <a:xfrm>
            <a:off x="4572000" y="48006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http://im7-tub.yandex.net/i?id=80891906&amp;tov=7"/>
          <p:cNvPicPr/>
          <p:nvPr/>
        </p:nvPicPr>
        <p:blipFill>
          <a:blip r:embed="rId5"/>
          <a:stretch/>
        </p:blipFill>
        <p:spPr>
          <a:xfrm>
            <a:off x="6705720" y="4800600"/>
            <a:ext cx="2065320" cy="16430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42920" y="214200"/>
          <a:ext cx="8786880" cy="6123240"/>
        </p:xfrm>
        <a:graphic>
          <a:graphicData uri="http://schemas.openxmlformats.org/drawingml/2006/table">
            <a:tbl>
              <a:tblPr/>
              <a:tblGrid>
                <a:gridCol w="357120"/>
                <a:gridCol w="2928960"/>
                <a:gridCol w="5500800"/>
              </a:tblGrid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де применяются?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римеры минералов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 и пиротехника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Киноварь, целестин, сера, реальгар, галит, кальцит,                                                      бура, ангидр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качестве удобрений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Сера, чилийская селитра, сильвин,  карналлит,  гипс, апатит,  вавелл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оптик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Флюорит, диоптаз, кварц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3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зделия из фарфора керамики и стекла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Флюорит, криолит, касситерит, стронцианит, витерит,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Times New Roman"/>
                        </a:rPr>
                        <a:t> целестин, кианит, волластонит,  пирофиллит, каолин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3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ювелирном деле и как поделочны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14425d"/>
                          </a:solidFill>
                          <a:latin typeface="Cambria"/>
                          <a:ea typeface="Calibri"/>
                        </a:rPr>
                        <a:t>Шпинель, изумруд,  алмаз, корунд (сапфир, рубин), хризоберилл, чароит, серпентинит, родонит,  лазурит, малахит, бирюза, хризолит, гранаты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59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качестве огнеупоров,  кисло-стойких и электроизоля-ционных материалов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Calibri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Calibri"/>
                        </a:rPr>
                        <a:t>Кианит,  брусит, хризотил, колеманит, оливин, андалузит, силлиманит, пирофиллит, тальк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группа слюд, тридимит,  альбит, лабрадор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строительств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льцит, доломит, гипс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медицине и фармацевтике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гнезит, мирабилит, сассолин, колеманит,  гипс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металлургии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e2c3e"/>
                          </a:solidFill>
                          <a:latin typeface="Cambria"/>
                          <a:ea typeface="Times New Roman"/>
                        </a:rPr>
                        <a:t>Доломит, родохрозит, колеманит, ванадин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 ядерной промышленности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Целестин, стильбит, мезолит,  ломонит,  гейланд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456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тересны главным образом для коллекционеров (приме-нение может быть найдено в будущем)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Эпидот, арсенолит,  фосгенит, ледгиллит,  аурихальцит,  артинит, борацит,  крокоит, гюбнерит,  адамин,  оливенит,  ставролит,  ильваит,  аксинит,  геденбергит, авгит</a:t>
                      </a:r>
                      <a:endParaRPr b="0" lang="en-US" sz="1600" spc="-1" strike="noStrike">
                        <a:solidFill>
                          <a:srgbClr val="f9b268"/>
                        </a:solidFill>
                        <a:latin typeface="Constantia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5000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285840" y="78588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Constantia"/>
              </a:rPr>
              <a:t>Минерал </a:t>
            </a:r>
            <a:r>
              <a:rPr b="0" lang="ru-RU" sz="3200" spc="-1" strike="noStrike">
                <a:solidFill>
                  <a:srgbClr val="14425d"/>
                </a:solidFill>
                <a:latin typeface="Constantia"/>
              </a:rPr>
              <a:t>— природное твёрдое неорганическое тело с определённым химическим составом и кристаллической структурой , образующееся в результате природных физико-химических процессов и являющееся составной частью  земной коры, горных пород, руд, метеоритов. </a:t>
            </a: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Constantia"/>
              </a:rPr>
              <a:t>Минералогия </a:t>
            </a:r>
            <a:r>
              <a:rPr b="0" lang="ru-RU" sz="3200" spc="-1" strike="noStrike">
                <a:solidFill>
                  <a:srgbClr val="14425d"/>
                </a:solidFill>
                <a:latin typeface="Constantia"/>
              </a:rPr>
              <a:t>– наука об изучении минералов</a:t>
            </a:r>
            <a:r>
              <a:rPr b="0" lang="ru-RU" sz="2800" spc="-1" strike="noStrike">
                <a:solidFill>
                  <a:srgbClr val="14425d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7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im7-tub.yandex.net/i?id=71017132&amp;tov=7"/>
          <p:cNvPicPr/>
          <p:nvPr/>
        </p:nvPicPr>
        <p:blipFill>
          <a:blip r:embed="rId2"/>
          <a:stretch/>
        </p:blipFill>
        <p:spPr>
          <a:xfrm>
            <a:off x="2133720" y="0"/>
            <a:ext cx="2181240" cy="1643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http://im6-tub.yandex.net/i?id=8214417&amp;tov=6"/>
          <p:cNvPicPr/>
          <p:nvPr/>
        </p:nvPicPr>
        <p:blipFill>
          <a:blip r:embed="rId3"/>
          <a:stretch/>
        </p:blipFill>
        <p:spPr>
          <a:xfrm>
            <a:off x="1600200" y="3276720"/>
            <a:ext cx="2028960" cy="1857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http://im0-tub.yandex.net/i?id=24434714&amp;tov=0"/>
          <p:cNvPicPr/>
          <p:nvPr/>
        </p:nvPicPr>
        <p:blipFill>
          <a:blip r:embed="rId4"/>
          <a:stretch/>
        </p:blipFill>
        <p:spPr>
          <a:xfrm>
            <a:off x="4648320" y="1905120"/>
            <a:ext cx="2071440" cy="1380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im4-tub.yandex.net/i?id=11043174&amp;tov=4"/>
          <p:cNvPicPr/>
          <p:nvPr/>
        </p:nvPicPr>
        <p:blipFill>
          <a:blip r:embed="rId5"/>
          <a:stretch/>
        </p:blipFill>
        <p:spPr>
          <a:xfrm>
            <a:off x="7081920" y="3886200"/>
            <a:ext cx="2062080" cy="16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http://im8-tub.yandex.net/i?id=11202218&amp;tov=8"/>
          <p:cNvPicPr/>
          <p:nvPr/>
        </p:nvPicPr>
        <p:blipFill>
          <a:blip r:embed="rId6"/>
          <a:stretch/>
        </p:blipFill>
        <p:spPr>
          <a:xfrm>
            <a:off x="4114800" y="3581280"/>
            <a:ext cx="2349360" cy="1571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http://im0-tub.yandex.net/i?id=75275929&amp;tov=0"/>
          <p:cNvPicPr/>
          <p:nvPr/>
        </p:nvPicPr>
        <p:blipFill>
          <a:blip r:embed="rId7"/>
          <a:stretch/>
        </p:blipFill>
        <p:spPr>
          <a:xfrm>
            <a:off x="1905120" y="175248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im4-tub.yandex.net/i?id=183687468&amp;tov=4"/>
          <p:cNvPicPr/>
          <p:nvPr/>
        </p:nvPicPr>
        <p:blipFill>
          <a:blip r:embed="rId8"/>
          <a:stretch/>
        </p:blipFill>
        <p:spPr>
          <a:xfrm>
            <a:off x="0" y="16002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im4-tub.yandex.net/i?id=3145475&amp;tov=4"/>
          <p:cNvPicPr/>
          <p:nvPr/>
        </p:nvPicPr>
        <p:blipFill>
          <a:blip r:embed="rId9"/>
          <a:stretch/>
        </p:blipFill>
        <p:spPr>
          <a:xfrm>
            <a:off x="0" y="3200400"/>
            <a:ext cx="1500120" cy="2009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http://im4-tub.yandex.net/i?id=18616824&amp;tov=4"/>
          <p:cNvPicPr/>
          <p:nvPr/>
        </p:nvPicPr>
        <p:blipFill>
          <a:blip r:embed="rId10"/>
          <a:stretch/>
        </p:blipFill>
        <p:spPr>
          <a:xfrm>
            <a:off x="434340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2" descr="http://im0-tub.yandex.net/i?id=193647381&amp;tov=0"/>
          <p:cNvPicPr/>
          <p:nvPr/>
        </p:nvPicPr>
        <p:blipFill>
          <a:blip r:embed="rId11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http://im8-tub.yandex.net/i?id=118082377&amp;tov=8"/>
          <p:cNvPicPr/>
          <p:nvPr/>
        </p:nvPicPr>
        <p:blipFill>
          <a:blip r:embed="rId12"/>
          <a:stretch/>
        </p:blipFill>
        <p:spPr>
          <a:xfrm>
            <a:off x="3657600" y="52862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http://im4-tub.yandex.net/i?id=214276750&amp;tov=4"/>
          <p:cNvPicPr/>
          <p:nvPr/>
        </p:nvPicPr>
        <p:blipFill>
          <a:blip r:embed="rId13"/>
          <a:stretch/>
        </p:blipFill>
        <p:spPr>
          <a:xfrm>
            <a:off x="5943600" y="5676840"/>
            <a:ext cx="1571760" cy="1181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http://im8-tub.yandex.net/i?id=8622679&amp;tov=8"/>
          <p:cNvPicPr/>
          <p:nvPr/>
        </p:nvPicPr>
        <p:blipFill>
          <a:blip r:embed="rId14"/>
          <a:stretch/>
        </p:blipFill>
        <p:spPr>
          <a:xfrm>
            <a:off x="1905120" y="5181480"/>
            <a:ext cx="1571400" cy="14367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4" descr="http://im5-tub.yandex.net/i?id=84651116&amp;tov=5"/>
          <p:cNvPicPr/>
          <p:nvPr/>
        </p:nvPicPr>
        <p:blipFill>
          <a:blip r:embed="rId15"/>
          <a:stretch/>
        </p:blipFill>
        <p:spPr>
          <a:xfrm>
            <a:off x="6172200" y="0"/>
            <a:ext cx="1436760" cy="1857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0" descr="http://im4-tub.yandex.net/i?id=112805247&amp;tov=4"/>
          <p:cNvPicPr/>
          <p:nvPr/>
        </p:nvPicPr>
        <p:blipFill>
          <a:blip r:embed="rId16"/>
          <a:stretch/>
        </p:blipFill>
        <p:spPr>
          <a:xfrm>
            <a:off x="7615080" y="152280"/>
            <a:ext cx="1528920" cy="1447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http://im0-tub.yandex.net/i?id=28353625&amp;tov=0"/>
          <p:cNvPicPr/>
          <p:nvPr/>
        </p:nvPicPr>
        <p:blipFill>
          <a:blip r:embed="rId17"/>
          <a:stretch/>
        </p:blipFill>
        <p:spPr>
          <a:xfrm>
            <a:off x="7238880" y="1905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4" descr="http://im0-tub.yandex.net/i?id=118082395&amp;tov=0"/>
          <p:cNvPicPr/>
          <p:nvPr/>
        </p:nvPicPr>
        <p:blipFill>
          <a:blip r:embed="rId18"/>
          <a:stretch/>
        </p:blipFill>
        <p:spPr>
          <a:xfrm>
            <a:off x="0" y="-15228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3286080" y="457200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58" name="Picture 2" descr="Картинка 1 из 287988"/>
          <p:cNvPicPr/>
          <p:nvPr/>
        </p:nvPicPr>
        <p:blipFill>
          <a:blip r:embed="rId2"/>
          <a:stretch/>
        </p:blipFill>
        <p:spPr>
          <a:xfrm>
            <a:off x="5791320" y="2286000"/>
            <a:ext cx="2985840" cy="2203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im8-tub.yandex.net/i?id=21811964&amp;tov=8"/>
          <p:cNvPicPr/>
          <p:nvPr/>
        </p:nvPicPr>
        <p:blipFill>
          <a:blip r:embed="rId3"/>
          <a:stretch/>
        </p:blipFill>
        <p:spPr>
          <a:xfrm>
            <a:off x="304920" y="152280"/>
            <a:ext cx="273816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3143160" y="428760"/>
            <a:ext cx="5786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Минералами считаются также некоторые природные вещества, представляющие из себя в обычных условиях жидкости. Например,  самородная ртуть, которая приходит к кристаллическому состоянию при более низкой температуре)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42920" y="285768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Воду к минералам не относят, рассматривая её как жидкое состояние  минерала лёд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62" name="Picture 6" descr="http://im0-tub.yandex.net/i?id=143471798&amp;tov=0"/>
          <p:cNvPicPr/>
          <p:nvPr/>
        </p:nvPicPr>
        <p:blipFill>
          <a:blip r:embed="rId4"/>
          <a:stretch/>
        </p:blipFill>
        <p:spPr>
          <a:xfrm>
            <a:off x="228600" y="5181480"/>
            <a:ext cx="1928880" cy="145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http://im8-tub.yandex.net/i?id=13641821&amp;tov=8"/>
          <p:cNvPicPr/>
          <p:nvPr/>
        </p:nvPicPr>
        <p:blipFill>
          <a:blip r:embed="rId5"/>
          <a:stretch/>
        </p:blipFill>
        <p:spPr>
          <a:xfrm>
            <a:off x="914400" y="3733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http://im7-tub.yandex.net/i?id=79964425&amp;tov=7"/>
          <p:cNvPicPr/>
          <p:nvPr/>
        </p:nvPicPr>
        <p:blipFill>
          <a:blip r:embed="rId6"/>
          <a:stretch/>
        </p:blipFill>
        <p:spPr>
          <a:xfrm>
            <a:off x="3733920" y="3809880"/>
            <a:ext cx="1428480" cy="14414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2214720" y="525780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onstantia"/>
              </a:rPr>
              <a:t>Некоторые органические вещества — нефть, асфальты, битумы — часто ошибочно относят к минералам, либо выделяют их в особый класс органические минералы. 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8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642960" y="42876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По распространённости минералы можно разделить на :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породообразующие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, то есть  составляющие основу большинства горных пород,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акцессорные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  — часто присутствующие в горных породах, но в малом количестве,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14425d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4425d"/>
                </a:solidFill>
                <a:latin typeface="Cambria"/>
              </a:rPr>
              <a:t>рудные </a:t>
            </a:r>
            <a:r>
              <a:rPr b="0" lang="en-US" sz="2800" spc="-1" strike="noStrike">
                <a:solidFill>
                  <a:srgbClr val="14425d"/>
                </a:solidFill>
                <a:latin typeface="Cambria"/>
              </a:rPr>
              <a:t>-  широко представленные в рудных месторождениях.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16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0" y="1173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425d"/>
                </a:solidFill>
                <a:latin typeface="Cambria"/>
              </a:rPr>
              <a:t>Свойства минералов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Габитус кристаллов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выясняется при визуальном осмотр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Твёрдость 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Блеск -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световой эффект, отражение светового потока, падающего на минерал. Зависит от отражательной способности минерала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Спайность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 способность минерала раскалываться по определенным кристаллографическим направлениям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Излом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специфика поверхности минерала на свежем скол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Цвет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признак, характеризующий одни минералы: </a:t>
            </a:r>
            <a:r>
              <a:rPr b="0" i="1" lang="ru-RU" sz="1800" spc="-1" strike="noStrike">
                <a:solidFill>
                  <a:srgbClr val="14425d"/>
                </a:solidFill>
                <a:latin typeface="Cambria"/>
              </a:rPr>
              <a:t>зелёный малахит, синий  лазурит, красная киновар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, и очень обманчивый у других минералов, окраска которых может изменяться от наличия примесей  и  дефектов: </a:t>
            </a:r>
            <a:r>
              <a:rPr b="0" i="1" lang="ru-RU" sz="1800" spc="-1" strike="noStrike">
                <a:solidFill>
                  <a:srgbClr val="14425d"/>
                </a:solidFill>
                <a:latin typeface="Cambria"/>
              </a:rPr>
              <a:t>кварцы, турмалины. 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Цвет черты 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- цвет минерала в порошке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Магнитн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 зависит от содержания  железа. Обнаруживается при помощи обычного магнита.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Побежал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тонкая цветная или разноцветная плёнка, которая образуется на поверхности некоторых минералов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425d"/>
                </a:solidFill>
                <a:latin typeface="Cambria"/>
              </a:rPr>
              <a:t>Хрупкость</a:t>
            </a:r>
            <a:r>
              <a:rPr b="0" lang="ru-RU" sz="1800" spc="-1" strike="noStrike">
                <a:solidFill>
                  <a:srgbClr val="14425d"/>
                </a:solidFill>
                <a:latin typeface="Cambria"/>
              </a:rPr>
              <a:t> - прочность минеральных кристаллов. Обнаруживающаяся при механическом раскалывании. Некоторые  очень твёрдые минералы могут с лёгкостью раскалываться, т.е. быть хрупкими, например, алмаз. 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4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14200" y="21420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214200" y="214200"/>
            <a:ext cx="8786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Разнообразие минералов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4425d"/>
                </a:solidFill>
                <a:latin typeface="Cambria"/>
              </a:rPr>
              <a:t>Земная кора состоит в основном из минералов - от редких и чрезвычайно ценных алмазов до различных руд, из которых получают металлы для наших повседневных нужд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На сегодняшний день известно более 4 тысяч минералов. Ежегодно открывают несколько десятков новых минеральных видов и несколько «закрывают» — доказывают, что такой минерал не существует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70" name="Picture 32" descr="Файл:AventurinGeschliffen.jpg"/>
          <p:cNvPicPr/>
          <p:nvPr/>
        </p:nvPicPr>
        <p:blipFill>
          <a:blip r:embed="rId2"/>
          <a:stretch/>
        </p:blipFill>
        <p:spPr>
          <a:xfrm>
            <a:off x="214200" y="321480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http://im5-tub.yandex.net/i?id=57701272&amp;tov=5"/>
          <p:cNvPicPr/>
          <p:nvPr/>
        </p:nvPicPr>
        <p:blipFill>
          <a:blip r:embed="rId3"/>
          <a:stretch/>
        </p:blipFill>
        <p:spPr>
          <a:xfrm rot="20739000">
            <a:off x="678960" y="4668840"/>
            <a:ext cx="1570320" cy="1643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8" descr="http://im3-tub.yandex.net/i?id=51405035&amp;tov=3"/>
          <p:cNvPicPr/>
          <p:nvPr/>
        </p:nvPicPr>
        <p:blipFill>
          <a:blip r:embed="rId4"/>
          <a:stretch/>
        </p:blipFill>
        <p:spPr>
          <a:xfrm>
            <a:off x="7143840" y="31431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0" descr="http://im6-tub.yandex.net/i?id=8214417&amp;tov=6"/>
          <p:cNvPicPr/>
          <p:nvPr/>
        </p:nvPicPr>
        <p:blipFill>
          <a:blip r:embed="rId5"/>
          <a:stretch/>
        </p:blipFill>
        <p:spPr>
          <a:xfrm rot="1306200">
            <a:off x="7174080" y="4839840"/>
            <a:ext cx="1758960" cy="1609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4" descr="Картинка 3 из 82832"/>
          <p:cNvPicPr/>
          <p:nvPr/>
        </p:nvPicPr>
        <p:blipFill>
          <a:blip r:embed="rId6"/>
          <a:stretch/>
        </p:blipFill>
        <p:spPr>
          <a:xfrm>
            <a:off x="2251080" y="3236760"/>
            <a:ext cx="4964040" cy="33195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285840" y="285840"/>
            <a:ext cx="871524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Минералы в природе. 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Земная кора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Два элемента, </a:t>
            </a: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кислород и кремний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, составляют </a:t>
            </a: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74% массы земной кор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Алюминий, железо, кальций, натрий, калий и магний -  24,27%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425d"/>
                </a:solidFill>
                <a:latin typeface="Cambria"/>
              </a:rPr>
              <a:t>Все вместе они формируют 99% земной коры.</a:t>
            </a:r>
            <a:endParaRPr b="0" lang="en-US" sz="2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425d"/>
                </a:solidFill>
                <a:latin typeface="Cambria"/>
              </a:rPr>
              <a:t>Самые распространенные минералы </a:t>
            </a: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- это силикаты, химическое соединение кислорода и кремния. Преобладают такие силикаты, как кварц, слюда и полевые шпаты. Все три в разных пропорциях являются основными компонентами разных типов гранита. Кварц, эродированный из гранита, накапливается на побережье и образует песчаные пляжи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76" name="Picture 2" descr="http://im5-tub.yandex.net/i?id=126899054&amp;tov=5"/>
          <p:cNvPicPr/>
          <p:nvPr/>
        </p:nvPicPr>
        <p:blipFill>
          <a:blip r:embed="rId2"/>
          <a:stretch/>
        </p:blipFill>
        <p:spPr>
          <a:xfrm>
            <a:off x="142920" y="5000760"/>
            <a:ext cx="1643040" cy="1238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im7-tub.yandex.net/i?id=8897478&amp;tov=7"/>
          <p:cNvPicPr/>
          <p:nvPr/>
        </p:nvPicPr>
        <p:blipFill>
          <a:blip r:embed="rId3"/>
          <a:stretch/>
        </p:blipFill>
        <p:spPr>
          <a:xfrm>
            <a:off x="1928880" y="5000760"/>
            <a:ext cx="1428840" cy="121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://im8-tub.yandex.net/i?id=136158718&amp;tov=8"/>
          <p:cNvPicPr/>
          <p:nvPr/>
        </p:nvPicPr>
        <p:blipFill>
          <a:blip r:embed="rId4"/>
          <a:stretch/>
        </p:blipFill>
        <p:spPr>
          <a:xfrm>
            <a:off x="3581280" y="5029200"/>
            <a:ext cx="1571760" cy="11844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7"/>
          <p:cNvSpPr/>
          <p:nvPr/>
        </p:nvSpPr>
        <p:spPr>
          <a:xfrm>
            <a:off x="428760" y="62866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кварц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2143080" y="62866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слюда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3571920" y="6211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Хлористый кальций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82" name="Picture 14" descr="http://im7-tub.yandex.net/i?id=65265012&amp;tov=7"/>
          <p:cNvPicPr/>
          <p:nvPr/>
        </p:nvPicPr>
        <p:blipFill>
          <a:blip r:embed="rId5"/>
          <a:stretch/>
        </p:blipFill>
        <p:spPr>
          <a:xfrm>
            <a:off x="5214960" y="5000760"/>
            <a:ext cx="1530360" cy="1143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5429160" y="62150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железо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  <p:pic>
        <p:nvPicPr>
          <p:cNvPr id="284" name="Picture 16" descr="http://im5-tub.yandex.net/i?id=30235260&amp;tov=5"/>
          <p:cNvPicPr/>
          <p:nvPr/>
        </p:nvPicPr>
        <p:blipFill>
          <a:blip r:embed="rId6"/>
          <a:srcRect l="0" t="12500" r="0" b="0"/>
          <a:stretch/>
        </p:blipFill>
        <p:spPr>
          <a:xfrm>
            <a:off x="7010280" y="5181480"/>
            <a:ext cx="1884600" cy="857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4"/>
          <p:cNvSpPr/>
          <p:nvPr/>
        </p:nvSpPr>
        <p:spPr>
          <a:xfrm>
            <a:off x="7500960" y="6000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b268"/>
                </a:solidFill>
                <a:latin typeface="Constantia"/>
              </a:rPr>
              <a:t>калий</a:t>
            </a:r>
            <a:endParaRPr b="0" lang="en-US" sz="18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26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214200" y="28584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25d"/>
                </a:solidFill>
                <a:latin typeface="Cambria"/>
              </a:rPr>
              <a:t>Органические и неорганические вещества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ногие называют минералами все, что добывают из земли. Но люди, которые профессионально изучают минералы, - считают, что уголь, нефть и природный газ - органические вещества, так как образовались из остатков живых растений и животных, а потому минералами не являются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У минералов определенный химический состав. Они всегда однородны. Все части минерала одинаковы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Минералы состоят из химических элементов, т. е. веществ, которые уже нельзя разложить на другие вещества химическим путем. 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Некоторые, их называют самородными элементами, находятся в земной коре в чистом или почти чистом виде. Существует 22 самородных элемента, среди них - золото, серебро и алмазы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25d"/>
                </a:solidFill>
                <a:latin typeface="Cambria"/>
              </a:rPr>
              <a:t>Чаще всего минералы являются твёрдыми веществами. Исключение составляет ртуть.</a:t>
            </a: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b268"/>
              </a:solidFill>
              <a:latin typeface="Constantia"/>
            </a:endParaRPr>
          </a:p>
        </p:txBody>
      </p:sp>
    </p:spTree>
  </p:cSld>
  <p:transition spd="med" advTm="33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472600" cy="3882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46Z</dcterms:created>
  <dc:creator>Мама</dc:creator>
  <dc:description/>
  <dc:language>en-US</dc:language>
  <cp:lastModifiedBy>Nik</cp:lastModifiedBy>
  <dcterms:modified xsi:type="dcterms:W3CDTF">2012-10-24T15:10:43Z</dcterms:modified>
  <cp:revision>31</cp:revision>
  <dc:subject/>
  <dc:title>Слайд 1</dc:title>
</cp:coreProperties>
</file>