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32C-1D89-42DE-88B3-E40C96BB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8D59-76D7-41C3-8526-F5CA5737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11E-37FE-43A4-9DDF-308ECEE7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362-9661-4134-9309-1DF8A1A5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EF52-197C-42A4-86DD-A1A97A4D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0596-4C99-4184-80B6-F9B0E58C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132F-97E5-40B9-B6F3-7993918C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32D9-F12B-4FA3-A2DE-C2E98B8B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0DA7-D598-42A7-8835-C82D959D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C1CB-C5A4-4CD0-8E7C-9657E723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613F-6D1A-4915-9DB1-FE92597A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93B-AE36-4737-BD89-63077DB3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7EDC-D18E-4A98-873A-C9091707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46D9-FD09-44CC-8EFF-F70CDBD0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FC33-9B55-4989-8F4E-77A8A59E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94AD-B7C5-4D67-9ECA-D75BA6CE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959F-9329-4B3A-BB04-49B0DBB8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BAA4-3082-43A2-A7BF-137B0B65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7B7-5867-43EA-9A3A-B8BB6DC2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623-B1EF-4419-A194-F0471BB2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DA5-7ED9-4F99-95C4-57D11B66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16A-4604-4A51-BE01-37EA1D04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BA9-7512-46C3-AF7D-E46B7C5B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D4A6-9CD3-4BD0-BD98-6545988D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9600-E7E5-4914-853A-E538DE6DA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958A-EF3E-4318-BB01-941F601B04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traveltipz.ru/gallery/88/35688/320x240/61743.jpg&amp;imgrefurl=http://traveltipz.ru/trips/attractions/id/9603_otzyvy-mednyj-vsadnik-pamjatnik-petru-i-saint-petersburg-russia&amp;usg=__DN1e_nTSKjKBUtRfqcxXEaDZMs4=&amp;h=240&amp;w=320&amp;sz=12&amp;hl=ru&amp;start=19&amp;zoom=1&amp;tbnid=8v2MwfOrjH8A6M:&amp;tbnh=140&amp;tbnw=204&amp;ei=gwC1UJHTM8Sl4gTixIDwBg&amp;prev=/search%3Fq%3D%25D0%25BC%25D0%25B5%25D0%25B4%25D0%25BD%25D1%258B%25D0%25B9%2B%25D0%25B2%25D1%2581%25D0%25B0%25D0%25B4%25D0%25BD%25D0%25B8%25D0%25BA%2B%25D1%2584%25D0%25BE%25D1%2582%25D0%25BE%26tbnh%3D147%26tbnw%3D205%26num%3D10%26hl%3Dru%26newwindow%3D1%26tbo%3Dd%26sig%3D105580082591302204409%26biw%3D1114%26bih%3D603%26tbs%3Dsimg:CAQSEgk7HWhYhDnVnSEzjcHVBe6Zrw%26tbm%3Disch&amp;itbs=1&amp;iact=hc&amp;vpx=636&amp;vpy=280&amp;dur=4444&amp;hovh=192&amp;hovw=256&amp;tx=88&amp;ty=98&amp;sig=105580082591302204409&amp;page=2&amp;ved=1t:429,r:18,s:0,i:11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google.ru/imgres?imgurl=http://teplohodarenda.ru/data/img/arts/zayachiy-ostrov-2.jpg&amp;imgrefurl=http://teplohodarenda.ru/petersburg/zayachiy-ostrov&amp;usg=__HGXXEWwK7YrhX-GqlWQYG2DM6yI=&amp;h=200&amp;w=300&amp;sz=32&amp;hl=ru&amp;start=16&amp;zoom=1&amp;tbnid=cAMFhUy3G9kj6M:&amp;tbnh=140&amp;tbnw=210&amp;ei=KgO1UP3mEYSh4gTl8YHoAQ&amp;prev=/search%3Fq%3D%25D0%25BF%25D0%25B5%25D1%2582%25D1%2580%25D0%25BE%25D0%25BF%25D0%25B0%25D0%25B2%25D0%25BB%25D0%25BE%25D0%25B2%25D1%2581%25D0%25BA%25D0%25B0%25D1%258F%2B%25D0%25BA%25D1%2580%25D0%25B5%25D0%25BF%25D0%25BE%25D1%2581%25D1%2582%25D1%258C%2B%25D1%2584%25D0%25BE%25D1%2582%25D0%25BE%25D0%25B3%25D1%2580%25D0%25B0%25D1%2584%25D0%25B8%25D0%25B8%26hl%3Dru%26newwindow%3D1%26sa%3DX%26tbo%3Dd%26imgrefurl%3Dhttp://www.baltexpress.ru/Museums/ppfortress.htm%26imgurl%3Dhttp://www.baltexpress.ru/musgal/ppf/scheme.jpg%26w%3D599%26h%3D427%26sig%3D105580082591302204409%26ndsp%3D17%26biw%3D1114%26bih%3D603%26tbs%3Dsimg:CAQSEgnvslOn63d2PiE1QvIph4zi0w%26tbm%3Disch&amp;itbs=1&amp;iact=hc&amp;vpx=3&amp;vpy=305&amp;dur=1178&amp;hovh=160&amp;hovw=240&amp;tx=132&amp;ty=111&amp;sig=105580082591302204409&amp;page=2&amp;ved=1t:429,r:15,s:0,i:107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ru/imgres?imgurl=http://4.bp.blogspot.com/-8dRfU7hZIgY/T3qijLunNYI/AAAAAAAAAGg/hjS9clRANeg/s320/image001.jpg&amp;imgrefurl=http://blog.sputnik-centar.hr/2012/04/5.html&amp;usg=__xeSSXunMRXB3x9OlL-rsy3lHWY0=&amp;h=277&amp;w=320&amp;sz=41&amp;hl=ru&amp;start=13&amp;zoom=1&amp;tbnid=ONdnlizAWVsr2M:&amp;tbnh=140&amp;tbnw=161&amp;ei=3v-0UIelNq-L4gSz9IFA&amp;prev=/search%3Fq%3D%25D0%25BC%25D0%25B5%25D0%25B4%25D0%25BD%25D1%258B%25D0%25B9%2B%25D0%25B2%25D1%2581%25D0%25B0%25D0%25B4%25D0%25BD%25D0%25B8%25D0%25BA%2B%25D1%2584%25D0%25BE%25D1%2582%25D0%25BE%25D0%25B3%25D1%2580%25D0%25B0%25D1%2584%25D0%25B8%25D0%25B8%26um%3D1%26hl%3Dru%26newwindow%3D1%26sa%3DX%26tbo%3Dd%26rlz%3D1W1GGLL_ru%26imgrefurl%3Dhttp://www.bibliotekar.ru/kBenua/16.htm%26imgurl%3Dhttp://www.bibliotekar.ru/kBenua/16.files/image001.jpg%26w%3D776%26h%3D672%26sig%3D105580082591302204409%26ndsp%3D18%26biw%3D1114%26bih%3D603%26tbs%3Dsimg:CAQSEgnzZXo9GTk7NiH1UI2SSjOIEQ%26tbm%3Disch&amp;um=1&amp;itbs=1&amp;iact=hc&amp;vpx=2&amp;vpy=256&amp;dur=179&amp;hovh=209&amp;hovw=241&amp;tx=50&amp;ty=211&amp;sig=105580082591302204409&amp;page=1&amp;ved=1t:429,r:12,s:0,i:98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planetaspb.ru/assets/images/Priem/Photo_SPb/&#1084;&#1077;&#1090;&#1088;&#1086;.jpg&amp;imgrefurl=http://www.planetaspb.ru/sxema-metro-spb.html&amp;usg=__abOEYjYkrMb9O0gg9vwRKf2vSgI=&amp;h=1658&amp;w=1200&amp;sz=312&amp;hl=ru&amp;start=1&amp;zoom=1&amp;tbnid=ya2KakB13ePfUM:&amp;tbnh=140&amp;tbnw=102&amp;ei=1Aq1ULLgCsv64QSO4YG4Aw&amp;prev=/search%3Fq%3D%25D1%2581%25D1%2585%25D0%25B5%25D0%25BC%25D0%25B0%2B%25D0%25BC%25D0%25B5%25D1%2582%25D1%2580%25D0%25BE%2B%25D1%2581%25D0%25BF%25D0%25B1%26hl%3Dru%26newwindow%3D1%26sa%3DX%26tbo%3Dd%26sig%3D105580082591302204409%26imgrefurl%3Dhttp://pitergorod.narod.ru/metro-spb/%26imgurl%3Dhttp://pitergorod.narod.ru/metro-spb/metro-spb-new-2009-3.jpg%26w%3D800%26h%3D1103%26ndsp%3D24%26biw%3D1114%26bih%3D603%26tbs%3Dsimg:CAQSEgnSrhTNs-Js_1SEK-YprWTPJPQ%26tbm%3Disch&amp;itbs=1&amp;iact=hc&amp;vpx=2&amp;vpy=114&amp;dur=1547&amp;hovh=264&amp;hovw=191&amp;tx=79&amp;ty=112&amp;sig=105580082591302204409&amp;page=1&amp;ved=1t:429,r:0,s:0,i:62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ru/imgres?q=&#1089;&#1093;&#1077;&#1084;&#1072;+&#1082;&#1080;&#1085;&#1086;&#1079;&#1072;&#1083;&#1072;&amp;hl=ru&amp;newwindow=1&amp;tbo=d&amp;sig=105580082591302204409&amp;biw=1114&amp;bih=603&amp;tbm=isch&amp;tbnid=Q8mtcPuniSOdPM:&amp;imgrefurl=http://www.kino-info.narod.ru/pushkinsky.htm&amp;docid=StNsao7a_SNUQM&amp;imgurl=http://www.kino-info.narod.ru/images/Pushkinskiy/pushkinskiy_hall.jpg&amp;w=352&amp;h=413&amp;ei=fAu1UIi8LM3E4gSP94CQCw&amp;zoom=1&amp;iact=hc&amp;vpx=713&amp;vpy=235&amp;dur=4355&amp;hovh=243&amp;hovw=207&amp;tx=141&amp;ty=146&amp;page=2&amp;tbnh=144&amp;tbnw=123&amp;start=18&amp;ndsp=24&amp;ved=1t:429,r:34,s:0,i:187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google.ru/imgres?q=&#1089;&#1093;&#1077;&#1084;&#1072;+&#1082;&#1086;&#1084;&#1087;&#1100;&#1102;&#1090;&#1077;&#1088;&#1072;&amp;hl=ru&amp;newwindow=1&amp;tbo=d&amp;sig=105580082591302204409&amp;biw=1114&amp;bih=603&amp;tbm=isch&amp;tbnid=lKKufeyaej2teM:&amp;imgrefurl=http://www.klyaksa.net/htm/exam/answers/a05.htm&amp;docid=1SAPr-NKJyUf4M&amp;imgurl=http://www.klyaksa.net/htm/exam/answers/images/a05_1.gif&amp;w=547&amp;h=211&amp;ei=5wu1UIqdGoXy4QSSsoGAAw&amp;zoom=1&amp;iact=hc&amp;vpx=2&amp;vpy=110&amp;dur=1726&amp;hovh=139&amp;hovw=362&amp;tx=132&amp;ty=49&amp;page=2&amp;tbnh=99&amp;tbnw=258&amp;start=16&amp;ndsp=20&amp;ved=1t:429,r:26,s:0,i:177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ru/imgres?q=&#1089;&#1093;&#1077;&#1084;&#1099;+&#1074;+&#1088;&#1091;&#1089;&#1089;&#1082;&#1086;&#1084;+&#1103;&#1079;&#1099;&#1082;&#1077;&amp;hl=ru&amp;newwindow=1&amp;tbo=d&amp;sig=105580082591302204409&amp;biw=1114&amp;bih=603&amp;tbm=isch&amp;tbnid=hlvQ-tsml34b-M:&amp;imgrefurl=http://festival.1september.ru/articles/410497/&amp;docid=uR9Q07xHa4I_CM&amp;imgurl=http://festival.1september.ru/articles/410497/img2.gif&amp;w=504&amp;h=273&amp;ei=pwy1UMPrJqGB4ASgiIHYDA&amp;zoom=1&amp;iact=hc&amp;vpx=272&amp;vpy=307&amp;dur=1285&amp;hovh=165&amp;hovw=305&amp;tx=149&amp;ty=113&amp;page=2&amp;tbnh=147&amp;tbnw=272&amp;start=18&amp;ndsp=26&amp;ved=1t:429,r:34,s:0,i:187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НАГЛЯДНЫЕ ФОРМЫ ПРЕДСТАВЛЕНИЯ ИНФОРМАЦИИ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ФОРМЫ ПРЕДСТАВЛ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3048120"/>
            <a:ext cx="1752840" cy="7617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ТОГРА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3048120"/>
            <a:ext cx="1447920" cy="7617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СЛОВ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НА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3048120"/>
            <a:ext cx="1447920" cy="7617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ХЕМ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048120"/>
            <a:ext cx="1600200" cy="7617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ИАГРАММ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1523880"/>
            <a:ext cx="0" cy="1524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1523880"/>
            <a:ext cx="0" cy="1524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1523880"/>
            <a:ext cx="0" cy="1524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066680" y="1523880"/>
            <a:ext cx="457200" cy="1524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1523880"/>
            <a:ext cx="609480" cy="1524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3048120"/>
            <a:ext cx="1447920" cy="7617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ИСУН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ФОТОГРАФИИ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905120"/>
            <a:ext cx="3733560" cy="2800080"/>
          </a:xfrm>
          <a:prstGeom prst="rect">
            <a:avLst/>
          </a:prstGeom>
          <a:ln w="0">
            <a:noFill/>
          </a:ln>
        </p:spPr>
      </p:pic>
      <p:pic>
        <p:nvPicPr>
          <p:cNvPr id="106" name="spb" descr=""/>
          <p:cNvPicPr/>
          <p:nvPr/>
        </p:nvPicPr>
        <p:blipFill>
          <a:blip r:embed="rId3"/>
          <a:stretch/>
        </p:blipFill>
        <p:spPr>
          <a:xfrm>
            <a:off x="152280" y="1219320"/>
            <a:ext cx="3886200" cy="2730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95280" y="4317840"/>
            <a:ext cx="38102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РИСУНКИ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070b0c9d1e81" descr=""/>
          <p:cNvPicPr/>
          <p:nvPr/>
        </p:nvPicPr>
        <p:blipFill>
          <a:blip r:embed="rId1"/>
          <a:stretch/>
        </p:blipFill>
        <p:spPr>
          <a:xfrm>
            <a:off x="2133720" y="4094280"/>
            <a:ext cx="2819160" cy="2763720"/>
          </a:xfrm>
          <a:prstGeom prst="rect">
            <a:avLst/>
          </a:prstGeom>
          <a:ln w="0">
            <a:noFill/>
          </a:ln>
        </p:spPr>
      </p:pic>
      <p:pic>
        <p:nvPicPr>
          <p:cNvPr id="110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1905120"/>
            <a:ext cx="3733560" cy="3240000"/>
          </a:xfrm>
          <a:prstGeom prst="rect">
            <a:avLst/>
          </a:prstGeom>
          <a:ln w="0">
            <a:noFill/>
          </a:ln>
        </p:spPr>
      </p:pic>
      <p:pic>
        <p:nvPicPr>
          <p:cNvPr id="111" name="b362e3c8d5c9" descr=""/>
          <p:cNvPicPr/>
          <p:nvPr/>
        </p:nvPicPr>
        <p:blipFill>
          <a:blip r:embed="rId4"/>
          <a:stretch/>
        </p:blipFill>
        <p:spPr>
          <a:xfrm>
            <a:off x="152280" y="1219320"/>
            <a:ext cx="34290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УСЛОВНЫЕ ЗНАКИ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znaki" descr=""/>
          <p:cNvPicPr/>
          <p:nvPr/>
        </p:nvPicPr>
        <p:blipFill>
          <a:blip r:embed="rId1"/>
          <a:srcRect l="5386" t="13466" r="4394" b="4826"/>
          <a:stretch/>
        </p:blipFill>
        <p:spPr>
          <a:xfrm>
            <a:off x="685800" y="1752480"/>
            <a:ext cx="3733920" cy="2367000"/>
          </a:xfrm>
          <a:prstGeom prst="rect">
            <a:avLst/>
          </a:prstGeom>
          <a:ln w="0">
            <a:noFill/>
          </a:ln>
        </p:spPr>
      </p:pic>
      <p:pic>
        <p:nvPicPr>
          <p:cNvPr id="114" name="images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3289320" cy="3581280"/>
          </a:xfrm>
          <a:prstGeom prst="rect">
            <a:avLst/>
          </a:prstGeom>
          <a:ln w="0">
            <a:noFill/>
          </a:ln>
        </p:spPr>
      </p:pic>
      <p:pic>
        <p:nvPicPr>
          <p:cNvPr id="115" name="il_fi" descr=""/>
          <p:cNvPicPr/>
          <p:nvPr/>
        </p:nvPicPr>
        <p:blipFill>
          <a:blip r:embed="rId3"/>
          <a:srcRect l="32069" t="8663" r="25808" b="82674"/>
          <a:stretch/>
        </p:blipFill>
        <p:spPr>
          <a:xfrm>
            <a:off x="990720" y="5486400"/>
            <a:ext cx="7238880" cy="1028880"/>
          </a:xfrm>
          <a:prstGeom prst="rect">
            <a:avLst/>
          </a:prstGeom>
          <a:ln w="0">
            <a:noFill/>
          </a:ln>
        </p:spPr>
      </p:pic>
      <p:pic>
        <p:nvPicPr>
          <p:cNvPr id="116" name="40792-17" descr=""/>
          <p:cNvPicPr/>
          <p:nvPr/>
        </p:nvPicPr>
        <p:blipFill>
          <a:blip r:embed="rId4"/>
          <a:stretch/>
        </p:blipFill>
        <p:spPr>
          <a:xfrm>
            <a:off x="228600" y="4495680"/>
            <a:ext cx="48769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СХЕМЫ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371600"/>
            <a:ext cx="3417840" cy="4724280"/>
          </a:xfrm>
          <a:prstGeom prst="rect">
            <a:avLst/>
          </a:prstGeom>
          <a:ln w="0">
            <a:noFill/>
          </a:ln>
        </p:spPr>
      </p:pic>
      <p:pic>
        <p:nvPicPr>
          <p:cNvPr id="119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1066680"/>
            <a:ext cx="2530440" cy="2971800"/>
          </a:xfrm>
          <a:prstGeom prst="rect">
            <a:avLst/>
          </a:prstGeom>
          <a:ln w="0">
            <a:noFill/>
          </a:ln>
        </p:spPr>
      </p:pic>
      <p:pic>
        <p:nvPicPr>
          <p:cNvPr id="120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4343400"/>
            <a:ext cx="54864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СХЕМЫ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523880"/>
            <a:ext cx="4267440" cy="2308320"/>
          </a:xfrm>
          <a:prstGeom prst="rect">
            <a:avLst/>
          </a:prstGeom>
          <a:ln w="0">
            <a:noFill/>
          </a:ln>
        </p:spPr>
      </p:pic>
      <p:pic>
        <p:nvPicPr>
          <p:cNvPr id="123" name="il_fi" descr=""/>
          <p:cNvPicPr/>
          <p:nvPr/>
        </p:nvPicPr>
        <p:blipFill>
          <a:blip r:embed="rId3"/>
          <a:srcRect l="13197" t="9906" r="17437" b="55092"/>
          <a:stretch/>
        </p:blipFill>
        <p:spPr>
          <a:xfrm>
            <a:off x="152280" y="4191120"/>
            <a:ext cx="426744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Image1269" descr=""/>
          <p:cNvPicPr/>
          <p:nvPr/>
        </p:nvPicPr>
        <p:blipFill>
          <a:blip r:embed="rId4"/>
          <a:stretch/>
        </p:blipFill>
        <p:spPr>
          <a:xfrm>
            <a:off x="4648320" y="1523880"/>
            <a:ext cx="4343400" cy="232596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5029200" y="4267080"/>
            <a:ext cx="3833280" cy="457200"/>
            <a:chOff x="5029200" y="4267080"/>
            <a:chExt cx="3833280" cy="457200"/>
          </a:xfrm>
        </p:grpSpPr>
        <p:sp>
          <p:nvSpPr>
            <p:cNvPr id="126" name=""/>
            <p:cNvSpPr/>
            <p:nvPr/>
          </p:nvSpPr>
          <p:spPr>
            <a:xfrm>
              <a:off x="5029200" y="4358880"/>
              <a:ext cx="892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11560" y="4364640"/>
              <a:ext cx="0" cy="163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7232400" y="4267080"/>
              <a:ext cx="387720" cy="293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20120" y="4267080"/>
              <a:ext cx="348840" cy="293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67440" y="4267080"/>
              <a:ext cx="1009800" cy="293760"/>
            </a:xfrm>
            <a:custGeom>
              <a:avLst/>
              <a:gdLst/>
              <a:ahLst/>
              <a:rect l="l" t="t" r="r" b="b"/>
              <a:pathLst>
                <a:path w="1180" h="408">
                  <a:moveTo>
                    <a:pt x="0" y="408"/>
                  </a:moveTo>
                  <a:cubicBezTo>
                    <a:pt x="196" y="204"/>
                    <a:pt x="393" y="0"/>
                    <a:pt x="590" y="0"/>
                  </a:cubicBezTo>
                  <a:cubicBezTo>
                    <a:pt x="787" y="0"/>
                    <a:pt x="1074" y="340"/>
                    <a:pt x="1180" y="40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41480" y="4267080"/>
              <a:ext cx="621000" cy="457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105520" y="5257800"/>
            <a:ext cx="3770280" cy="227160"/>
            <a:chOff x="5105520" y="5257800"/>
            <a:chExt cx="3770280" cy="227160"/>
          </a:xfrm>
        </p:grpSpPr>
        <p:sp>
          <p:nvSpPr>
            <p:cNvPr id="133" name=""/>
            <p:cNvSpPr/>
            <p:nvPr/>
          </p:nvSpPr>
          <p:spPr>
            <a:xfrm>
              <a:off x="5105520" y="5257800"/>
              <a:ext cx="1103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5520" y="5473800"/>
              <a:ext cx="1103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50400" y="5257800"/>
              <a:ext cx="1350720" cy="227160"/>
            </a:xfrm>
            <a:custGeom>
              <a:avLst/>
              <a:gdLst/>
              <a:ahLst/>
              <a:rect l="l" t="t" r="r" b="b"/>
              <a:pathLst>
                <a:path w="1723" h="143">
                  <a:moveTo>
                    <a:pt x="0" y="143"/>
                  </a:moveTo>
                  <a:cubicBezTo>
                    <a:pt x="41" y="75"/>
                    <a:pt x="83" y="7"/>
                    <a:pt x="136" y="7"/>
                  </a:cubicBezTo>
                  <a:cubicBezTo>
                    <a:pt x="189" y="7"/>
                    <a:pt x="257" y="143"/>
                    <a:pt x="317" y="143"/>
                  </a:cubicBezTo>
                  <a:cubicBezTo>
                    <a:pt x="377" y="143"/>
                    <a:pt x="438" y="7"/>
                    <a:pt x="498" y="7"/>
                  </a:cubicBezTo>
                  <a:cubicBezTo>
                    <a:pt x="558" y="7"/>
                    <a:pt x="620" y="143"/>
                    <a:pt x="680" y="143"/>
                  </a:cubicBezTo>
                  <a:cubicBezTo>
                    <a:pt x="740" y="143"/>
                    <a:pt x="808" y="7"/>
                    <a:pt x="861" y="7"/>
                  </a:cubicBezTo>
                  <a:cubicBezTo>
                    <a:pt x="914" y="7"/>
                    <a:pt x="944" y="143"/>
                    <a:pt x="997" y="143"/>
                  </a:cubicBezTo>
                  <a:cubicBezTo>
                    <a:pt x="1050" y="143"/>
                    <a:pt x="1119" y="7"/>
                    <a:pt x="1179" y="7"/>
                  </a:cubicBezTo>
                  <a:cubicBezTo>
                    <a:pt x="1239" y="7"/>
                    <a:pt x="1300" y="143"/>
                    <a:pt x="1360" y="143"/>
                  </a:cubicBezTo>
                  <a:cubicBezTo>
                    <a:pt x="1420" y="143"/>
                    <a:pt x="1481" y="14"/>
                    <a:pt x="1542" y="7"/>
                  </a:cubicBezTo>
                  <a:cubicBezTo>
                    <a:pt x="1603" y="0"/>
                    <a:pt x="1663" y="49"/>
                    <a:pt x="1723" y="9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44040" y="5330880"/>
              <a:ext cx="1031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ДИАГРАММЫ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chart-simple_3d_pie_chart" descr=""/>
          <p:cNvPicPr/>
          <p:nvPr/>
        </p:nvPicPr>
        <p:blipFill>
          <a:blip r:embed="rId1"/>
          <a:srcRect l="6671" t="22222" r="26665" b="15558"/>
          <a:stretch/>
        </p:blipFill>
        <p:spPr>
          <a:xfrm>
            <a:off x="304920" y="1295280"/>
            <a:ext cx="3504960" cy="2454480"/>
          </a:xfrm>
          <a:prstGeom prst="rect">
            <a:avLst/>
          </a:prstGeom>
          <a:ln w="0">
            <a:noFill/>
          </a:ln>
        </p:spPr>
      </p:pic>
      <p:pic>
        <p:nvPicPr>
          <p:cNvPr id="139" name="3" descr=""/>
          <p:cNvPicPr/>
          <p:nvPr/>
        </p:nvPicPr>
        <p:blipFill>
          <a:blip r:embed="rId2"/>
          <a:srcRect l="1867" t="17093" r="22612" b="2101"/>
          <a:stretch/>
        </p:blipFill>
        <p:spPr>
          <a:xfrm>
            <a:off x="2514600" y="4019400"/>
            <a:ext cx="4419720" cy="2838600"/>
          </a:xfrm>
          <a:prstGeom prst="rect">
            <a:avLst/>
          </a:prstGeom>
          <a:ln w="0">
            <a:noFill/>
          </a:ln>
        </p:spPr>
      </p:pic>
      <p:pic>
        <p:nvPicPr>
          <p:cNvPr id="140" name="images" descr=""/>
          <p:cNvPicPr/>
          <p:nvPr/>
        </p:nvPicPr>
        <p:blipFill>
          <a:blip r:embed="rId3"/>
          <a:srcRect l="0" t="11994" r="31341" b="0"/>
          <a:stretch/>
        </p:blipFill>
        <p:spPr>
          <a:xfrm>
            <a:off x="5334120" y="1295280"/>
            <a:ext cx="35049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7:33:40Z</dcterms:created>
  <dc:creator>User</dc:creator>
  <dc:description/>
  <dc:language>en-US</dc:language>
  <cp:lastModifiedBy>User</cp:lastModifiedBy>
  <dcterms:modified xsi:type="dcterms:W3CDTF">2012-12-02T19:58:28Z</dcterms:modified>
  <cp:revision>22</cp:revision>
  <dc:subject/>
  <dc:title>НАГЛЯДНЫЕ ФОРМЫ ПРЕДСТАВЛЕНИЯ ИНФОРМАЦИИ</dc:title>
</cp:coreProperties>
</file>