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172-9C4D-4ADD-A58E-C889C6DC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199-AF50-4112-9EF9-234161B4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B82-A109-4501-8541-3CC690B0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759-79CA-4DAA-8CB9-99E96703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EF04-39CC-482B-8086-608A0C72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1A8-DE2B-4872-81C9-470C915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C72D-0E5B-44DB-A376-957C179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1CFB-569D-4D06-BED8-73F0682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1084-8241-417D-9871-508CD8F8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066-8AB7-4A2D-8413-CC1ACED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E88C-805B-4FD5-B690-B255981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984-C43F-4B57-8E56-74EB6C7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BBB6-BAA8-40E2-A0CF-5DC95A9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147C-C928-40DC-8EC6-F57E156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197-EB80-44FF-9E79-879DF672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1B0-C5F6-4680-BAD2-71CA1A83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826-571A-4909-B884-4C84D0A2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CEE-5277-47BA-8157-74B7FDD0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08A-1137-49E5-825B-4FB9342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395-E853-4126-92A2-F8590E2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AA5-5070-441F-82E9-AF2CDCE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C45-0FFA-42F5-8ECE-A94EC1A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CF2-8206-4F82-A576-054433E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111-535D-443E-810D-D106B3D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703-A1C3-446F-9336-9483BBBB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EFDE-47A5-4A9F-91B5-276E82708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47640" y="90792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й календар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04640" y="3789360"/>
            <a:ext cx="42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ение к минувшему – 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рта, отличающ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ность от дик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зи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арактеристи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Осень торопит, зима не жд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й солнце сквозь слезы улыб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о л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а лето строит. По зиме ложится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зимой сухо и холодно – летом сухо и жар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имою вьюги – летом ненастье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 февраля Сретенье зима с весной встрети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а Сретеньев день тепло льды опятн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я ве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жели на Сретенье установится оттепель – весна ранняя и теплая, коли холода завернут – весна холодная; выпавший в этот день снег – к затяжной и дождлив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ошлое и настояще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ногие древние обычаи уцелели в народе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Еще в начале прошлого века в деревне водили коляду, удало тешились на Масленицу, завивали березку на Семик, и на Купалу – зажигали огни и умывались рос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урочивание праздников и гуляний к началу того или иного времени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има – Святки, Колядки, Рождество, Масленица (проводы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сна – Новогод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то – День Ивана Купалы, Семик (девичий праздник), Спас (медовый, яблочный, хлебн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ень – Покров (свадебник), Дмитриев день (помин усопших), Кузьминки (встреча зим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00040" y="2602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ародный календарь – не расписание погоды, а скорее памятка с примечательными днями и периодами года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льклор – одно их неослабных и немеркнущих звеньев, соединяющих прошлое с настоящ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816360" cy="2760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9" name="Picture 8" descr="0_565b1_d81990be_L"/>
          <p:cNvPicPr/>
          <p:nvPr/>
        </p:nvPicPr>
        <p:blipFill>
          <a:blip r:embed="rId2"/>
          <a:stretch/>
        </p:blipFill>
        <p:spPr>
          <a:xfrm>
            <a:off x="5076720" y="2133720"/>
            <a:ext cx="3117960" cy="3887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 празд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39640" y="1413000"/>
            <a:ext cx="4006800" cy="2288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теперь не забыты обряды встреч и проводов времен года. Новый год с елкой, проводы русской зимы, праздник березки, чествование урож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643280" y="1413000"/>
            <a:ext cx="3889440" cy="1709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ычаи эти переосмысл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 наполнены нов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Содержимое 7" descr="масленница.jpg"/>
          <p:cNvPicPr/>
          <p:nvPr/>
        </p:nvPicPr>
        <p:blipFill>
          <a:blip r:embed="rId1"/>
          <a:stretch/>
        </p:blipFill>
        <p:spPr>
          <a:xfrm>
            <a:off x="1042920" y="4292640"/>
            <a:ext cx="2521080" cy="2066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44" name="Содержимое 8" descr="новый год.jpg"/>
          <p:cNvPicPr/>
          <p:nvPr/>
        </p:nvPicPr>
        <p:blipFill>
          <a:blip r:embed="rId2"/>
          <a:stretch/>
        </p:blipFill>
        <p:spPr>
          <a:xfrm>
            <a:off x="5508720" y="4221000"/>
            <a:ext cx="2733480" cy="2125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арождение народного календа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язь астрономических и климатических явл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енологические изменения в живой приро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промысловых, хозяйственных д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о сельскохозяйственных дел: начало пах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ва, уборки урож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Весна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Рисунок 1" descr="вид весной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410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 приметы весн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вестники хорошей и плохой по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линные сосульки – к долг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Ранний прилет грачей и жаворонков – теплой ве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Гуси высоко летят – будет воды много, низко – ма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шние воды как вестник травост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разольется – сена набер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ода на лугу – сено в стогу</a:t>
            </a:r>
            <a:r>
              <a:rPr b="1" i="1" lang="en-US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лгосрочное предсказ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расцвет рябины – к долгой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Если весной летит много паутины – лето будет жарк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тицы вьют гнезда на солнечной стороне – к холодному л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дсказание о лете. 14 марта «Авдотьин день» слыл летоуказате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акова Евдокея – таково и лето</a:t>
            </a:r>
            <a:r>
              <a:rPr b="1" i="1" lang="en-US" sz="2000" spc="-1" strike="noStrike">
                <a:solidFill>
                  <a:srgbClr val="92d05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Лето в народном кален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1" descr="лето.jpg"/>
          <p:cNvPicPr/>
          <p:nvPr/>
        </p:nvPicPr>
        <p:blipFill>
          <a:blip r:embed="rId1"/>
          <a:stretch/>
        </p:blipFill>
        <p:spPr>
          <a:xfrm>
            <a:off x="1835280" y="1484280"/>
            <a:ext cx="5545080" cy="4159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л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езо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витие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сходы – еще не хл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ей хлеб – не спи: будешь жать – не станешь дре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ка колос в поле – трудись под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июня - астрономический рубеж весны и л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Клади по ягодке, наберешь кузов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 июня –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лнцево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Солнце с Петра – поворота укорачивает 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етр и Павел (12 июля) на час убавил, а Илья- пророк – два ув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До Ильи и поп дождя не намолил, а после Ильи и баба фартуком нагон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Осень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Рисунок 1" descr="кусково осень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4213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Народные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риметы осе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и ос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В лесу много рябины – осень будет дождливая, если ж мало – сух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Летом ведро воды – ложка грязи, осенью ложка воды – ведро гр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меты предстоящей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Поздний листопад – к суровой и продолжительной зи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 сентября – журавлиный отлет. 14 сентября – Семен-летопроводец. Первая встреча ос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 ноября –Кузьминки, встреча з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Закует Кузьма-Демьян, до весны красны не раск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Не заковать реку зиме без Кузьмы-Демья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Зима в народном кален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а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7" descr="SDC10714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4211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55:49Z</dcterms:created>
  <dc:creator>User</dc:creator>
  <dc:description/>
  <dc:language>en-US</dc:language>
  <cp:lastModifiedBy>SEC</cp:lastModifiedBy>
  <dcterms:modified xsi:type="dcterms:W3CDTF">2012-12-10T15:43:53Z</dcterms:modified>
  <cp:revision>38</cp:revision>
  <dc:subject/>
  <dc:title>Народный календарь </dc:title>
</cp:coreProperties>
</file>