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EDE-56D7-43E1-B3F2-DDADD3F8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A99-0CA5-4F69-B353-21FAF2A1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B9D-9F40-4BA1-8E4A-EB1A4A58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893-C80E-4B64-9CBE-068957F8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610B-6075-4DBB-BC36-E3D17803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8AEB-EBCF-43C3-AE57-B405E706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C263-E824-48FB-913D-D4148D03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C498-676B-4188-98F7-E131C545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6E4A-EAC0-4F56-A872-4E648E6F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FF81-9243-4A71-BA00-E09E99CB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9AAF-0AF5-4C90-A075-0D279749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37D-BD45-4F80-8765-7B3CA2E7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16E8-D09E-443F-B984-7A68D5C8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F21A-7801-4899-BD7A-CF25DEBB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B361-698E-427C-A182-36C4AAFC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A987-7143-4B5C-9E69-3FAA6357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BE74-DED6-4066-B6E9-42560517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B86-989C-4AE4-AF31-D2BBD704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ABF-C8BE-4ECF-95F1-D819AB9A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B46-1489-4CC9-91A1-E69AB51A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107-CDFD-40D6-ACB9-AD5762D3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5DB-C2E1-4B48-AC92-53D1CED9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9DC-4F8A-4ECF-886A-D89AD031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43E-D324-4787-B812-24DA5717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4E45-E6F0-4222-9BA2-0E8C83386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0FD8-F525-4900-9CD4-F1F835D3AB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47640" y="907920"/>
            <a:ext cx="60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й календар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04640" y="3789360"/>
            <a:ext cx="429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важение к минувшему – в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ерта, отличающ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разованность от дикост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А.С.Пуш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е приметы зи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Характеристи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и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Осень торопит, зима не жд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Зимой солнце сквозь слезы улыб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дсказания о ле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Зима лето строит. По зиме ложится лет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Если зимой сухо и холодно – летом сухо и жар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Зимою вьюги – летом ненастье</a:t>
            </a:r>
            <a:r>
              <a:rPr b="0" lang="en-US" sz="2400" spc="-1" strike="noStrike">
                <a:solidFill>
                  <a:srgbClr val="92d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 февраля Сретенье зима с весной встретил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На Сретеньев день тепло льды опятн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дсказания вес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Ежели на Сретенье установится оттепель – весна ранняя и теплая, коли холода завернут – весна холодная; выпавший в этот день снег – к затяжной и дождливой вес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Прошлое и настояще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ногие древние обычаи уцелели в народе.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Еще в начале прошлого века в деревне водили коляду, удало тешились на Масленицу, завивали березку на Семик, и на Купалу – зажигали огни и умывались рос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урочивание праздников и гуляний к началу того или иного времени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има – Святки, Колядки, Рождество, Масленица (проводы зим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есна – Новогод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ето – День Ивана Купалы, Семик (девичий праздник), Спас (медовый, яблочный, хлебны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ень – Покров (свадебник), Дмитриев день (помин усопших), Кузьминки (встреча зим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00040" y="26028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Народный календарь – не расписание погоды, а скорее памятка с примечательными днями и периодами года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ольклор – одно их неослабных и немеркнущих звеньев, соединяющих прошлое с настоящи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3816360" cy="2760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39" name="Picture 8" descr="0_565b1_d81990be_L"/>
          <p:cNvPicPr/>
          <p:nvPr/>
        </p:nvPicPr>
        <p:blipFill>
          <a:blip r:embed="rId2"/>
          <a:stretch/>
        </p:blipFill>
        <p:spPr>
          <a:xfrm>
            <a:off x="5076720" y="2133720"/>
            <a:ext cx="3117960" cy="3887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е  празд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539640" y="1413000"/>
            <a:ext cx="4006800" cy="22885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 теперь не забыты обряды встреч и проводов времен года. Новый год с елкой, проводы русской зимы, праздник березки, чествование урож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4643280" y="1413000"/>
            <a:ext cx="3889440" cy="17096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Обычаи эти переосмысле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и наполнены нов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Содержимое 7" descr="масленница.jpg"/>
          <p:cNvPicPr/>
          <p:nvPr/>
        </p:nvPicPr>
        <p:blipFill>
          <a:blip r:embed="rId1"/>
          <a:stretch/>
        </p:blipFill>
        <p:spPr>
          <a:xfrm>
            <a:off x="1042920" y="4292640"/>
            <a:ext cx="2521080" cy="2066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44" name="Содержимое 8" descr="новый год.jpg"/>
          <p:cNvPicPr/>
          <p:nvPr/>
        </p:nvPicPr>
        <p:blipFill>
          <a:blip r:embed="rId2"/>
          <a:stretch/>
        </p:blipFill>
        <p:spPr>
          <a:xfrm>
            <a:off x="5508720" y="4221000"/>
            <a:ext cx="2733480" cy="2125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Зарождение народного календар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вязь астрономических и климатических явл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енологические изменения в живой природ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чало промысловых, хозяйственных де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чало сельскохозяйственных дел: начало пахо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ева, уборки урож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Весна в народном календа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Рисунок 1" descr="вид весной.jpg"/>
          <p:cNvPicPr/>
          <p:nvPr/>
        </p:nvPicPr>
        <p:blipFill>
          <a:blip r:embed="rId1"/>
          <a:stretch/>
        </p:blipFill>
        <p:spPr>
          <a:xfrm>
            <a:off x="1835280" y="1413000"/>
            <a:ext cx="5473440" cy="410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е приметы весны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двестники хорошей и плохой по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Длинные сосульки – к долгой вес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Ранний прилет грачей и жаворонков – теплой вес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Гуси высоко летят – будет воды много, низко – ма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ешние воды как вестник травосто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Вода разольется – сена набер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Вода на лугу – сено в стогу</a:t>
            </a:r>
            <a:r>
              <a:rPr b="1" i="1" lang="en-US" sz="24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лгосрочное предсказ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Поздний расцвет рябины – к долгой ос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Если весной летит много паутины – лето будет жарк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Птицы вьют гнезда на солнечной стороне – к холодному ле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дсказание о лете. 14 марта «Авдотьин день» слыл летоуказате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Какова Евдокея – таково и лето</a:t>
            </a:r>
            <a:r>
              <a:rPr b="1" i="1" lang="en-US" sz="2000" spc="-1" strike="noStrike">
                <a:solidFill>
                  <a:srgbClr val="92d05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Лето в народном календа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Рисунок 1" descr="лето.jpg"/>
          <p:cNvPicPr/>
          <p:nvPr/>
        </p:nvPicPr>
        <p:blipFill>
          <a:blip r:embed="rId1"/>
          <a:stretch/>
        </p:blipFill>
        <p:spPr>
          <a:xfrm>
            <a:off x="1835280" y="1484280"/>
            <a:ext cx="5545080" cy="4159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е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приметы ле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езон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витие при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Всходы – еще не хле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Сей хлеб – не спи: будешь жать – не станешь дрем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Пока колос в поле – трудись под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июня - астрономический рубеж весны и л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Клади по ягодке, наберешь кузов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 июня –д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лнцевор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Солнце с Петра – поворота укорачивает х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зменения в при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Петр и Павел (12 июля) на час убавил, а Илья- пророк – два увол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До Ильи и поп дождя не намолил, а после Ильи и баба фартуком нагон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Осень в народном кален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да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Рисунок 1" descr="кусково осень.jpg"/>
          <p:cNvPicPr/>
          <p:nvPr/>
        </p:nvPicPr>
        <p:blipFill>
          <a:blip r:embed="rId1"/>
          <a:stretch/>
        </p:blipFill>
        <p:spPr>
          <a:xfrm>
            <a:off x="1763640" y="1484280"/>
            <a:ext cx="5616720" cy="4213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е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приметы осе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знаки ос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В лесу много рябины – осень будет дождливая, если ж мало – сух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Летом ведро воды – ложка грязи, осенью ложка воды – ведро гр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меты предстоящей зи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Поздний листопад – к суровой и продолжительной зи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3 сентября – журавлиный отлет. 14 сентября – Семен-летопроводец. Первая встреча ос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4 ноября –Кузьминки, встреча зи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Закует Кузьма-Демьян, до весны красны не раско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Не заковать реку зиме без Кузьмы-Демья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Зима в народном кален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да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Picture 7" descr="SDC10714"/>
          <p:cNvPicPr/>
          <p:nvPr/>
        </p:nvPicPr>
        <p:blipFill>
          <a:blip r:embed="rId1"/>
          <a:stretch/>
        </p:blipFill>
        <p:spPr>
          <a:xfrm>
            <a:off x="1763640" y="1413000"/>
            <a:ext cx="5616720" cy="4211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9:55:49Z</dcterms:created>
  <dc:creator>User</dc:creator>
  <dc:description/>
  <dc:language>en-US</dc:language>
  <cp:lastModifiedBy>SEC</cp:lastModifiedBy>
  <dcterms:modified xsi:type="dcterms:W3CDTF">2012-12-10T15:43:53Z</dcterms:modified>
  <cp:revision>38</cp:revision>
  <dc:subject/>
  <dc:title>Народный календарь </dc:title>
</cp:coreProperties>
</file>